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1205-1318-4104-9278-66A8E3E7125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020E-CB55-4798-87F5-BC493124C2F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3FB-7F07-44D3-8C47-A19301F6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1695-ED8B-4669-8A85-42F79DCA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E9FFC-FD31-4A04-9D56-8E20EB84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B03BD-BF81-45E2-B500-D2BA8FC1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F1AFE-3907-4FD1-BDE9-9CF1E933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BA5B9-62A3-41E9-BD51-EB9E33A5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2D8C8-70D9-4AA4-B926-3BD7A52D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B3EF5-9601-4D01-AF00-403C6C72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BCDA5-6574-460E-ACBB-6C84C0A7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DE794-F7AE-432C-B8B8-C34DEAC7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E8714-5C18-4CBD-80F2-967FF383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80117-657C-48EA-932A-FDF27D31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AC7-15B5-46B6-BF71-F85E16F0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8D656-6087-4BB4-8010-7737A78D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171FC-D7FD-4302-BD29-D5A03376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1163B-EB2D-4E07-90BC-10AFEC94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F811D-954A-4023-8130-7A8EE514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B414E-F0EB-4117-A185-60F5CE28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63EB1-1435-4A1A-AF25-B6E88129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90AF6-8763-4E25-9820-EAE719E3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50963-6778-4D6F-87C9-CE928E11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98D86-E95E-43D4-905C-FABE4149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BD34B-74CB-4DC0-B073-7E67474E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B4C5-2611-4C9F-8A76-BDC9723C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B4250-3C42-4F93-B803-4EAE3DF8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AA251-2B76-4F47-B085-5457CF38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D3576-44AF-48FB-8829-5BD8B614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1154D-DBC2-4DDB-B96D-CF902244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C7C6D-5DD1-408D-BAC0-625A7235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2B44C-347F-4554-B325-150954E3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DC168-D8DC-46A6-BE1A-E63BA904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11D74-DCE1-466E-80E3-3D2BA758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45D40-DBA6-4149-9FCD-7099A078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2CE7E-D185-44C6-A827-1C5969F7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DF07-82A0-45C2-94D6-6F207B76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A65EB-EF18-461F-B248-F85233EE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EC633-2BC7-4A98-B286-7F8A5412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1A571-9799-4FC1-87B2-85D44F0E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81073-5C9B-4B75-BED8-5FE18161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82A1C-EDA6-4765-9F6B-B6BAF390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D3A5A-C08F-47E8-A0B2-8135F9BD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C6CD0-4208-493E-BE5F-0D4E7855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8A351-A45E-496A-A9B1-209F5097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C6272-4B98-4067-80B1-193E9F87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CBE21-C292-4F72-86BA-7A405AE5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6C67-DA62-4697-867C-E5642AD5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924FA-4000-49E1-8380-1FE2B139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77CBC-4836-4142-9D19-765F5E8E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D47F6-619C-4E7D-9065-592BA4C8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141D1-F837-497C-85DF-4103C2A2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B66BD-1E3E-4C9C-B02C-CF32C326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C08E-9574-40F0-8D40-1718616C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C4CC-C287-4B2B-BBE3-1E8051E9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449A-18B3-4517-98FE-5C5CDB8F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C659-585A-48A3-9E26-C8C2B21C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790F-3A49-41ED-B7A2-6CD57C69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82FC-B24E-41A2-9580-4E9AD7A8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E5F1-C20F-4F87-83F8-732F2149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F004-EC99-451B-8BDE-3B59B2E0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2F31-6A44-4BD6-8796-2471AE83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7934-EABF-4FC2-B08E-60E9FBFF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E784-BD54-437B-AC58-3EB19DE1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E119B-C90C-4044-A092-6EF30C22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1C492-FE67-4D33-A7E6-9E982EBF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49717-CFD0-4304-AA04-FA753690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74AA9-7FDF-49C5-8C09-C80F7C23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D7027-74AE-46A1-A132-FA934899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60F-DF45-43A5-986D-631185AC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FAF8E-5C0D-4E98-B36D-52501DC3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6CFA4-BB2A-4E79-B589-252D7892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B7F31-1508-4D2E-BBEA-93D95A61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A2306-E433-4BA6-A248-AC4D6A88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61820-FC31-4853-87E5-562423EF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0D832-8367-47FE-9658-4894DD78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5BE4D-FA84-465B-B357-DCD313F4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F5CCF-8A33-42B8-89B5-E67A0FF0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35A9E-A094-4B88-878A-C3E8E8F2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B17D2-D465-4C72-BEBA-71760D91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F02-9928-412D-845F-11EF2043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29A54-B72E-4788-B859-47F761B5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344B5-C76C-4EFF-A4EB-8E7D093C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2E4CD-DF41-48FB-B7A5-6E4FCAC5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EBA30-BE5E-4A42-B16F-74C9D792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ADF57-B5A5-471D-AC76-002FADBD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73F7F-C760-43AC-A20F-B58A2BE3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23F6A-EE14-41B6-B535-21CD1A8C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9553F-FC53-4079-9638-B821C578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CDACE-A42D-47AC-8C53-B74DFE58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976CB-861B-4E99-AF73-7045F12F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444-0D10-4029-BF79-4C56EC25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C045B-35C6-47C2-ABBC-D751EFF3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44539-B5A7-4F4C-AA6B-C95CCB88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E1342-02D4-4616-81C7-511A4587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333AA-CE10-45D9-88AB-34B67C9B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751AE-9684-4F94-9AB5-9154F014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9F493-2191-48B0-A167-E47BEC53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C3F34-3A8E-41A4-92C6-04C78751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AAC5A-D40F-4B6F-8140-94A51387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2CDDA-EE49-4D83-B005-38A9690D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04A9A-40E7-4D70-A82B-CBDD1041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D37-0709-499C-A01C-E60EA1A5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4D230-FCB9-4262-8612-4367A6E6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9086B-308D-45F3-98E9-D0D41215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ED5E6-CFD4-464E-A6EE-A1DC265E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FB184-B0CE-4BA4-A89E-F84F13D0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91A54-E4F5-4D7E-B4BA-C3C213F4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E4125-DDAE-45A3-B672-24FDAA44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F27B1-085F-4B85-8776-7752D381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08E08-F2EE-44C4-A131-705B81EE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2B6F2-5411-46BB-BBD0-DF8A3EFF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01835-DAFF-4B4F-AA83-BD65973B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AAD4-1782-4695-A859-B14040C0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378D9-F3ED-4881-BE6F-51521CE6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895C3-2BB8-44B3-91EB-D341703A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F4B4D-94C9-48B8-817C-E6E5660A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B1BAC-A820-428B-BB18-E9DFD4D7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553F4-9794-475F-BD0D-FFB8F1F2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076F9-38B0-48E4-93CF-3FE33D87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6D94E-4628-4479-BCA0-000CD4E5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C294A-C554-4E36-A80C-97EB34CF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FD1F2-C9C1-47B0-ACBA-7D274817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10E90-2809-4221-8188-6E34C94C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CB7-90B9-4E17-A7C9-2561652C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2285E-FFFC-40FD-9C2F-AD9542F8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9A928-AC1A-463E-8221-4395C3F8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AEA7D-E7EA-49BD-807A-E205B920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A57D8-F8E7-4C2E-BF83-8ED48738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D078A-C00C-41F2-A02C-9CB77499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D2485-4E3A-4A9E-824B-61819D39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F9124-605F-492A-BE9D-685791C0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F0622-A133-4A15-91E8-0CAF6B00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A802B-49B4-414C-900D-FE6A9AEE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701DC-C241-432D-895D-27CB3EED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ECCA-3B01-491E-B25E-4C86E0D3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B9CB8-65F3-4043-A34E-751FA11F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3F068-C1DB-4CDF-BECC-A2B20E3E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1C9E3-019B-4A3E-AEE0-AA2B5362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628BD-E89D-4429-B554-0D9B7B9D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64499-C288-41E1-BDE9-5B6C70A9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E99D7-B827-490D-91E4-17430884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74435-7835-43A4-87B2-E3E0E2F4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F95DB-460E-453E-84BD-8BF89BE1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AC55C-F1F4-4758-8481-A0D4A68A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6683C-FE54-4F07-811D-5FA71294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0364-D4C7-4933-B20F-3FD537D3D10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46F0-63FD-4285-A21A-979BFE9A766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0E8B-8B80-4EC3-90F9-3E848AD0E9C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9DFD-8106-461C-8B81-0968D9AE9A9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F231-ECA6-4EF6-9A20-6657F2B4238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2B17-A3E9-4A75-9B16-143E0B685A3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FC35-6C1B-4969-988D-E4B7B7B7D30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1821-3299-4CE2-9AB2-2277731ADFB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99CC-0D15-4B3E-A544-A003AE23B6C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C06A-E9C3-41CF-8C4E-0A23219E895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C7F2-D8E2-4906-9FC7-F9C0076015F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1F61-7B82-4793-B9D9-ADFA30B89BB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B5C0-CB63-4450-8E1A-CC74262C6C3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EA38-1E1C-4E6D-BFCB-822295A4F5E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9358-9C23-4942-9FBF-0C072CE6FE0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DE51-FD60-4047-BDB3-70E7ABCB1B7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D1C4-B138-4157-80C2-AC00698D864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1E7A-94DB-4583-BED8-1C7DE780614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B63D-4E01-4517-993C-99FF290B40A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08A1-1E4D-49AA-B6D3-40A7F474C66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B49D-8114-4B3F-BAB6-FDF285106BC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85BB-7318-45B5-9DAB-1FADA30B240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340F-EBD2-4113-AC65-E375C45CDDF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FF9C-F41C-491C-BFAF-D1B85FA02D8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0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7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3C77-8391-486B-ACAD-ACDE4689571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Objetivos del Curs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istema de Evalu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5868-649A-430E-896D-622F060B5AF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5071680"/>
            <a:ext cx="74995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rogramación: habilidad para resolver problemas en forma algorítmica/lógic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mputación: herramienta que utiliza el programador para automatizar la resolución modelad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6" name="Picture 2" descr="http://www.ust.cl/medios/Carreras/IP-Img-Programador-Analista.jpg"/>
          <p:cNvPicPr/>
          <p:nvPr/>
        </p:nvPicPr>
        <p:blipFill>
          <a:blip r:embed="rId2"/>
          <a:stretch/>
        </p:blipFill>
        <p:spPr>
          <a:xfrm>
            <a:off x="4006800" y="3130560"/>
            <a:ext cx="2000160" cy="1657440"/>
          </a:xfrm>
          <a:prstGeom prst="rect">
            <a:avLst/>
          </a:prstGeom>
          <a:ln w="0">
            <a:noFill/>
          </a:ln>
        </p:spPr>
      </p:pic>
      <p:sp>
        <p:nvSpPr>
          <p:cNvPr id="577" name="5 CuadroTexto"/>
          <p:cNvSpPr/>
          <p:nvPr/>
        </p:nvSpPr>
        <p:spPr>
          <a:xfrm>
            <a:off x="3720960" y="477360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ogram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3"/>
          <a:stretch/>
        </p:blipFill>
        <p:spPr>
          <a:xfrm>
            <a:off x="1863720" y="3487680"/>
            <a:ext cx="682560" cy="819360"/>
          </a:xfrm>
          <a:prstGeom prst="rect">
            <a:avLst/>
          </a:prstGeom>
          <a:ln w="0">
            <a:noFill/>
          </a:ln>
        </p:spPr>
      </p:pic>
      <p:sp>
        <p:nvSpPr>
          <p:cNvPr id="579" name="7 CuadroTexto"/>
          <p:cNvSpPr/>
          <p:nvPr/>
        </p:nvSpPr>
        <p:spPr>
          <a:xfrm>
            <a:off x="1292400" y="427356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obl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4"/>
          <a:stretch/>
        </p:blipFill>
        <p:spPr>
          <a:xfrm>
            <a:off x="7435800" y="3406680"/>
            <a:ext cx="708120" cy="919080"/>
          </a:xfrm>
          <a:prstGeom prst="rect">
            <a:avLst/>
          </a:prstGeom>
          <a:ln w="0">
            <a:noFill/>
          </a:ln>
        </p:spPr>
      </p:pic>
      <p:sp>
        <p:nvSpPr>
          <p:cNvPr id="581" name="9 CuadroTexto"/>
          <p:cNvSpPr/>
          <p:nvPr/>
        </p:nvSpPr>
        <p:spPr>
          <a:xfrm>
            <a:off x="6858000" y="426420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Sol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11 Llamada de nube"/>
          <p:cNvSpPr/>
          <p:nvPr/>
        </p:nvSpPr>
        <p:spPr>
          <a:xfrm>
            <a:off x="1214280" y="1500120"/>
            <a:ext cx="4286520" cy="1428840"/>
          </a:xfrm>
          <a:prstGeom prst="cloudCallout">
            <a:avLst>
              <a:gd name="adj1" fmla="val 21407"/>
              <a:gd name="adj2" fmla="val 9554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Razonamiento Algorítmico</a:t>
            </a:r>
            <a:r>
              <a:rPr b="0" lang="es-CL" sz="1400" spc="-1" strike="noStrike">
                <a:solidFill>
                  <a:srgbClr val="ffffff"/>
                </a:solidFill>
                <a:latin typeface="Gill Sans MT"/>
              </a:rPr>
              <a:t>/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Modelamiento/Abstr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Habilidad para resolver probl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12 Llamada con línea 1"/>
          <p:cNvSpPr/>
          <p:nvPr/>
        </p:nvSpPr>
        <p:spPr>
          <a:xfrm>
            <a:off x="6286680" y="1571760"/>
            <a:ext cx="2000160" cy="1285920"/>
          </a:xfrm>
          <a:prstGeom prst="borderCallout1">
            <a:avLst>
              <a:gd name="adj1" fmla="val 18750"/>
              <a:gd name="adj2" fmla="val -8333"/>
              <a:gd name="adj3" fmla="val 152500"/>
              <a:gd name="adj4" fmla="val -4904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Compu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13 Flecha derecha"/>
          <p:cNvSpPr/>
          <p:nvPr/>
        </p:nvSpPr>
        <p:spPr>
          <a:xfrm>
            <a:off x="2714760" y="3714840"/>
            <a:ext cx="1143000" cy="500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14 Flecha derecha"/>
          <p:cNvSpPr/>
          <p:nvPr/>
        </p:nvSpPr>
        <p:spPr>
          <a:xfrm>
            <a:off x="6143760" y="3643200"/>
            <a:ext cx="1143000" cy="500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1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DE48-C788-4FDE-AF0C-1A7E91CCFE5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Objetivos del Curs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Gene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Resolver Problem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pecífic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scribir Programas que Resuelvan Problem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ropósit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Razonamientos Algorítmico y Lógic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pacidades de Abstracción y Modelamiento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Habilidad General para Resolver Problem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A017-990E-4F1B-B3D9-EE8746788CB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ntenid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Fundamentos de Programa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rogramación Orientada a Objet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terfaces de Usuari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istas y Tablas de Valo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mputación Numéric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Búsqueda y Ordenamiento de Informa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BD07-9EA6-4719-BB82-7336B655035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etodologí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Pedagogí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Orientación al Aprendiza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lases Teóricas (Cátedra) con profesor orientadas a contenidos con ejempl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lases Prácticas (Auxiliares) con profesor auxiliar centradas en problemas y alumn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Tecnologí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Lenguajes Java y Matla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Ambiente Internet/we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0CF7-F6CE-4F5D-91FF-8F4896A349A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istema de Evalu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Tipos de Evalua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troles: 3 evaluaciones escri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xámen: 1 evaluación a final de semest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areas: 4 trabajos práctic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ondera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ta de Tareas (NT) = Promedio de Tare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ta de Control (NC) = Ponderado de Controles y Exam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ta Final (NF) = 70% NC + 30% 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 el Promedio de Controles ≥ 5.5 el alumno se puede eximir del examen y se mantiene su no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C y NT deben ser ≥ 4.0 para aproba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3E26-DBCF-45D2-A290-E1133F84128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istema de Evalu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onderaciones y Calendariza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4841-062F-4389-B485-627DB86C108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1714680" y="2214720"/>
          <a:ext cx="6984720" cy="2722320"/>
        </p:xfrm>
        <a:graphic>
          <a:graphicData uri="http://schemas.openxmlformats.org/drawingml/2006/table">
            <a:tbl>
              <a:tblPr/>
              <a:tblGrid>
                <a:gridCol w="1523880"/>
                <a:gridCol w="1931760"/>
                <a:gridCol w="1584360"/>
                <a:gridCol w="1944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m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 y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 y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xa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a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 Fij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unicación e Inform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-Curs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http://ucursos.ing.uchile.c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tención del Profes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-Mail: andmunoz@dcc.uchile.c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F9C3-828A-49E7-83DC-26E277D042E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07T11:28:14Z</dcterms:modified>
  <cp:revision>14</cp:revision>
  <dc:subject/>
  <dc:title>CC1001 – Computación I Clase 0</dc:title>
</cp:coreProperties>
</file>