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C375-0C80-4727-830E-2379F1B991B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8E30-B615-4842-B42A-50C7CA70A27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C5E-84F4-4E00-8E47-43E80303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756-AF71-4738-8938-0365F866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F603F-5EA0-4D7B-BB76-8477019B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BF38E-822A-4CA3-9B5A-923A59A8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4813E-2890-4734-93C8-ED9B846A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96052-7CC6-43F0-A105-30519CC6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EADCB-5B5F-452F-8CB2-37D9AA98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A6FD9-F968-4B79-B22D-0926D364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40EF2-00C9-4207-9031-AD34496F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BE295-5D94-4470-9851-67F7E926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CAB83-5C82-491C-8162-EEA6A714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13B4A-717F-4F0E-9A44-451E1438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AC6-6FE1-48D9-8437-3CE7E431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9D338-45AE-4E2A-BA06-9BDFD53F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C6152-0CB8-4704-9C9D-DBB33C05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0CB70-6332-4936-8C45-C8A4CA5C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2ED68-14E1-42C0-B78E-CC7FE0D2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E56AD-2B63-46CA-8F82-908F2830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35B5C-0276-4306-874F-215EFDD3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7DA19-4BC4-4920-9989-067D2C81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2A5FE-DF7D-4CF6-870D-E6A1F7A5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C5153-6C30-4E74-B31A-4485FCAE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00CD1-8A3D-40CF-8193-F4E7785F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C885-6350-48DF-93DD-7AFFDAA2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5D127-3A29-4746-BF7E-EBE49C3B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1339C-854D-4F5A-9F56-AE4405C5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96525-83F9-437F-BDBF-3380C407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AF3B5-426C-4664-BB71-E374690B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1B17B-0CC8-46C7-B6E5-93D2855F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6D9BB-CD3A-4CB7-9C24-D6942664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C1E1B-3FF4-42F4-BEFE-99A0AEC5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BA21A-076A-45EE-BB8F-154E2F21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C16BA-673D-459F-923D-07EB7E2C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29CCA-34FD-43B8-A83E-7FDF1FC9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2FD0-2377-4866-B589-AB3B28EB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0AD40-C7B6-4FC5-97C7-DBEBD328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34B4B-7026-47DE-BB35-05BC383E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8B281-D29D-42B9-9486-B9A582B7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39DFD-5D63-4E53-A2A8-A9416CEF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6BE7A-E21A-4C0E-8690-2C477D08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70431-BDF8-448D-8F21-32B0A11E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4DBD1-C254-4109-BE28-87881F3E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0EE62-8D4A-46FE-9941-D8A84652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E9BD5-BD32-4CD7-BE35-FE034E8A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B888C-3ADE-4327-B98F-4C59399A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730D-8136-4466-9A54-DD7FF7FF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77261-EFA1-461E-987E-4BCBC6EF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1D6BD-A3E8-4613-A12C-59ADBBCD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40FA0-205D-4D95-9261-CF7C03A6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48580-4DAF-4F80-9C4B-D67B2A24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DC578-1F91-43E5-B039-92EDBF00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4B78-777E-444E-9BE5-1AA9A2C7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397F-F55E-47EE-B7FC-6FAE29FA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657B-674A-4C01-AA04-6F3AD2B9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9E20-FF64-46C2-9FEF-3D804652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CF7F-A5BB-415A-BA4F-1BDF403B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64A2-3663-47FE-A561-E3531370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1199-2963-4E79-B186-92B9094B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5EE6-E15E-4726-98DC-EE8DDA92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FB64-86D6-4CD6-BD9B-03297E56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5865-D532-4391-A304-683B11DD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743E-A6CB-4D4A-8936-26A5871B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87502-C65A-49C6-BF7E-1DA19647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28982-0A4F-4395-8271-FF2AD473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73A81-448B-49EA-B09A-908E0CE3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1BB0F-3FFF-4D71-8235-B2BB383F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AD0C7-7D94-458A-8ABC-FEE0439F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A6A2-27A4-4534-A846-CDC90C44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AC993-37B7-437F-811D-BE6D3D05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A48B1-DA54-4705-A487-317F483B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C199B-5BAD-49C3-83BD-9EB219A3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41943-6720-4F63-A01C-E650E781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52A2B-8580-4CC2-9EB7-79081262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DA50A-337E-4C96-B770-33ADDC51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0FC0C-ED41-46F0-9989-A0F00020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65AC6-0054-4B7F-8B64-8D1552A6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F1548-C325-4922-AC3E-DC838A36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2116B-146E-4FB1-B10F-7B89DB2A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3154-38C5-4A1B-A830-B0205CCA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79681-F8B2-44B7-B3A7-7B6DB503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97647-F530-45EE-8F88-E7F37924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D8B22-8733-4F7D-A18A-4241D6DD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95B17-C4BE-44B0-ABBB-50462FA8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1BFAC-6E97-47A1-B811-59915DF1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30FE2-6299-4E42-9E84-7F95D2FA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98732-6F1B-4161-9E7A-0778F3E3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67BFD-1DA4-40B8-9D49-F368EBDC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63B78-17B2-4440-A1D2-004E7313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E1997-C451-4757-9725-2709CDAB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B521-16D7-46A6-A3CD-529283FB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52E76-86DE-42C9-9253-3DCC930D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2D23E-4625-4133-A061-B458C394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DC67D-3C6A-4C01-8B38-73D6B186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45E39-A9BD-45EC-9754-98AEB065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B9355-409A-4621-A58C-70EBD739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5C9B7-BCBA-44A8-8BA9-BF794F5C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03C71-6C1C-4C50-85E2-DAB586DB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185A6-5A5D-4189-8CAE-7E00F2C6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1F3C9-C592-40D5-A82A-085A8F90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8AFE0-AFA5-40A2-8215-E947109A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CE00-C62C-4FFF-A413-ED001E7E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F7EC3-ACC7-4AFE-8A3A-A6EB9F2C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EEC00-DF85-4542-B88E-6173C208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5767B-CF23-4E31-9C89-35DFEE6F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5258B-0788-4715-B46A-191D4E78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CC791-81A8-4DDD-954E-BFED0CEE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C1B6B-91C6-49FC-AD5E-774B3B70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20E11-BD32-4E95-8ADC-C6D3A22C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03A39-1192-44E0-813F-82A1179E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E6B90-2805-496E-A712-B7E71B5A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4C688-34D5-4163-B012-3DD8CBCF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80B-0D0C-4B7A-8999-A34A9883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538B8-B496-4209-9807-173CA0ED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AE5A3-A33D-4DDD-80FB-CEB44E4C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E63D2-95C6-4CD5-A0D2-3EB87604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C96AD-121F-4160-BB38-70C69E3F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76EA6-8E9D-4E80-8037-89E0C60D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2F288-0A4E-44E1-BCF4-77DC1900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0303B-AF96-4B7A-8876-4CA2F941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17E53-7206-45F8-9E4A-FC9C3AB7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476EB-0ABC-4B4A-84D5-8D787DC4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16E21-1B5A-4C7C-9C48-7A2D6B43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8C9-CE6C-4855-A4A8-40F50615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B26E0-5FFA-4365-993D-5C416CF4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5D974-85F3-41CA-A07A-CFC9C688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2FBE9-E892-49D5-9C8C-0C746E15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05BB0-61CE-4C28-B4C7-0F22FFEA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185E7-2021-4E6E-95EE-86FFEB0B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83D52-4BE7-43C7-8028-AC9D0BD8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710E1-5965-4216-BAED-6C776EE7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6C299-1430-4157-B802-55356C23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CE473-C2F2-4CBB-8849-335D4A0C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4FA54-26BA-4643-89D4-F6FA8C7A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41B-CF45-4FD8-8415-78ECF38C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88873-D874-4CF0-AD86-D94FEB17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6FFD8-4BC8-4DA1-A2C1-E52DD543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4805B-8AFE-4D2B-B22D-19F38DED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5C994-50A9-4F48-AB4B-3F5CA10A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0A1E6-4B14-4FBF-932E-CBF7F0C3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6D63C-3614-45C3-B5A4-FE02984A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9AFA3-C0DD-4C32-B9D4-859B1F42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24927-F977-4332-BC61-4E58D658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6572A-B795-43F9-80C5-995589D0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DEFD0-5562-46BB-8AF7-2A6DEE9F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79F3-CFDF-49AB-A106-2DB0963230A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9616-983D-4930-95E6-F5B585B6CFF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DA63-3230-429E-99FC-0AC4C2EE1A1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6579-B71C-4928-9F19-1119799E694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438A-9754-49AA-B373-0BD5FA52030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28BA-0AFA-4F34-A4D6-37898F8DA58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41AD-8625-4032-B51C-A4FBC5AE0DA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3037-110D-4332-B0D0-C1C66C06F28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50B5-6623-40E4-A459-2ED7CA33210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63ED-CCAD-40A6-B306-57E93D163E3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9946-1D4A-4866-96C6-14B05FAFF59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F6D2-5EBD-4F25-AEEF-72EF972888F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AD17-90C9-4AC2-8A25-ABB31BD5D7A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61EE-9152-4592-9D1A-39D50DB7ADF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C6B3-7F48-449E-8960-4A24E0FAB88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41E4-3166-4275-B71A-183CE0742F0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E87E-7A79-4DF6-91D0-E603C025B67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3E47-CA91-46D7-8147-B470B741A7A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628E-3CCD-4BD2-BB4F-4B0C6C7E1D4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CB55-90E7-4C1A-8F90-FBCE958D6F6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74CB-9B7C-440B-B555-B46CD7700C8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D0FB-F440-46DD-BB0E-5B8EB6795EA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B858-817C-4539-AF40-BBFF04B6D39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DC49-A2AC-42F8-8FFE-FE2D7995DDE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0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7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36D0-2488-46BA-B09D-E699EECB09D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Objetivos del Curs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istema de Evalu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534B-EEFE-4AD5-9FE4-74C406881F3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5071680"/>
            <a:ext cx="74995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rogramación: habilidad para resolver problemas en forma algorítmica/lógic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mputación: herramienta que utiliza el programador para automatizar la resolución modelad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6" name="Picture 2" descr="http://www.ust.cl/medios/Carreras/IP-Img-Programador-Analista.jpg"/>
          <p:cNvPicPr/>
          <p:nvPr/>
        </p:nvPicPr>
        <p:blipFill>
          <a:blip r:embed="rId2"/>
          <a:stretch/>
        </p:blipFill>
        <p:spPr>
          <a:xfrm>
            <a:off x="4006800" y="3130560"/>
            <a:ext cx="2000160" cy="1657440"/>
          </a:xfrm>
          <a:prstGeom prst="rect">
            <a:avLst/>
          </a:prstGeom>
          <a:ln w="0">
            <a:noFill/>
          </a:ln>
        </p:spPr>
      </p:pic>
      <p:sp>
        <p:nvSpPr>
          <p:cNvPr id="577" name="5 CuadroTexto"/>
          <p:cNvSpPr/>
          <p:nvPr/>
        </p:nvSpPr>
        <p:spPr>
          <a:xfrm>
            <a:off x="3720960" y="477360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ogram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3"/>
          <a:stretch/>
        </p:blipFill>
        <p:spPr>
          <a:xfrm>
            <a:off x="1863720" y="3487680"/>
            <a:ext cx="682560" cy="819360"/>
          </a:xfrm>
          <a:prstGeom prst="rect">
            <a:avLst/>
          </a:prstGeom>
          <a:ln w="0">
            <a:noFill/>
          </a:ln>
        </p:spPr>
      </p:pic>
      <p:sp>
        <p:nvSpPr>
          <p:cNvPr id="579" name="7 CuadroTexto"/>
          <p:cNvSpPr/>
          <p:nvPr/>
        </p:nvSpPr>
        <p:spPr>
          <a:xfrm>
            <a:off x="1292400" y="427356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obl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4"/>
          <a:stretch/>
        </p:blipFill>
        <p:spPr>
          <a:xfrm>
            <a:off x="7435800" y="3406680"/>
            <a:ext cx="708120" cy="919080"/>
          </a:xfrm>
          <a:prstGeom prst="rect">
            <a:avLst/>
          </a:prstGeom>
          <a:ln w="0">
            <a:noFill/>
          </a:ln>
        </p:spPr>
      </p:pic>
      <p:sp>
        <p:nvSpPr>
          <p:cNvPr id="581" name="9 CuadroTexto"/>
          <p:cNvSpPr/>
          <p:nvPr/>
        </p:nvSpPr>
        <p:spPr>
          <a:xfrm>
            <a:off x="6858000" y="426420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Sol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11 Llamada de nube"/>
          <p:cNvSpPr/>
          <p:nvPr/>
        </p:nvSpPr>
        <p:spPr>
          <a:xfrm>
            <a:off x="1214280" y="1500120"/>
            <a:ext cx="4286520" cy="1428840"/>
          </a:xfrm>
          <a:prstGeom prst="cloudCallout">
            <a:avLst>
              <a:gd name="adj1" fmla="val 21407"/>
              <a:gd name="adj2" fmla="val 9554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Razonamiento Algorítmico</a:t>
            </a:r>
            <a:r>
              <a:rPr b="0" lang="es-CL" sz="1400" spc="-1" strike="noStrike">
                <a:solidFill>
                  <a:srgbClr val="ffffff"/>
                </a:solidFill>
                <a:latin typeface="Gill Sans MT"/>
              </a:rPr>
              <a:t>/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Modelamiento/Abstr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Habilidad para resolver probl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12 Llamada con línea 1"/>
          <p:cNvSpPr/>
          <p:nvPr/>
        </p:nvSpPr>
        <p:spPr>
          <a:xfrm>
            <a:off x="6286680" y="1571760"/>
            <a:ext cx="2000160" cy="1285920"/>
          </a:xfrm>
          <a:prstGeom prst="borderCallout1">
            <a:avLst>
              <a:gd name="adj1" fmla="val 18750"/>
              <a:gd name="adj2" fmla="val -8333"/>
              <a:gd name="adj3" fmla="val 152500"/>
              <a:gd name="adj4" fmla="val -4904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Compu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13 Flecha derecha"/>
          <p:cNvSpPr/>
          <p:nvPr/>
        </p:nvSpPr>
        <p:spPr>
          <a:xfrm>
            <a:off x="2714760" y="3714840"/>
            <a:ext cx="1143000" cy="500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14 Flecha derecha"/>
          <p:cNvSpPr/>
          <p:nvPr/>
        </p:nvSpPr>
        <p:spPr>
          <a:xfrm>
            <a:off x="6143760" y="3643200"/>
            <a:ext cx="1143000" cy="500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1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8DE1-6019-4C80-BFD5-A2151ADBF79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Objetivos del Curs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Gene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Resolver Problem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pecífic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scribir Programas que Resuelvan Problem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ropósit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Razonamientos Algorítmico y Lógic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pacidades de Abstracción y Modelamiento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Habilidad General para Resolver Problem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B75A-6DCA-413C-A346-78DF19DAD7D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ntenid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Fundamentos de Programa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rogramación Orientada a Objet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terfaces de Usuari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istas y Tablas de Valo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mputación Numéric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Búsqueda y Ordenamiento de Informa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6D31-53BD-43FF-90D9-2F2DF565FDB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etodologí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Pedagogí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Orientación al Aprendiza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lases Teóricas (Cátedra) con profesor orientadas a contenidos con ejempl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lases Prácticas (Auxiliares) con profesor auxiliar centradas en problemas y alumn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Tecnologí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Lenguajes Java y Matla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Ambiente Internet/we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3462-61D9-47EB-B90D-0E40891BFCD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istema de Evalu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Tipos de Evalua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troles: 3 evaluaciones escri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xámen: 1 evaluación a final de semest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areas: 4 trabajos práctic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ondera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ta de Tareas (NT) = Promedio de Tare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ta de Control (NC) = Ponderado de Controles y Exam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ta Final (NF) = 70% NC + 30% 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 el Promedio de Controles ≥ 5.5 el alumno se puede eximir del examen y se mantiene su no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C y NT deben ser ≥ 4.0 para aproba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6E36-720F-44F5-BB33-10396496E0F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istema de Evalu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onderaciones y Calendariza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6016-7484-4987-BC0E-B29603ECA01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1714680" y="2214720"/>
          <a:ext cx="6984720" cy="2722320"/>
        </p:xfrm>
        <a:graphic>
          <a:graphicData uri="http://schemas.openxmlformats.org/drawingml/2006/table">
            <a:tbl>
              <a:tblPr/>
              <a:tblGrid>
                <a:gridCol w="1523880"/>
                <a:gridCol w="1931760"/>
                <a:gridCol w="1584360"/>
                <a:gridCol w="1944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m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 y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 y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xa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a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 Fij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unicación e Inform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-Curs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http://ucursos.ing.uchile.c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tención del Profes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-Mail: andmunoz@dcc.uchile.c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C022-85C7-4D24-8ACC-35E465468ED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07T11:28:14Z</dcterms:modified>
  <cp:revision>14</cp:revision>
  <dc:subject/>
  <dc:title>CC1001 – Computación I Clase 0</dc:title>
</cp:coreProperties>
</file>