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F9CE-AD77-4BB9-8043-CE75F2F4741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93AE-4CC8-4459-9036-D8756EE687F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36AB-BC8C-4D1C-B509-21645A83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242-6A3A-47F0-A015-B4B83E6E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852AB-7CED-4C38-882E-A1F53157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92791-D55C-475D-B360-0E632408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4D549-A1CD-4BC0-9E59-AF9F8177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53429-F5E7-4821-A8E9-975B1F8D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74B9B-508B-4414-B1D3-8D2D3105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B494C-4381-4373-8F90-3AD1FF5D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AE48B-4D3E-4EE2-8C1A-3895FA1F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7BC0D-168F-44EE-9CB1-DD3A6F66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55794-155F-436A-ADC1-74C124F9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50D72-7FB2-4A67-91D7-52288F1B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E4EE-B350-4BD6-B851-10042581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C9BCF-B38E-49B5-80E4-1F05B37B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3D409-9C5E-4B85-8776-5FC45ED1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2193B-CB82-4229-A21A-9E6E1946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2DBEF-D317-4440-8099-B7CCC13D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D30BF-B2FE-4B92-AD8D-EAAAC560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283B2-29A0-4253-A6BC-44F577CA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EF36E-0F8A-49D7-ADDA-E257E1D2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7854D-7A6B-4D89-B13E-87E02A84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473DE-27FE-45C6-AF42-F08DA43D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0A740-922E-44F1-A1B1-B025EFF6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545-4E15-4520-86B1-37DCAD70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220A5-8D7D-4FDB-8A23-C81D87D6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1D012-4CAB-4E3E-8AAC-F4E3497B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E17C3-338E-4825-85F6-0550A3AE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BF67A-4792-4427-A930-D558AD30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FE7C0-715A-4DD1-B26D-C97B271A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DF377-CBC3-4AF3-B42B-F0F77C38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3F36E-3748-48EB-B7A0-21056CA6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0B075-DA51-4F67-BA3D-B1F21347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BDE05-5592-4C4A-985D-D81ADC3E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97249-9117-4AEA-BC71-E07CAB1D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D77D-37CF-4EB9-B0FB-02389C66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B6F76-C103-4684-9E83-654F0197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81AF5-7C6B-41F5-9039-FB2982AB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DC75C-9999-4368-8B02-E86BDA9E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62A13-8A2D-492D-AF5A-962B796F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F37E0-308A-4939-A0CB-0E2DBDA6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A80E1-F4DA-4F72-B8CB-004FEBD6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40143-A754-4D4D-8619-87BD5172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398F5-B411-45C2-9BB5-FE64DBF8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5172D-06DF-459C-AC05-08916C0A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69C1B-1FB8-4834-BA4F-4BC89548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83E7-369A-49C8-B648-A801F84E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0B4B5-BCD7-45A0-B3BC-7BE904B6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2F702-1520-4900-9CD6-0102B915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30783-B103-4FDE-BD48-A393CD54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B06DE-2720-428F-9DF0-7A4C7C71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47BC8-ABD4-4F67-95F2-4924A0FB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0A83-EBE3-4BA3-9E95-89201DBA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0D93-99CD-46B4-BC4C-4A36F3BC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128C-3A09-49B8-B3A0-29D2ABA2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C48F-C36A-4563-A121-62C93699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59A1-F8BA-480C-9C39-CA2870C7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A1D-4D74-497E-8F73-ED860259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81E2-8F1B-40E9-887A-377FE874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7F71-9553-4A4B-B693-E285BA0B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80B7-18AF-48DA-B707-094073A5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BBEE-A394-422D-98EA-D3D4FC19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F6A0-97D5-48EA-8107-8AC5418F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92D9C-1E19-4CF9-9B5A-813D3013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F92CE-67EB-4478-AF75-E49473D9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24D3B-040A-4D56-888B-4FC1C0CC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557BF-EB65-4D33-ACA9-1F87FC9B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26A0F-380C-49D7-AA1A-1813035E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433D-0BE0-4300-8F97-1170391C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D7359-B21A-4535-B414-97113ABE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4F605-758E-4819-877C-BA363C95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07DFF-1A01-4CA0-A828-F6BA866B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F937D-554B-4433-AAFA-31B6917B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4EF6A-DFE5-496F-9BEB-AA4FAF31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BC9AF-9D76-4861-9D3B-2D2CADC3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F084A-DED0-4117-8188-9B2C8B40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599FD-F5FD-4C3F-8652-197BB5BB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EE5DA-F7D6-4D9B-B449-E608F8C5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25F17-B8E7-478A-B1F1-AB3D431C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EE1A-5005-499F-B25E-77B25EB2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942D2-1B40-4FBE-BE69-B7566D1E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3996A-44BB-4F69-9703-C7C66D5C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B2FB2-B705-4F56-B1B0-52BBFCB8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53E0E-418F-4CE8-8D5D-A1982992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93961-57E4-4B90-A55E-DA56CA61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2AFA1-DCBD-4223-9611-238C9C8E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CDD53-D633-47B2-9325-B4C16669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9085E-2C4C-4C5A-9216-36A85879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05872-5312-4883-AB19-FD7995DA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3D28B-AB44-462C-9249-3331F7EE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651-3C8E-46B2-901D-2817A646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585F4-A154-4331-82D7-8F383217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55DBD-D38D-4C15-A2F2-A903C3F4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6D262-AA3D-42FE-B642-5021884D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95F4F-CE8F-4E47-88CF-CE548AFC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52483-50E6-40A0-8E6E-2A94F87E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B3581-A96A-4B53-A3B9-C4FB06DA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412A8-0D74-413F-A5C9-F8B20EC3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7D292-4560-4FB7-BF9F-FBEC7DB5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2B4C3-20CF-4E3D-ABB7-2AF66E9E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3CCB1-2397-4286-813E-77769AE7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5511-C248-4B4A-8F21-E652DA52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0274F-BA3F-4355-8E77-BB4F639A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C82C1-CBE3-438B-95AD-D783B08E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5C5DC-B4FF-4254-B777-60C9D388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84CFB-6B42-4377-BDBF-E306CC34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338AB-EEEB-45D4-BAD2-6E94525A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49ED8-DE1B-46BC-9DEA-74FE3AC4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DC6A1-F90F-4A3D-8ADF-39BB19EB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CBC87-6977-4E67-969B-0875387C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46260-1232-4360-BCD6-C4A3C2B4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7755A-9ED5-41D9-BD2E-D95360C4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CD2-8FC0-4DB2-9616-A6D597E4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1AFDD-A126-4525-8D00-79A2FAE3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6CC02-9F27-4760-BE19-A6A31527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C44B4-6C2F-4698-A882-AE68401A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819B9-A1ED-4609-B756-88063185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98A06-DF3D-4A67-8B6F-693910AE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743C8-8E2B-43A2-A584-AC48DD3F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F4387-6D15-4B7C-A732-C51F86C4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C0CC9-AD4C-4F58-BAAB-2E40D857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93A6F-52C9-43B4-9420-2B223ADA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49DDA-BF9B-4E0F-B442-314DA70D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DF9-47EF-4BD9-AC65-786F969B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05AE4-B9E5-4FE0-9F28-2DA0E4CD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E39AE-836A-4FF2-A60B-E50FBBD6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F3E67-937A-426F-8F72-08C45253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03ABB-A824-467E-B46F-A83EAB37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B9D5E-CCFE-497F-B233-1483D6E3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FF35E-3AE5-4D81-90C3-324FA005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EB4FC-0EC0-4388-93A3-2E41E03B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761D4-7C77-49C8-9698-19E1AFE4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6C3FF-DEC5-4A9D-8467-2E569AA6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346E6-2756-4DDC-8BE4-2A804DA0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FD9B-C815-4767-8D56-0F704738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3F44E-34DA-4E30-81FA-705F1136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1C08D-C17D-4D40-AF02-7FB7E955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25461-89EF-48CD-8333-5D8040BC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B5FFF-95CF-411D-8326-5E8547D3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03213-0C28-41C2-A6E6-9C9AE309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31777-150C-4C19-BB40-A31D28B3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3E0A9-3249-4AE2-B35A-A664B745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E6BAB-5174-490C-B3AA-3A0F1D59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561EF-D88A-4FC6-B2AA-40072B23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98E2A-6249-4C2C-94FD-AC2D9E82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E603-6311-4B1E-87EE-F6A38849A7B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450A-676E-4C11-89DA-4E631619C81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9F5F-3098-4A5A-BB76-2A95F85393E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910F-4062-4548-BDF6-10857605AFC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A30D-547B-497B-B256-D5388458114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5A91-67F6-4BB9-9043-D113FAA4901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D12B-68C2-4DC2-97C3-4F1C93FE683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7485-6BD0-4C02-A24D-1CF70FADBA1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0EFC-1762-4A5F-A593-BB7B313441A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EDE6-A6B1-4CA7-AA64-E7FE5C85D43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5221-6069-4B81-B309-335D32CA343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C8E4-91B6-41E8-9A01-8CC624019D4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624C-E64F-4781-954C-27E48061F74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4EF7-C3DA-4C87-8F4E-A047767ACA7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E86B-D690-470A-A323-39D08987760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4278-B701-4369-AC63-8BDE8087D3F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E6C1-C6CC-4747-B7AD-0B09AB4295C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AD4F-8DD3-4E52-B60A-20BD1709367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E353-BDC3-435C-9776-929AE9C62D0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AE59-D757-4D78-84CA-4117F4A50CB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7F43-B28C-4E3C-9336-98AED669F8A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CC77-C96C-47D0-B215-2C37343A268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2489-FE49-4941-9A8C-89D48C05E3E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73E8-F065-4143-B9BD-32E53D66D24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0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7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0EB8-4E13-404A-A5A5-31006C08AA9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Objetivos del Curs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istema de Evalu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592F-9078-4729-9199-99F614F67A8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5071680"/>
            <a:ext cx="74995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rogramación: habilidad para resolver problemas en forma algorítmica/lógic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mputación: herramienta que utiliza el programador para automatizar la resolución modelad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6" name="Picture 2" descr="http://www.ust.cl/medios/Carreras/IP-Img-Programador-Analista.jpg"/>
          <p:cNvPicPr/>
          <p:nvPr/>
        </p:nvPicPr>
        <p:blipFill>
          <a:blip r:embed="rId2"/>
          <a:stretch/>
        </p:blipFill>
        <p:spPr>
          <a:xfrm>
            <a:off x="4006800" y="3130560"/>
            <a:ext cx="2000160" cy="1657440"/>
          </a:xfrm>
          <a:prstGeom prst="rect">
            <a:avLst/>
          </a:prstGeom>
          <a:ln w="0">
            <a:noFill/>
          </a:ln>
        </p:spPr>
      </p:pic>
      <p:sp>
        <p:nvSpPr>
          <p:cNvPr id="577" name="5 CuadroTexto"/>
          <p:cNvSpPr/>
          <p:nvPr/>
        </p:nvSpPr>
        <p:spPr>
          <a:xfrm>
            <a:off x="3720960" y="477360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ogram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3"/>
          <a:stretch/>
        </p:blipFill>
        <p:spPr>
          <a:xfrm>
            <a:off x="1863720" y="3487680"/>
            <a:ext cx="682560" cy="819360"/>
          </a:xfrm>
          <a:prstGeom prst="rect">
            <a:avLst/>
          </a:prstGeom>
          <a:ln w="0">
            <a:noFill/>
          </a:ln>
        </p:spPr>
      </p:pic>
      <p:sp>
        <p:nvSpPr>
          <p:cNvPr id="579" name="7 CuadroTexto"/>
          <p:cNvSpPr/>
          <p:nvPr/>
        </p:nvSpPr>
        <p:spPr>
          <a:xfrm>
            <a:off x="1292400" y="427356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obl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4"/>
          <a:stretch/>
        </p:blipFill>
        <p:spPr>
          <a:xfrm>
            <a:off x="7435800" y="3406680"/>
            <a:ext cx="708120" cy="919080"/>
          </a:xfrm>
          <a:prstGeom prst="rect">
            <a:avLst/>
          </a:prstGeom>
          <a:ln w="0">
            <a:noFill/>
          </a:ln>
        </p:spPr>
      </p:pic>
      <p:sp>
        <p:nvSpPr>
          <p:cNvPr id="581" name="9 CuadroTexto"/>
          <p:cNvSpPr/>
          <p:nvPr/>
        </p:nvSpPr>
        <p:spPr>
          <a:xfrm>
            <a:off x="6858000" y="426420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Sol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11 Llamada de nube"/>
          <p:cNvSpPr/>
          <p:nvPr/>
        </p:nvSpPr>
        <p:spPr>
          <a:xfrm>
            <a:off x="1214280" y="1500120"/>
            <a:ext cx="4286520" cy="1428840"/>
          </a:xfrm>
          <a:prstGeom prst="cloudCallout">
            <a:avLst>
              <a:gd name="adj1" fmla="val 21407"/>
              <a:gd name="adj2" fmla="val 9554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Razonamiento Algorítmico</a:t>
            </a:r>
            <a:r>
              <a:rPr b="0" lang="es-CL" sz="1400" spc="-1" strike="noStrike">
                <a:solidFill>
                  <a:srgbClr val="ffffff"/>
                </a:solidFill>
                <a:latin typeface="Gill Sans MT"/>
              </a:rPr>
              <a:t>/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Modelamiento/Abstr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Habilidad para resolver probl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12 Llamada con línea 1"/>
          <p:cNvSpPr/>
          <p:nvPr/>
        </p:nvSpPr>
        <p:spPr>
          <a:xfrm>
            <a:off x="6286680" y="1571760"/>
            <a:ext cx="2000160" cy="1285920"/>
          </a:xfrm>
          <a:prstGeom prst="borderCallout1">
            <a:avLst>
              <a:gd name="adj1" fmla="val 18750"/>
              <a:gd name="adj2" fmla="val -8333"/>
              <a:gd name="adj3" fmla="val 152500"/>
              <a:gd name="adj4" fmla="val -4904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Compu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13 Flecha derecha"/>
          <p:cNvSpPr/>
          <p:nvPr/>
        </p:nvSpPr>
        <p:spPr>
          <a:xfrm>
            <a:off x="2714760" y="3714840"/>
            <a:ext cx="1143000" cy="500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14 Flecha derecha"/>
          <p:cNvSpPr/>
          <p:nvPr/>
        </p:nvSpPr>
        <p:spPr>
          <a:xfrm>
            <a:off x="6143760" y="3643200"/>
            <a:ext cx="1143000" cy="500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1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E7EE-9E13-4267-9F6C-41D4542BCF1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Objetivos del Curs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Gene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Resolver Problem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pecífic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scribir Programas que Resuelvan Problem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ropósit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Razonamientos Algorítmico y Lógic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pacidades de Abstracción y Modelamiento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Habilidad General para Resolver Problem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12A2-0155-4D30-A2A9-1F6BDED6D8E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ntenid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Fundamentos de Programa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rogramación Orientada a Objet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terfaces de Usuari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istas y Tablas de Valo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mputación Numéric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Búsqueda y Ordenamiento de Informa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09EB-8359-43C2-BC5D-B36C523FD57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etodologí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Pedagogí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Orientación al Aprendiza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lases Teóricas (Cátedra) con profesor orientadas a contenidos con ejempl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lases Prácticas (Auxiliares) con profesor auxiliar centradas en problemas y alumn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Tecnologí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Lenguajes Java y Matla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Ambiente Internet/we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73F9-A402-4471-A752-F7B57A1C979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istema de Evalu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Tipos de Evalua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troles: 3 evaluaciones escri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xámen: 1 evaluación a final de semest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areas: 4 trabajos práctic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ondera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ta de Tareas (NT) = Promedio de Tare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ta de Control (NC) = Ponderado de Controles y Exam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ta Final (NF) = 70% NC + 30% 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 el Promedio de Controles ≥ 5.5 el alumno se puede eximir del examen y se mantiene su no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C y NT deben ser ≥ 4.0 para aproba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648C-311E-4B02-A4F9-73B508CB27E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istema de Evalu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onderaciones y Calendariza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A51B-628B-48C5-ADEA-C80479D0794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1714680" y="2214720"/>
          <a:ext cx="6984720" cy="2722320"/>
        </p:xfrm>
        <a:graphic>
          <a:graphicData uri="http://schemas.openxmlformats.org/drawingml/2006/table">
            <a:tbl>
              <a:tblPr/>
              <a:tblGrid>
                <a:gridCol w="1523880"/>
                <a:gridCol w="1931760"/>
                <a:gridCol w="1584360"/>
                <a:gridCol w="1944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m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 y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 y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xa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a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 Fij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unicación e Inform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-Curs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http://ucursos.ing.uchile.c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tención del Profes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-Mail: andmunoz@dcc.uchile.c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2DEE-5E60-4DD0-A49F-848D19BC9A6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07T11:28:14Z</dcterms:modified>
  <cp:revision>14</cp:revision>
  <dc:subject/>
  <dc:title>CC1001 – Computación I Clase 0</dc:title>
</cp:coreProperties>
</file>