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291-4B62-49E5-A35A-FB0C556AF62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E94-6F54-4D7F-9808-F22FE63CB2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341-B9DD-4108-85FB-334FB0A0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862-D005-485D-8A97-AC58A3CE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833D-A884-4AB5-9D3D-EF45E331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8BE6E-B299-4E15-BCD9-BC11A5E4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6453A-AEED-4678-AE06-021822C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F6085-5496-4BC7-BDD2-BC384BA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3D745-B0ED-4ACC-85D2-CF9705E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F973F-716C-4F51-9399-5D264288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23815-40F9-4D6E-B385-EFC6DDA3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FAA6D-F264-435F-9D73-F3EC3C5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2E982-58E2-4C55-B4EC-5500E166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C4B86-B256-4049-8F07-A98724C0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4BD-1FC4-4866-B189-C8D27287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A8A51-0151-439E-844E-485AC5D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37C54-6A5F-4AEA-A657-EC1D1B22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73836-9FB5-4DA9-8920-A89A1C6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0EFC0-D549-42FE-8432-DBCF770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ED6CC-9DE2-4CCB-852B-187E4F7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C263-8A3F-4974-91C1-54A5CA0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58FC8-95C1-4BAA-BD13-930027D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5259-D49C-4DDD-BEAA-A8F1E24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C98C-7422-417E-A7EB-8725C733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F9F41-D665-431A-912F-D6E77F6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DAA-9F2A-4763-A6A8-DC1947B9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A2F02-3FE3-4754-8951-77D720D7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8A7FC-9703-425D-A941-C44B783B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186D0-4887-463A-AAEE-34B572E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913C9-91B3-405B-8B5C-FE454FBF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8DEFE-A0AF-4104-93C5-5AAE5EB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FBE9A-5878-45E7-BF09-C003CFBA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06C1A-879B-4DF6-A170-0009A1F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E3F0D-4564-45FF-9FBE-6D5DD087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6A571-A397-4748-9074-35652889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D9BA6-1383-4EC0-8EA2-3844130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FE9E-C717-4A79-950F-5D5443BB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1E45-DF48-48AF-9DD4-DAC4695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26E3-5D6B-41B3-AF14-7806152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1B1E-18DE-4292-9900-A5C5E7F4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F6C62-05B2-4F70-A262-CE58E74D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1E552-8D5C-45BA-9E1B-488CB29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9EF21-66A4-4CFB-BA0C-B5825370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C94E-F4A9-4976-800D-B8862CF8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BDA82-272B-45B1-A002-5782875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379CF-4B65-4590-8F1B-AC149DA4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00455-26FA-4BA4-A0FC-F6EECBB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053-7DEB-43A9-975B-8DDF2406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9F2A-C8DB-4871-AB6C-40E9456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72197-BCAF-41FB-B341-00D85AC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3D282-ED81-4E5C-9905-47A366C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09FDD-FBBC-4D2D-92F5-E70186E4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9A2BD-18B2-4083-9602-F3F69C8C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A68-9E92-41B0-9C61-FE8D5F8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B80-45AF-4843-8024-19D1D1D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6CF-0F7B-4F26-B9EE-6E2494B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732F-3B2A-46B9-A0F4-8A038183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D02B-BB39-4039-8525-D9255FA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0C9-5F8F-4C20-B63D-D4E8E1F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D2DC-383F-49A8-880C-5A323E5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6FF-E4CB-4E5C-B8A3-2B39075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9005-9F51-428B-955D-7AC969F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280B-FE0A-45D7-8D07-D116274D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C7B2-0E03-4500-8664-88F49920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55EA-AF41-40B9-99B3-9E06756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A2A3-68D4-4646-8408-2B2AFD5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1660-FE07-41FE-89DA-A1F06D6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91C3-0311-4DBF-99E0-4541658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6924-0584-403F-85BC-C25DEBF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91F-8B20-4213-8273-86767862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E48B-0282-4D79-80F8-68E8ABC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6CF9-CF15-4844-A077-373B81C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4D56-B2FF-469D-B44C-99C7AB1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9778-ACC9-479B-B532-DBC5FD96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762D-CB6B-4B13-98ED-05CD3421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0844-E28B-4E5E-B2B1-3E0AAD7D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FEED-8C73-422D-9AF4-72037984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3EA8-3BB6-4D09-953E-A3D733CF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4BD4-8225-499E-8FB5-CA887DD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9857-EFF3-4CEF-8049-C317747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80A-3216-47C3-82DE-FC2F35B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3925-3A29-4453-9179-796931BA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D66B-95B0-4584-9A9D-DF8D2C57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50F9-4926-4DBD-B028-048F821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B5A0-8BA8-4757-A57C-1295B98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0EDB-C269-4EC4-91A9-A9976AF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8A3B-E27C-41BC-855D-9246224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6EA8-3551-488F-AFB4-FF03A720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B4A6-12FE-4192-9786-41081B4F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83E6-5453-4236-99F4-8F9797C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C424-2F4E-437B-96E8-A389D8A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39A-565C-4E9C-9E04-ADEBD13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EA22-72DB-4698-A316-0E4074FE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6807-4C5E-465E-B3EA-B873690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C44A-EC0C-47F2-874C-8D559998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ACE3-4EB9-45F3-B946-2010148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7A27-9DAD-45E0-BF69-A63A97E7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02FA-383B-4F21-8C5E-1CD962A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B6634-145A-4CFA-B1B4-D45A7F0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D083-CA48-43FD-97E5-2F466B1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915F-6E48-4235-9ED3-7C69E9C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355B-3152-4EF7-8BDF-8D89ABAB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C9-1DBE-4795-ADB2-7D181F6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7A7A1-20F7-4604-A1DA-B5505E03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7C6D-F2C0-44A1-AB27-1D41643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275D-F212-4480-A70A-9E871A5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EFC7-46FD-4E35-96F4-26DC919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E868-67CC-4D68-B629-BBAEEC09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4C34-1217-4F6E-8C71-B11A6A6B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0F9C-CF63-4073-8F09-E44602C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C7D0-9605-4321-8981-B8C44B1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95B4-85F9-45AA-B54B-8ED3E6F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6899-B4DB-45AC-A756-96EACF8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F98-4EEE-4E56-B596-6846283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17F0-C68F-4C37-B8F6-9A42332F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8777-B860-42C2-B2D5-289F20C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201D-5484-4BEB-B6D4-5A6CA937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5587-BD18-4F45-96A8-0D87F83B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B104-98DB-410B-9D48-2C7643D4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2DF3-4F9A-4395-90EC-FED483D2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C359-500C-49F3-9E3C-42FC7E2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4F7B6-8429-4668-A5BF-7BB021FF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1F52-9B43-450C-9147-DB4BF0B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D543-E3C7-4D45-8F87-8FC4A87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363-2AFB-4886-B62D-4C431AE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474E-5612-4013-8D03-5B225E7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6D1C-8833-4C9F-8968-9519F0B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9B236-91E1-4FE2-912D-402FF20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7FC5-778B-4DE0-A8F5-50EC1C9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0526-0B14-437D-BE9D-4630C35C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984B-58F7-485E-96AA-08949C72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AAE80-959A-43B5-B877-0E6E930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5729-998F-41A7-B813-EBD5D71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0D3E-9BF4-48A9-9801-02C3822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7A6D-F7EC-4414-AFF9-6F0492E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E35-9509-41F0-8981-60758B5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2E109-7BF7-4A7D-82D9-08AD0CD5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B9A5E-3A7C-45CF-848D-A9197F2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D04E6-51D3-46E3-BB7C-6FB9662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5278-D80A-4583-A947-DB6B383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8AAF-D662-4D75-858D-2FD59B9E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A94F-486D-4875-BF56-AD135826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ABB8-4107-4A61-9C9B-40DF4BBB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6529C-19A1-4BF4-8D61-4E4EBA57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4515D-AED5-463B-B9F2-F85E589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206A7-7761-4CDA-A984-6605620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7D0-FFCC-4C15-ACF5-CC2FDB5A1F6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CE6-CCEA-409A-B06F-DC8EFC6280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B6B-0F39-4DD7-8CCF-2D3EB5543A3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14F-B315-4889-BB75-E86FDB5544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017-0081-44EE-8E1B-F7D9501FA0C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87F-F05D-4EDC-AD94-7405185A8A8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3CB-AC6A-442E-BF90-F782DAB504E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BBA-2ABB-481D-A37D-58B4FD3C71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90D0-06DF-48F4-90E9-B2BE9E0C386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A75-44F2-4512-835A-BE88E67064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951-A3E1-400B-A233-0EC36353D2D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4C5-C0A8-4767-B11B-97F9B0D62E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2A6-3A7F-4981-80F6-871B806C886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672-79B6-4DFD-B63F-2DA52EC111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2D87-CB82-484D-96D9-5B286BFD9BF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E2CC-9694-4479-86A5-ED71416990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A758-F91F-4768-B591-D70C98C3B09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7EB7-23C9-49F5-A884-7FC571D629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E5E-8260-4BB8-875D-8D09B78F71C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D015-F793-420B-B523-6BC8CEC3D6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BB7-0B68-4182-BC21-19FCCF90DAD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BCD-20C6-44D6-81BA-40B6E545DF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41E-B6E0-45F7-A0A0-0CB1D06F8E0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E1B-4AB4-42C2-A90F-D2FC7B3AC4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7408-0BC7-4C13-BB40-481DBAF0B4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ivos del Curs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istema de Evalu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FDF-89F2-4499-B0EE-0F61CEE9D62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507168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gramación: habilidad para resolver problemas en forma algorítmica/lóg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: herramienta que utiliza el programador para automatizar la resolución modelad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2" descr="http://www.ust.cl/medios/Carreras/IP-Img-Programador-Analista.jpg"/>
          <p:cNvPicPr/>
          <p:nvPr/>
        </p:nvPicPr>
        <p:blipFill>
          <a:blip r:embed="rId2"/>
          <a:stretch/>
        </p:blipFill>
        <p:spPr>
          <a:xfrm>
            <a:off x="4006800" y="3130560"/>
            <a:ext cx="2000160" cy="1657440"/>
          </a:xfrm>
          <a:prstGeom prst="rect">
            <a:avLst/>
          </a:prstGeom>
          <a:ln w="0">
            <a:noFill/>
          </a:ln>
        </p:spPr>
      </p:pic>
      <p:sp>
        <p:nvSpPr>
          <p:cNvPr id="577" name="5 CuadroTexto"/>
          <p:cNvSpPr/>
          <p:nvPr/>
        </p:nvSpPr>
        <p:spPr>
          <a:xfrm>
            <a:off x="3720960" y="47736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gram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3"/>
          <a:stretch/>
        </p:blipFill>
        <p:spPr>
          <a:xfrm>
            <a:off x="1863720" y="3487680"/>
            <a:ext cx="682560" cy="8193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1292400" y="42735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4"/>
          <a:stretch/>
        </p:blipFill>
        <p:spPr>
          <a:xfrm>
            <a:off x="7435800" y="3406680"/>
            <a:ext cx="708120" cy="919080"/>
          </a:xfrm>
          <a:prstGeom prst="rect">
            <a:avLst/>
          </a:prstGeom>
          <a:ln w="0">
            <a:noFill/>
          </a:ln>
        </p:spPr>
      </p:pic>
      <p:sp>
        <p:nvSpPr>
          <p:cNvPr id="581" name="9 CuadroTexto"/>
          <p:cNvSpPr/>
          <p:nvPr/>
        </p:nvSpPr>
        <p:spPr>
          <a:xfrm>
            <a:off x="6858000" y="42642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11 Llamada de nube"/>
          <p:cNvSpPr/>
          <p:nvPr/>
        </p:nvSpPr>
        <p:spPr>
          <a:xfrm>
            <a:off x="1214280" y="1500120"/>
            <a:ext cx="4286520" cy="1428840"/>
          </a:xfrm>
          <a:prstGeom prst="cloudCallout">
            <a:avLst>
              <a:gd name="adj1" fmla="val 21407"/>
              <a:gd name="adj2" fmla="val 9554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Razonamiento Algorítmico</a:t>
            </a:r>
            <a:r>
              <a:rPr b="0" lang="es-CL" sz="1400" spc="-1" strike="noStrike">
                <a:solidFill>
                  <a:srgbClr val="ffffff"/>
                </a:solidFill>
                <a:latin typeface="Gill Sans MT"/>
              </a:rPr>
              <a:t>/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Modelamiento/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Habilidad para resolver probl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12 Llamada con línea 1"/>
          <p:cNvSpPr/>
          <p:nvPr/>
        </p:nvSpPr>
        <p:spPr>
          <a:xfrm>
            <a:off x="6286680" y="1571760"/>
            <a:ext cx="2000160" cy="1285920"/>
          </a:xfrm>
          <a:prstGeom prst="borderCallout1">
            <a:avLst>
              <a:gd name="adj1" fmla="val 18750"/>
              <a:gd name="adj2" fmla="val -8333"/>
              <a:gd name="adj3" fmla="val 152500"/>
              <a:gd name="adj4" fmla="val -4904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13 Flecha derecha"/>
          <p:cNvSpPr/>
          <p:nvPr/>
        </p:nvSpPr>
        <p:spPr>
          <a:xfrm>
            <a:off x="2714760" y="3714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14 Flecha derecha"/>
          <p:cNvSpPr/>
          <p:nvPr/>
        </p:nvSpPr>
        <p:spPr>
          <a:xfrm>
            <a:off x="6143760" y="364320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1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2DC-5DA7-403F-83CB-4BB1AF7C67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del Curs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pós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azonamientos Algorítmico y Lóg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pacidades de Abstracción y Modelamient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968F-CDC6-4AA4-9F69-A738955303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undamentos de Progra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gramación Orientada a Obje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faces de Usuar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istas y Tablas de Val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utación Numér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Búsqueda y Ordenamiento de Inform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765-1A6C-46D3-9ABC-0BB4A25B38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etodolog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edag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Orientación al Aprendiza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Teóricas (Cátedra) con profesor orientadas a contenidos con ejempl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s Prácticas (Auxiliares) con profesor auxiliar centradas en problemas y alum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ecnolog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Lenguajes Java y Matla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Ambiente Internet/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5B8F-F5CD-4C4D-8B94-200829DD60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ipos de Evalu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troles: 3 evaluaciones escri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ámen: 1 evaluación a final de semest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areas: 4 trabajos práctic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Tareas (NT) = Promedio de Ta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de Control (NC) = Ponderado de Controles y Exam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ta Final (NF) = 70% NC + 30% 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el Promedio de Controles ≥ 5.5 el alumno se puede eximir del examen y se mantiene su no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C y NT deben ser ≥ 4.0 para aprob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43A-D28B-4035-9FF9-E39A4BF51C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istema de Evalu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onderaciones y Calendariza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81D-DEA2-47BF-9F06-DF0A5DEF65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714680" y="2214720"/>
          <a:ext cx="6984720" cy="2722320"/>
        </p:xfrm>
        <a:graphic>
          <a:graphicData uri="http://schemas.openxmlformats.org/drawingml/2006/table">
            <a:tbl>
              <a:tblPr/>
              <a:tblGrid>
                <a:gridCol w="152388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 y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 y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a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 Fij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e Inform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-Cur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http://ucursos.ing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tención del Profe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-Mail: andmunoz@dcc.uchile.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F06-393E-42BD-8BA8-2C08443D8A1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1:28:14Z</dcterms:modified>
  <cp:revision>14</cp:revision>
  <dc:subject/>
  <dc:title>CC1001 – Computación I Clase 0</dc:title>
</cp:coreProperties>
</file>