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2FD5-708A-47CA-B20D-AAE20707F9E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745-E193-4EEE-9224-F602337ACD1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1D6-5013-459A-8F23-AB47ABBD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FDB-1DE1-4E85-8B61-F0BB3784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5A2AC-C7CC-4E66-B4A9-3CABEAB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FFB75-B53C-4787-B68D-01DBB7B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9A75C-0AB9-43CC-8579-6BA853B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42B8-70C9-4CBF-A4A8-6E1FC11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CE418-6880-40E3-BE4F-5583F70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21D1-468A-4EEF-BEF9-4D56D28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CE146-DD04-49FD-BBDB-0007DAE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3A6A-F062-4844-B4D7-3909145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1A5A6-6201-415D-BB1D-6312473A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9E0D1-74FD-4E8B-A4FA-10281083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4A6-2A3D-41F5-861A-953D21F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0612B-0275-4C43-8C2D-45B27F3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2A34-DFF3-49E4-8EA3-8B59B09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BC60E-BD05-4B12-A0A8-6F7E5E3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AABD-862A-4515-A059-D96B9AC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27A8-0B30-430B-BCEE-6A3BE7A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0172F-AF1E-4523-9B01-D4C1E18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7958-766D-4AEE-B3B5-9C7AA21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271A3-66A0-4734-9978-1EBAC0B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44E80-0922-4E22-ABF2-FE00185A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B96C9-93E5-4800-BAD4-578DFC3E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430-114F-4446-864E-8F3DCEC3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2D233-D2B5-4074-8753-10AB5D8B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06DB-3D02-4C02-B2E5-22CB5895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CE70D-E67C-4072-8A5A-75DF08F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C9A83-386A-450B-8281-D0D7A1B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1FC3-2368-40D0-9869-A8AFF7A2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1B14-F0D9-4164-BE4D-36B20EC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8766A-02E1-49B4-B70D-CDA7F0A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FA323-2FA7-482F-80B3-A237572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5079-B945-4917-B987-BC910B6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8108-CEE1-48F3-8095-883332A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E44B-B0E7-419E-983A-5BB42118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E666-675B-4427-969E-6D8B081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190C-3F87-41E7-A428-2FD3E094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88DA-B04D-415F-BD7C-E47A8C1E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0A308-419C-409E-9F6A-B3B03FF5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3B81C-5D78-4869-B61F-5572510F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341DB-CC4B-42AA-8F5F-E67621E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661F0-5FD9-4161-9164-0A07919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8FC86-73FC-4C7A-85BE-D0BA756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EE170-FBB7-4AAD-AD07-BDF7088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C7CEB-7C4C-43FA-B975-507901B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1BFA-1AC6-462A-8662-32BD838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941B1-B476-4FA3-8AC3-44E20B3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72ABC-514E-40A7-B0A1-BF2DBAE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9DAB0-3E2A-4FB6-A4AC-6F48D21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FC4B9-C68D-4A31-99C8-2FD14EE0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E2F6A-E92C-4FB4-AA5D-DB1445BB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7D28-3E55-4215-B1F1-92385EA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088-4487-49FD-8CC7-142FAA6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075-D1C6-47A4-906E-4EFB0316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99C2-E80F-4B8E-B575-62007AC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98D6-5D7C-421E-8D6A-0A29906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7FB-3B8B-4CE8-AD9C-A641933A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114-072B-4764-9116-99A08C0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6AC-BC6C-4801-B30E-2ADDDD4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4FB2-5547-476B-9FAC-07604E31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4D9D-E22B-41FD-BE9F-9A061060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3CD-D089-47FC-A025-1E9DABDD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F1F7-A216-4EF1-8D63-13D0AB8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E581-FE68-41DD-BF97-24B6BD8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6DA2-A70A-4BD4-8C1A-DF070BF4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06E6-6D66-4363-BF75-93A0BCB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996A-039A-4328-A32E-60410A86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F7B-C75F-4E7E-BEBE-A17DB36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9522-699B-45A0-BB0E-D240F366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EA25-41B5-43BE-97F9-E35716A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AAED-E8AF-4426-A0D6-CCFE4C4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F902-CF55-47D2-98B0-0D4D5F7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2591-2E75-4351-B126-88FF658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F1BF-044D-4536-988B-1BD27ACB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6C9C-40D3-4E8D-AA6E-A0E34D7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CC56A-8692-4704-8B68-26678794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221B-2FF0-4A2F-B3EF-BA65608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33B8-3ED6-40D2-9DBE-7AA09CC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8AC-1061-479D-BD3D-542312C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5189-0518-4800-B465-4ECF21A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837B-C22C-4D65-96EE-2DBB2EF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6D27-1DF9-4128-BB54-3AB03BE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CAA1-2E16-4D69-955A-BA58B51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C376-38CE-4428-99D0-9C0AB5E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E396-4C82-4470-9BE0-9D81502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3461-627B-4E0C-BB0A-4F68C5E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9AD9-B230-4A50-88C5-958740CC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C7BB-FFE8-49FE-BC3E-4B42A2F2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D2C6-7618-4347-93C7-AE676A3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B26-3246-40B6-8924-63EF34B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320B-B028-49CA-96B3-50E92AF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E670-22AD-42CD-B947-D1641BE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93BD-7718-46FB-BC7E-3C9BFAA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E784-8125-4AB5-8EA8-297B9DF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CB67-6199-474B-B2AD-051690BF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3DC25-7454-4C36-B524-BBC69CA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4A58-3D6C-4DE0-AE15-F2D5621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6509-294D-4CB2-B3CC-D92FF4B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1353-D935-46A6-A925-E822010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D106-1B94-4588-A941-A92A58D2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5E1-2FAE-44AF-AB9F-4CDD3F9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AE36-3C90-4269-BE79-666DB03C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6C45-81C9-4C4B-9D4E-103E084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E4C7-BA82-4279-9888-1907319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5931-B151-4A9B-B429-8B111DC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F636-5DA0-4E52-B177-99A61DE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16DF-85BE-4951-914A-4E4DC42F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6942A-9DB2-457E-89C1-C3A80CD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828B-8466-46BE-A54B-A489876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45BE-92EE-4650-B747-1537096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D998D-3982-45CA-8370-28269FA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7A3-5870-449C-8658-9A7FFD8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4A3B-25F0-435F-90DB-9B0C6FA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0ADD-1B72-42A5-9048-67275CE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088B-0E13-4D8A-80AF-5076D5D8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0226-9951-4352-A966-D45F1D3A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BF40-A064-4D4F-8087-AE381A9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F68A-9B0B-42FE-AA2B-88AFAB8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96160-61DF-445E-AB7D-565D909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54C4-34B1-4E22-95FB-6CC79671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7A8A-ADF0-4E97-BDD7-50FBCFE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00DE-8E4B-47E9-B527-437214E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C0D-08D2-4A07-80C6-2B1177D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C5C8-FC00-4EFD-AF29-5696BD4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066E-FD61-4C78-AA9F-EC0D83B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76E2-4A42-46E5-A2CB-F83B7D0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D7DD-AE10-4875-9543-8148CFF3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D8CE-7F9F-49D7-8C12-0C04A59D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5DCFC-C12E-44B8-A91E-00F01338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002B-C1D1-4005-B714-16EFFEB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6BCD-0DD7-4AB8-9D17-24DC00C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64B2-326C-400D-9499-88D1E60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640D9-320C-4566-AA95-1B7308C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C0B-DB23-4C5E-9DBE-5E36B1D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4D20-5EE0-4BDD-AEB0-D4CDFC4D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02C4-6D55-4D08-A539-37F2B4D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03F8-6C09-4BF5-A0FF-0499BE2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4504-5A29-4CEE-AE31-D3A893B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8180-7266-41AB-8508-55A80514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8FDF-8155-4394-ADD2-098692DC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5372F-34C9-4C96-B868-AADDD64C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F966-C79C-4609-A1BD-DF5E4035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AC3A5-722D-49F4-AF0E-E5A1192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06A9E-F861-4768-B66E-693B78E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93F-F98E-4541-AF35-7E12DDF541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F4B-7A96-48E5-B2A4-5453950877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BEA-A060-4B16-9DFC-92E4912CAA9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963F-A8F0-43B0-8549-FD998818D3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E175-4B8E-4494-B787-35CB857AE7C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67F-AC2D-4BFD-8AF8-F5F154EE7D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EFF6-4E23-44EA-B0D5-18619A64B9C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2DC3-B335-494C-B70C-411483287C3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C779-8C9E-40F2-B652-A4FB0918C46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9113-BB4A-4313-B95F-0F004F28732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CFD-49C7-438B-A639-2B44FCB5D1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7CD9-6AA4-4D2A-B6BA-75C419C450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25BA-0484-4A0D-BB7D-EB3B5E88B6C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AB5-BF92-4011-8471-9B91AA06C43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5FD5-BA0C-446C-B454-CF668251E13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109-FC3A-48F6-92C8-9F2ED63158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E18-1DAF-4833-831D-AD464335C68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B412-AEB7-46EE-91F3-EE948531812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22E-9CDE-4CEC-B2C1-C07E3F398FE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FE02-277C-45DA-BD61-FCA7C8763E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BBEF-CE94-4A0C-AFBB-11787E3542C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3110-F20A-459E-8C18-0FE4BF47E2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1FE-F9F6-432A-A965-93179A9815E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F9E-0CE9-45FF-A537-1F69F49DC1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7A7-41D5-4C5B-AED3-D04A73A6CC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ivos del Cur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istema de Evalu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464-F663-4BE8-8B57-5D46372CED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5071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gramación: habilidad para resolver problemas en forma algorítmica/lóg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: herramienta que utiliza el programador para automatizar la resolución modelad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2" descr="http://www.ust.cl/medios/Carreras/IP-Img-Programador-Analista.jpg"/>
          <p:cNvPicPr/>
          <p:nvPr/>
        </p:nvPicPr>
        <p:blipFill>
          <a:blip r:embed="rId2"/>
          <a:stretch/>
        </p:blipFill>
        <p:spPr>
          <a:xfrm>
            <a:off x="4006800" y="3130560"/>
            <a:ext cx="2000160" cy="1657440"/>
          </a:xfrm>
          <a:prstGeom prst="rect">
            <a:avLst/>
          </a:prstGeom>
          <a:ln w="0">
            <a:noFill/>
          </a:ln>
        </p:spPr>
      </p:pic>
      <p:sp>
        <p:nvSpPr>
          <p:cNvPr id="577" name="5 CuadroTexto"/>
          <p:cNvSpPr/>
          <p:nvPr/>
        </p:nvSpPr>
        <p:spPr>
          <a:xfrm>
            <a:off x="3720960" y="47736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gra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863720" y="3487680"/>
            <a:ext cx="682560" cy="8193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1292400" y="42735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4"/>
          <a:stretch/>
        </p:blipFill>
        <p:spPr>
          <a:xfrm>
            <a:off x="7435800" y="3406680"/>
            <a:ext cx="70812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9 CuadroTexto"/>
          <p:cNvSpPr/>
          <p:nvPr/>
        </p:nvSpPr>
        <p:spPr>
          <a:xfrm>
            <a:off x="6858000" y="42642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11 Llamada de nube"/>
          <p:cNvSpPr/>
          <p:nvPr/>
        </p:nvSpPr>
        <p:spPr>
          <a:xfrm>
            <a:off x="1214280" y="1500120"/>
            <a:ext cx="4286520" cy="1428840"/>
          </a:xfrm>
          <a:prstGeom prst="cloudCallout">
            <a:avLst>
              <a:gd name="adj1" fmla="val 21407"/>
              <a:gd name="adj2" fmla="val 955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Razonamiento Algorítmico</a:t>
            </a:r>
            <a:r>
              <a:rPr b="0" lang="es-CL" sz="1400" spc="-1" strike="noStrike">
                <a:solidFill>
                  <a:srgbClr val="ffffff"/>
                </a:solidFill>
                <a:latin typeface="Gill Sans MT"/>
              </a:rPr>
              <a:t>/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Modelamiento/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Habilidad para resolver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12 Llamada con línea 1"/>
          <p:cNvSpPr/>
          <p:nvPr/>
        </p:nvSpPr>
        <p:spPr>
          <a:xfrm>
            <a:off x="6286680" y="1571760"/>
            <a:ext cx="2000160" cy="1285920"/>
          </a:xfrm>
          <a:prstGeom prst="borderCallout1">
            <a:avLst>
              <a:gd name="adj1" fmla="val 18750"/>
              <a:gd name="adj2" fmla="val -8333"/>
              <a:gd name="adj3" fmla="val 152500"/>
              <a:gd name="adj4" fmla="val -4904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13 Flecha derecha"/>
          <p:cNvSpPr/>
          <p:nvPr/>
        </p:nvSpPr>
        <p:spPr>
          <a:xfrm>
            <a:off x="2714760" y="3714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14 Flecha derecha"/>
          <p:cNvSpPr/>
          <p:nvPr/>
        </p:nvSpPr>
        <p:spPr>
          <a:xfrm>
            <a:off x="6143760" y="364320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1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32AA-EA8B-4CAE-9550-9AE32100B40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del Curs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pós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azonamientos Algorítmico y Lóg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pacidades de Abstracción y Modelamient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D2CC-D096-4FB6-B9B5-0E0E7FB6C4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undamentos de Progra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gramación Orientada a Obje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faces de Usu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istas y Tablas de Val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utación Numér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Búsqueda y Ordenamiento de Infor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B69-FB3C-467F-913E-E025897624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etodolog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edag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Orientación al Aprendiza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Teóricas (Cátedra) con profesor orientadas a contenidos con ejemp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Prácticas (Auxiliares) con profesor auxiliar centradas en problemas y alum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Lenguajes Java y Matla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Ambiente Internet/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C89C-0EF4-4918-A3F7-40ACF915BC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Evalu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troles: 3 evaluaciones escri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ámen: 1 evaluación a final de semest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areas: 4 trabajos práctic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Tareas (NT) = Promedio de Ta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Control (NC) = Ponderado de Controles y Exam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Final (NF) = 70% NC + 30% 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el Promedio de Controles ≥ 5.5 el alumno se puede eximir del examen y se mantiene su no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C y NT deben ser ≥ 4.0 para apro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A3F-2E0C-402E-96F8-5862EB585C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ones y Calendariz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B25F-25C5-4441-84FA-D8C43A9DF4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14680" y="2214720"/>
          <a:ext cx="6984720" cy="2722320"/>
        </p:xfrm>
        <a:graphic>
          <a:graphicData uri="http://schemas.openxmlformats.org/drawingml/2006/table">
            <a:tbl>
              <a:tblPr/>
              <a:tblGrid>
                <a:gridCol w="152388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 y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y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 Fij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e Inform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-Cur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ttp://ucursos.ing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tención del Profe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-Mail: andmunoz@dcc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45F-C5CF-411C-B42A-853EE433C7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1:28:14Z</dcterms:modified>
  <cp:revision>14</cp:revision>
  <dc:subject/>
  <dc:title>CC1001 – Computación I Clase 0</dc:title>
</cp:coreProperties>
</file>