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67E9-057E-4BF9-B512-BEAE9C3FD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0310-F503-47FE-902E-09A7BC11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AB30-594B-4CAB-8A80-6C7EC3242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4B6F-A0DA-4BD0-9BC8-895F5E69D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1081-7103-4E57-8769-6449FDF70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8C40-870C-4602-8C86-94083BCE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C5348-CA64-4681-9E2E-EAA1EB61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6447-0312-4BF6-9FF8-9E35529B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743B6-FCAA-4320-9A1B-0B1676D7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78FEC-F96B-4A67-A118-DB774750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9561-6AB3-4AF2-80A4-A4052728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66AE-C620-4CDE-90FD-8725663D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F50D5-CB7B-4AD9-927F-DDD8EFD6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5549-1B0C-4133-B372-33615CCD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CAD5-95BF-4E52-B41F-6C847BA6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4F179-37DA-41D6-8451-42110BD4B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92D5-86AB-48CD-B5F4-035D5AC64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E1BE-D241-42C7-9BDE-8993B7DF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5FE7-3813-4458-9941-ED98F675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F150-F0DD-4573-BE7C-A3FAD235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CCAD-737B-4178-B0CF-93775D9B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6143-20F4-4420-830F-4B35CD00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70AD-6D14-4166-81F8-F13BF7C7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A57E-2229-4D0A-9555-92EEBA25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A193-96BB-4471-AEA7-91FC7654DE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394C-7F6C-452F-AAAB-83F57E3E8B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br.cs.tu-bs.de/courses/ss98/audii/applets/BST/BST-Example.html" TargetMode="External"/><Relationship Id="rId3" Type="http://schemas.openxmlformats.org/officeDocument/2006/relationships/hyperlink" Target="http://www.cs.umd.edu/~egolub/Java/BinaryTree.html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CC100 04 - Computación I</a:t>
            </a:r>
            <a:br>
              <a:rPr sz="4400"/>
            </a:b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uxiliar Nº 1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Julio Villane 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Estructuras de Dat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Motiv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¿Cuál es el costo de insertar un objeto nuevo en un arregl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Motiv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38880" y="2130480"/>
            <a:ext cx="43164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29080" y="2851200"/>
            <a:ext cx="43200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46880" y="2851200"/>
            <a:ext cx="43164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862160" y="2490840"/>
            <a:ext cx="576360" cy="36036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70520" y="2490840"/>
            <a:ext cx="576360" cy="36036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70520" y="3570120"/>
            <a:ext cx="43200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23240" y="3570120"/>
            <a:ext cx="43164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229440" y="3209760"/>
            <a:ext cx="217440" cy="36216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78520" y="3209760"/>
            <a:ext cx="216000" cy="36216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54520" y="3571920"/>
            <a:ext cx="43164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06880" y="3571920"/>
            <a:ext cx="43200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212720" y="3211560"/>
            <a:ext cx="217800" cy="36180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62520" y="3211560"/>
            <a:ext cx="216000" cy="36180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46520" y="4290840"/>
            <a:ext cx="43200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65800" y="4290840"/>
            <a:ext cx="43164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933440" y="3930480"/>
            <a:ext cx="71640" cy="36036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37080" y="3930480"/>
            <a:ext cx="73080" cy="36036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62880" y="4290840"/>
            <a:ext cx="43164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81800" y="4290840"/>
            <a:ext cx="43200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6950160" y="3930480"/>
            <a:ext cx="71280" cy="36036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3440" y="3930480"/>
            <a:ext cx="72720" cy="36036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81440" y="4219560"/>
            <a:ext cx="64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870520" y="4219560"/>
            <a:ext cx="64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08000" y="2133720"/>
            <a:ext cx="43200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24000" y="2565360"/>
            <a:ext cx="0" cy="35892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8000" y="2925720"/>
            <a:ext cx="43200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24000" y="3357720"/>
            <a:ext cx="0" cy="35856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08000" y="3718080"/>
            <a:ext cx="432000" cy="43308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24000" y="4149720"/>
            <a:ext cx="0" cy="35892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08000" y="4510080"/>
            <a:ext cx="43200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24000" y="4941720"/>
            <a:ext cx="0" cy="35892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63640" y="5373720"/>
            <a:ext cx="72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84720" y="5013360"/>
            <a:ext cx="43164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03640" y="5013360"/>
            <a:ext cx="43200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572000" y="4653000"/>
            <a:ext cx="71280" cy="36036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75280" y="4653000"/>
            <a:ext cx="73080" cy="36036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302520" y="5013360"/>
            <a:ext cx="43164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021440" y="5013360"/>
            <a:ext cx="43200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589800" y="4653000"/>
            <a:ext cx="71280" cy="36036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4653000"/>
            <a:ext cx="72720" cy="36036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5013360"/>
            <a:ext cx="64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581800" y="5013360"/>
            <a:ext cx="64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3440" y="5445000"/>
            <a:ext cx="64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89800" y="5445000"/>
            <a:ext cx="64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26160" y="5013360"/>
            <a:ext cx="64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87280" y="148428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LIS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14920" y="148428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ÁRB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Punteros y Objet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3116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omplejo c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 = new Complejo(1,3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042920" y="4508640"/>
            <a:ext cx="936360" cy="576000"/>
            <a:chOff x="1042920" y="4508640"/>
            <a:chExt cx="936360" cy="576000"/>
          </a:xfrm>
        </p:grpSpPr>
        <p:sp>
          <p:nvSpPr>
            <p:cNvPr id="154" name=""/>
            <p:cNvSpPr/>
            <p:nvPr/>
          </p:nvSpPr>
          <p:spPr>
            <a:xfrm>
              <a:off x="1187280" y="5084640"/>
              <a:ext cx="792000" cy="0"/>
            </a:xfrm>
            <a:prstGeom prst="line">
              <a:avLst/>
            </a:prstGeom>
            <a:ln w="69840">
              <a:solidFill>
                <a:srgbClr val="ffcc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42920" y="4508640"/>
              <a:ext cx="6476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5796000" y="4221000"/>
            <a:ext cx="2160720" cy="1656000"/>
            <a:chOff x="5796000" y="4221000"/>
            <a:chExt cx="2160720" cy="1656000"/>
          </a:xfrm>
        </p:grpSpPr>
        <p:sp>
          <p:nvSpPr>
            <p:cNvPr id="157" name=""/>
            <p:cNvSpPr/>
            <p:nvPr/>
          </p:nvSpPr>
          <p:spPr>
            <a:xfrm>
              <a:off x="5796000" y="4221000"/>
              <a:ext cx="2158920" cy="1656000"/>
            </a:xfrm>
            <a:prstGeom prst="roundRect">
              <a:avLst>
                <a:gd name="adj" fmla="val 16667"/>
              </a:avLst>
            </a:prstGeom>
            <a:solidFill>
              <a:srgbClr val="0063a7"/>
            </a:solidFill>
            <a:ln w="698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Complej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real = 1.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imag = 3.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96000" y="4797360"/>
              <a:ext cx="2160720" cy="0"/>
            </a:xfrm>
            <a:prstGeom prst="line">
              <a:avLst/>
            </a:prstGeom>
            <a:ln w="698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2.89017E-006 L 0.40555 0.00023 E">
                                      <p:cBhvr>
                                        <p:cTn id="20" dur="1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Punteros y Objet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Complejo a = new Complejo(2,4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Complejo b = a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b.amplificar(3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System.out.println(a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Punteros y Objet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String s1 = "P: Hola ¿cómo estas?"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String s2 = s1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s2 = s2.concat("\nR: Muy bien gracias"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System.out.println(s1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System.out.println(s2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Lista Enlazada - Nod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900000" y="2133720"/>
            <a:ext cx="1656000" cy="576000"/>
            <a:chOff x="900000" y="2133720"/>
            <a:chExt cx="1656000" cy="576000"/>
          </a:xfrm>
        </p:grpSpPr>
        <p:grpSp>
          <p:nvGrpSpPr>
            <p:cNvPr id="165" name=""/>
            <p:cNvGrpSpPr/>
            <p:nvPr/>
          </p:nvGrpSpPr>
          <p:grpSpPr>
            <a:xfrm>
              <a:off x="900000" y="2133720"/>
              <a:ext cx="1295280" cy="576000"/>
              <a:chOff x="900000" y="2133720"/>
              <a:chExt cx="1295280" cy="576000"/>
            </a:xfrm>
          </p:grpSpPr>
          <p:sp>
            <p:nvSpPr>
              <p:cNvPr id="166" name=""/>
              <p:cNvSpPr/>
              <p:nvPr/>
            </p:nvSpPr>
            <p:spPr>
              <a:xfrm>
                <a:off x="900000" y="2133720"/>
                <a:ext cx="1295280" cy="576000"/>
              </a:xfrm>
              <a:prstGeom prst="roundRect">
                <a:avLst>
                  <a:gd name="adj" fmla="val 16667"/>
                </a:avLst>
              </a:prstGeom>
              <a:solidFill>
                <a:srgbClr val="0063a7"/>
              </a:solidFill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547640" y="2133720"/>
                <a:ext cx="0" cy="576000"/>
              </a:xfrm>
              <a:prstGeom prst="line">
                <a:avLst/>
              </a:prstGeom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971640" y="220680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835280" y="2421000"/>
              <a:ext cx="720720" cy="0"/>
            </a:xfrm>
            <a:prstGeom prst="line">
              <a:avLst/>
            </a:prstGeom>
            <a:ln w="63360">
              <a:solidFill>
                <a:srgbClr val="ff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629080" y="2133720"/>
            <a:ext cx="1655280" cy="576000"/>
            <a:chOff x="2629080" y="2133720"/>
            <a:chExt cx="1655280" cy="576000"/>
          </a:xfrm>
        </p:grpSpPr>
        <p:grpSp>
          <p:nvGrpSpPr>
            <p:cNvPr id="171" name=""/>
            <p:cNvGrpSpPr/>
            <p:nvPr/>
          </p:nvGrpSpPr>
          <p:grpSpPr>
            <a:xfrm>
              <a:off x="2629080" y="2133720"/>
              <a:ext cx="1295280" cy="576000"/>
              <a:chOff x="2629080" y="2133720"/>
              <a:chExt cx="1295280" cy="576000"/>
            </a:xfrm>
          </p:grpSpPr>
          <p:sp>
            <p:nvSpPr>
              <p:cNvPr id="172" name=""/>
              <p:cNvSpPr/>
              <p:nvPr/>
            </p:nvSpPr>
            <p:spPr>
              <a:xfrm>
                <a:off x="2629080" y="2133720"/>
                <a:ext cx="1295280" cy="576000"/>
              </a:xfrm>
              <a:prstGeom prst="roundRect">
                <a:avLst>
                  <a:gd name="adj" fmla="val 16667"/>
                </a:avLst>
              </a:prstGeom>
              <a:solidFill>
                <a:srgbClr val="0063a7"/>
              </a:solidFill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276720" y="2133720"/>
                <a:ext cx="0" cy="576000"/>
              </a:xfrm>
              <a:prstGeom prst="line">
                <a:avLst/>
              </a:prstGeom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2700360" y="2206800"/>
              <a:ext cx="50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64000" y="2421000"/>
              <a:ext cx="720360" cy="0"/>
            </a:xfrm>
            <a:prstGeom prst="line">
              <a:avLst/>
            </a:prstGeom>
            <a:ln w="63360">
              <a:solidFill>
                <a:srgbClr val="ff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356000" y="2133720"/>
            <a:ext cx="1295280" cy="576000"/>
            <a:chOff x="4356000" y="2133720"/>
            <a:chExt cx="1295280" cy="576000"/>
          </a:xfrm>
        </p:grpSpPr>
        <p:sp>
          <p:nvSpPr>
            <p:cNvPr id="177" name=""/>
            <p:cNvSpPr/>
            <p:nvPr/>
          </p:nvSpPr>
          <p:spPr>
            <a:xfrm>
              <a:off x="4356000" y="2133720"/>
              <a:ext cx="1295280" cy="576000"/>
            </a:xfrm>
            <a:prstGeom prst="roundRect">
              <a:avLst>
                <a:gd name="adj" fmla="val 16667"/>
              </a:avLst>
            </a:prstGeom>
            <a:solidFill>
              <a:srgbClr val="0063a7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03640" y="2133720"/>
              <a:ext cx="0" cy="57600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4427640" y="22068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291280" y="2421000"/>
            <a:ext cx="647640" cy="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938920" y="2421000"/>
            <a:ext cx="0" cy="28728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96000" y="2708280"/>
            <a:ext cx="287280" cy="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22920" y="2852640"/>
            <a:ext cx="433440" cy="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410920" y="3068640"/>
            <a:ext cx="3970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urier New"/>
              </a:rPr>
              <a:t>class Nodo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ffffff"/>
                </a:solidFill>
                <a:latin typeface="Courier New"/>
              </a:rPr>
              <a:t>int info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ffffff"/>
                </a:solidFill>
                <a:latin typeface="Courier New"/>
              </a:rPr>
              <a:t>Nodo sgt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ffffff"/>
                </a:solidFill>
                <a:latin typeface="Courier New"/>
              </a:rPr>
              <a:t>public Nodo(int info)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s-ES" sz="2000" spc="-1" strike="noStrike">
                <a:solidFill>
                  <a:srgbClr val="ffffff"/>
                </a:solidFill>
                <a:latin typeface="Courier New"/>
              </a:rPr>
              <a:t>this.info = info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87280" y="1557360"/>
            <a:ext cx="0" cy="50328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9640" y="1125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Lista Enlazad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Class Lista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Nodo pun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public Lista(){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public void imprimir() { …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public int  largo() { …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public void agregar(Nodo n) { …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public void eliminar(int i) { …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public Nodo obtener(int i) { …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public void vaciar() { …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Lista Enlazada - Imprimi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public void imprimir()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Nodo aux = pun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while (aux != null)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System.out.println( aux.info 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aux = aux.sgt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Lista Enlazada - Larg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public int largo()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if(punt == null) return 0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Nodo aux = punt; int cont = 0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while (aux != null)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aux = aux.sgte; cont++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return con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Errores Control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for(int i=0; i&lt;=53; ++i)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3200" spc="-1" strike="noStrike">
                <a:solidFill>
                  <a:srgbClr val="ffcc00"/>
                </a:solidFill>
                <a:latin typeface="Courier New"/>
              </a:rPr>
              <a:t>String[] a = new String[53]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 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ordenar(a,2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¿ Dudas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Lista Enlazada - Agreg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400500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uscar el último de la li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(Ojo con el caso de la lista vací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Hacer que apunte al nuevo no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116000" y="2349360"/>
            <a:ext cx="1655280" cy="576000"/>
            <a:chOff x="1116000" y="2349360"/>
            <a:chExt cx="1655280" cy="576000"/>
          </a:xfrm>
        </p:grpSpPr>
        <p:grpSp>
          <p:nvGrpSpPr>
            <p:cNvPr id="197" name=""/>
            <p:cNvGrpSpPr/>
            <p:nvPr/>
          </p:nvGrpSpPr>
          <p:grpSpPr>
            <a:xfrm>
              <a:off x="1116000" y="2349360"/>
              <a:ext cx="1295280" cy="576000"/>
              <a:chOff x="1116000" y="2349360"/>
              <a:chExt cx="1295280" cy="576000"/>
            </a:xfrm>
          </p:grpSpPr>
          <p:sp>
            <p:nvSpPr>
              <p:cNvPr id="198" name=""/>
              <p:cNvSpPr/>
              <p:nvPr/>
            </p:nvSpPr>
            <p:spPr>
              <a:xfrm>
                <a:off x="1116000" y="2349360"/>
                <a:ext cx="1295280" cy="576000"/>
              </a:xfrm>
              <a:prstGeom prst="roundRect">
                <a:avLst>
                  <a:gd name="adj" fmla="val 16667"/>
                </a:avLst>
              </a:prstGeom>
              <a:solidFill>
                <a:srgbClr val="0063a7"/>
              </a:solidFill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763640" y="2349360"/>
                <a:ext cx="0" cy="576000"/>
              </a:xfrm>
              <a:prstGeom prst="line">
                <a:avLst/>
              </a:prstGeom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1187280" y="2422440"/>
              <a:ext cx="50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050920" y="2636640"/>
              <a:ext cx="720360" cy="0"/>
            </a:xfrm>
            <a:prstGeom prst="line">
              <a:avLst/>
            </a:prstGeom>
            <a:ln w="63360">
              <a:solidFill>
                <a:srgbClr val="ff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2844720" y="2349360"/>
            <a:ext cx="1656000" cy="576000"/>
            <a:chOff x="2844720" y="2349360"/>
            <a:chExt cx="1656000" cy="576000"/>
          </a:xfrm>
        </p:grpSpPr>
        <p:grpSp>
          <p:nvGrpSpPr>
            <p:cNvPr id="203" name=""/>
            <p:cNvGrpSpPr/>
            <p:nvPr/>
          </p:nvGrpSpPr>
          <p:grpSpPr>
            <a:xfrm>
              <a:off x="2844720" y="2349360"/>
              <a:ext cx="1295280" cy="576000"/>
              <a:chOff x="2844720" y="2349360"/>
              <a:chExt cx="1295280" cy="576000"/>
            </a:xfrm>
          </p:grpSpPr>
          <p:sp>
            <p:nvSpPr>
              <p:cNvPr id="204" name=""/>
              <p:cNvSpPr/>
              <p:nvPr/>
            </p:nvSpPr>
            <p:spPr>
              <a:xfrm>
                <a:off x="2844720" y="2349360"/>
                <a:ext cx="1295280" cy="576000"/>
              </a:xfrm>
              <a:prstGeom prst="roundRect">
                <a:avLst>
                  <a:gd name="adj" fmla="val 16667"/>
                </a:avLst>
              </a:prstGeom>
              <a:solidFill>
                <a:srgbClr val="0063a7"/>
              </a:solidFill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492360" y="2349360"/>
                <a:ext cx="0" cy="576000"/>
              </a:xfrm>
              <a:prstGeom prst="line">
                <a:avLst/>
              </a:prstGeom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2916360" y="242244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</a:rPr>
                <a:t>9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780000" y="2636640"/>
              <a:ext cx="720720" cy="0"/>
            </a:xfrm>
            <a:prstGeom prst="line">
              <a:avLst/>
            </a:prstGeom>
            <a:ln w="63360">
              <a:solidFill>
                <a:srgbClr val="ff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572000" y="2349360"/>
            <a:ext cx="1295280" cy="576000"/>
            <a:chOff x="4572000" y="2349360"/>
            <a:chExt cx="1295280" cy="576000"/>
          </a:xfrm>
        </p:grpSpPr>
        <p:sp>
          <p:nvSpPr>
            <p:cNvPr id="209" name=""/>
            <p:cNvSpPr/>
            <p:nvPr/>
          </p:nvSpPr>
          <p:spPr>
            <a:xfrm>
              <a:off x="4572000" y="2349360"/>
              <a:ext cx="1295280" cy="576000"/>
            </a:xfrm>
            <a:prstGeom prst="roundRect">
              <a:avLst>
                <a:gd name="adj" fmla="val 16667"/>
              </a:avLst>
            </a:prstGeom>
            <a:solidFill>
              <a:srgbClr val="0063a7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219640" y="2349360"/>
              <a:ext cx="0" cy="57600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4643280" y="24224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06920" y="2637000"/>
            <a:ext cx="647640" cy="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54560" y="2637000"/>
            <a:ext cx="0" cy="28728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2000" y="2924280"/>
            <a:ext cx="287280" cy="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38920" y="3068640"/>
            <a:ext cx="433440" cy="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403280" y="1773360"/>
            <a:ext cx="0" cy="50328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55640" y="1341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6948360" y="1486080"/>
            <a:ext cx="1295280" cy="576000"/>
            <a:chOff x="6948360" y="1486080"/>
            <a:chExt cx="1295280" cy="576000"/>
          </a:xfrm>
        </p:grpSpPr>
        <p:sp>
          <p:nvSpPr>
            <p:cNvPr id="219" name=""/>
            <p:cNvSpPr/>
            <p:nvPr/>
          </p:nvSpPr>
          <p:spPr>
            <a:xfrm>
              <a:off x="6948360" y="1486080"/>
              <a:ext cx="1295280" cy="576000"/>
            </a:xfrm>
            <a:prstGeom prst="roundRect">
              <a:avLst>
                <a:gd name="adj" fmla="val 16667"/>
              </a:avLst>
            </a:prstGeom>
            <a:solidFill>
              <a:srgbClr val="0063a7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96000" y="1486080"/>
              <a:ext cx="0" cy="57600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7020000" y="15588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883640" y="1773360"/>
            <a:ext cx="647640" cy="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531280" y="1773360"/>
            <a:ext cx="0" cy="28728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388360" y="2060640"/>
            <a:ext cx="287280" cy="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315280" y="2205000"/>
            <a:ext cx="433440" cy="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43280" y="15318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gregar </a:t>
            </a:r>
            <a:r>
              <a:rPr b="1" lang="es-ES" sz="2400" spc="-1" strike="noStrike" u="sng">
                <a:solidFill>
                  <a:srgbClr val="ffcc00"/>
                </a:solidFill>
                <a:uFillTx/>
                <a:latin typeface="Arial"/>
              </a:rPr>
              <a:t>no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Lista Enlazada - Agreg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if( punt == nul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punt = nodo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else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Nodo aux = pun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while(aux.sgte != null)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aux = aux.sgt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aux.sgte = nodo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Lista Enlazada - Elimin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116000" y="2349360"/>
            <a:ext cx="1655280" cy="576000"/>
            <a:chOff x="1116000" y="2349360"/>
            <a:chExt cx="1655280" cy="576000"/>
          </a:xfrm>
        </p:grpSpPr>
        <p:grpSp>
          <p:nvGrpSpPr>
            <p:cNvPr id="231" name=""/>
            <p:cNvGrpSpPr/>
            <p:nvPr/>
          </p:nvGrpSpPr>
          <p:grpSpPr>
            <a:xfrm>
              <a:off x="1116000" y="2349360"/>
              <a:ext cx="1295280" cy="576000"/>
              <a:chOff x="1116000" y="2349360"/>
              <a:chExt cx="1295280" cy="576000"/>
            </a:xfrm>
          </p:grpSpPr>
          <p:sp>
            <p:nvSpPr>
              <p:cNvPr id="232" name=""/>
              <p:cNvSpPr/>
              <p:nvPr/>
            </p:nvSpPr>
            <p:spPr>
              <a:xfrm>
                <a:off x="1116000" y="2349360"/>
                <a:ext cx="1295280" cy="576000"/>
              </a:xfrm>
              <a:prstGeom prst="roundRect">
                <a:avLst>
                  <a:gd name="adj" fmla="val 16667"/>
                </a:avLst>
              </a:prstGeom>
              <a:solidFill>
                <a:srgbClr val="0063a7"/>
              </a:solidFill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763640" y="2349360"/>
                <a:ext cx="0" cy="576000"/>
              </a:xfrm>
              <a:prstGeom prst="line">
                <a:avLst/>
              </a:prstGeom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1187280" y="2422440"/>
              <a:ext cx="50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050920" y="2636640"/>
              <a:ext cx="720360" cy="0"/>
            </a:xfrm>
            <a:prstGeom prst="line">
              <a:avLst/>
            </a:prstGeom>
            <a:ln w="63360">
              <a:solidFill>
                <a:srgbClr val="ff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2844720" y="2349360"/>
            <a:ext cx="1655640" cy="576000"/>
            <a:chOff x="2844720" y="2349360"/>
            <a:chExt cx="1655640" cy="576000"/>
          </a:xfrm>
        </p:grpSpPr>
        <p:grpSp>
          <p:nvGrpSpPr>
            <p:cNvPr id="237" name=""/>
            <p:cNvGrpSpPr/>
            <p:nvPr/>
          </p:nvGrpSpPr>
          <p:grpSpPr>
            <a:xfrm>
              <a:off x="2844720" y="2349360"/>
              <a:ext cx="1295280" cy="576000"/>
              <a:chOff x="2844720" y="2349360"/>
              <a:chExt cx="1295280" cy="576000"/>
            </a:xfrm>
          </p:grpSpPr>
          <p:sp>
            <p:nvSpPr>
              <p:cNvPr id="238" name=""/>
              <p:cNvSpPr/>
              <p:nvPr/>
            </p:nvSpPr>
            <p:spPr>
              <a:xfrm>
                <a:off x="2844720" y="2349360"/>
                <a:ext cx="1295280" cy="576000"/>
              </a:xfrm>
              <a:prstGeom prst="roundRect">
                <a:avLst>
                  <a:gd name="adj" fmla="val 16667"/>
                </a:avLst>
              </a:prstGeom>
              <a:solidFill>
                <a:srgbClr val="0063a7"/>
              </a:solidFill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492360" y="2349360"/>
                <a:ext cx="0" cy="576000"/>
              </a:xfrm>
              <a:prstGeom prst="line">
                <a:avLst/>
              </a:prstGeom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2916000" y="242244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</a:rPr>
                <a:t>9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79640" y="2636640"/>
              <a:ext cx="720720" cy="0"/>
            </a:xfrm>
            <a:prstGeom prst="line">
              <a:avLst/>
            </a:prstGeom>
            <a:ln w="63360">
              <a:solidFill>
                <a:srgbClr val="ff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572000" y="2349360"/>
            <a:ext cx="1295280" cy="576000"/>
            <a:chOff x="4572000" y="2349360"/>
            <a:chExt cx="1295280" cy="576000"/>
          </a:xfrm>
        </p:grpSpPr>
        <p:sp>
          <p:nvSpPr>
            <p:cNvPr id="243" name=""/>
            <p:cNvSpPr/>
            <p:nvPr/>
          </p:nvSpPr>
          <p:spPr>
            <a:xfrm>
              <a:off x="4572000" y="2349360"/>
              <a:ext cx="1295280" cy="576000"/>
            </a:xfrm>
            <a:prstGeom prst="roundRect">
              <a:avLst>
                <a:gd name="adj" fmla="val 16667"/>
              </a:avLst>
            </a:prstGeom>
            <a:solidFill>
              <a:srgbClr val="0063a7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219640" y="2349360"/>
              <a:ext cx="0" cy="57600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4643280" y="24224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03280" y="1773360"/>
            <a:ext cx="0" cy="50328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5640" y="1341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6300720" y="2349360"/>
            <a:ext cx="1295280" cy="576000"/>
            <a:chOff x="6300720" y="2349360"/>
            <a:chExt cx="1295280" cy="576000"/>
          </a:xfrm>
        </p:grpSpPr>
        <p:sp>
          <p:nvSpPr>
            <p:cNvPr id="249" name=""/>
            <p:cNvSpPr/>
            <p:nvPr/>
          </p:nvSpPr>
          <p:spPr>
            <a:xfrm>
              <a:off x="6300720" y="2349360"/>
              <a:ext cx="1295280" cy="576000"/>
            </a:xfrm>
            <a:prstGeom prst="roundRect">
              <a:avLst>
                <a:gd name="adj" fmla="val 16667"/>
              </a:avLst>
            </a:prstGeom>
            <a:solidFill>
              <a:srgbClr val="0063a7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948360" y="2349360"/>
              <a:ext cx="0" cy="57600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6372360" y="24224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637000"/>
            <a:ext cx="647640" cy="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883640" y="2637000"/>
            <a:ext cx="0" cy="28728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740720" y="2924280"/>
            <a:ext cx="287280" cy="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667640" y="3068640"/>
            <a:ext cx="433440" cy="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08720" y="2637000"/>
            <a:ext cx="720720" cy="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74920" y="153180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liminar el </a:t>
            </a:r>
            <a:r>
              <a:rPr b="1" lang="es-ES" sz="2400" spc="-1" strike="noStrike" u="sng">
                <a:solidFill>
                  <a:srgbClr val="ffcc00"/>
                </a:solidFill>
                <a:uFillTx/>
                <a:latin typeface="Arial"/>
              </a:rPr>
              <a:t>nodo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en la posición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400500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uscar el nodo en la posición (i-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(Ojo con los casos de bor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Hacer que apunte al nodo en (i+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Lista Enlazada - Elimin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if( punt == nul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retur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Nodo aux = pun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int cont = 2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while(aux.sgte != null &amp;&amp; cont &lt; i)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aux = aux.sgt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cont++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if (aux.sgte != nul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aux.sgte = aux.sgte.sgt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¿ Dudas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¿Cómo obtener el i-ésimo valor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¿Cómo vaciar la Lista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Árboles Binari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structura de datos donde el Nodo además de la información tiene 2 punteros a Nodo denominados hijos: típicamente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izq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y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der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51280" y="3645000"/>
            <a:ext cx="1008000" cy="1008000"/>
          </a:xfrm>
          <a:prstGeom prst="ellipse">
            <a:avLst/>
          </a:prstGeom>
          <a:solidFill>
            <a:srgbClr val="0063a7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inf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347640" y="4508640"/>
            <a:ext cx="647640" cy="8650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16360" y="4510080"/>
            <a:ext cx="576360" cy="86364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843280" y="5445000"/>
            <a:ext cx="1008000" cy="1008360"/>
          </a:xfrm>
          <a:prstGeom prst="ellipse">
            <a:avLst/>
          </a:prstGeom>
          <a:solidFill>
            <a:srgbClr val="0063a7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≤ </a:t>
            </a: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inf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788000" y="5445000"/>
            <a:ext cx="1008000" cy="1008360"/>
          </a:xfrm>
          <a:prstGeom prst="ellipse">
            <a:avLst/>
          </a:prstGeom>
          <a:solidFill>
            <a:srgbClr val="0063a7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&gt; inf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916360" y="4581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iz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932360" y="4581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Árboles Binari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74c6ff"/>
                </a:solidFill>
                <a:uFillTx/>
                <a:latin typeface="Arial"/>
                <a:hlinkClick r:id="rId2"/>
              </a:rPr>
              <a:t>http://www.ibr.cs.tu-bs.de/courses/ss98/audii/applets/BST/BST-Example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74c6ff"/>
                </a:solidFill>
                <a:uFillTx/>
                <a:latin typeface="Arial"/>
                <a:hlinkClick r:id="rId3"/>
              </a:rPr>
              <a:t>http://www.cs.umd.edu/~egolub/Java/BinaryTree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Errores Control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static public </a:t>
            </a:r>
            <a:r>
              <a:rPr b="1" lang="es-ES" sz="2800" spc="-1" strike="noStrike">
                <a:solidFill>
                  <a:srgbClr val="ffcc00"/>
                </a:solidFill>
                <a:latin typeface="Courier New"/>
              </a:rPr>
              <a:t>[]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ordenar</a:t>
            </a:r>
            <a:r>
              <a:rPr b="1" lang="es-ES" sz="2800" spc="-1" strike="noStrike">
                <a:solidFill>
                  <a:srgbClr val="ffcc00"/>
                </a:solidFill>
                <a:latin typeface="Courier New"/>
              </a:rPr>
              <a:t>([]A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, int 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Static public void ordenar(String[] a, int x)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c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ffcc00"/>
                </a:solidFill>
                <a:latin typeface="Courier New"/>
              </a:rPr>
              <a:t>if(x == 0){ … 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c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ffcc00"/>
                </a:solidFill>
                <a:latin typeface="Courier New"/>
              </a:rPr>
              <a:t>if(x == 1){ … 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¿ Dudas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Pasemos a los ejercici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Errores Control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BR a = new BR( new FR( </a:t>
            </a:r>
            <a:r>
              <a:rPr b="1" lang="es-ES" sz="3200" spc="-1" strike="noStrike">
                <a:solidFill>
                  <a:srgbClr val="ffcc00"/>
                </a:solidFill>
                <a:latin typeface="Courier New"/>
              </a:rPr>
              <a:t>U.readLine(“regiones.txt”) </a:t>
            </a: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)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PW a = new PW( new FW( </a:t>
            </a:r>
            <a:r>
              <a:rPr b="1" lang="es-ES" sz="3200" spc="-1" strike="noStrike">
                <a:solidFill>
                  <a:srgbClr val="ffcc00"/>
                </a:solidFill>
                <a:latin typeface="Courier New"/>
              </a:rPr>
              <a:t>U.readLine(“provincias.txt”) </a:t>
            </a: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)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Errores Control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BR b = new BR(new FR(“regiones.txt”)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int n = 0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while( b.readLine() != null 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n++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String[] prov = new String[n]; int i=0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while( b.readLine() != null 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prov[i] = b.readLin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i++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Errores Control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while( (l=a.readLine()) != null 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for(n=0; n&lt;=51; ++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while((linea[n]=a.readLine())!=null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    </a:t>
            </a: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for(int i=0; i&lt;51; ++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b.println(linea[i]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a.clo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ordenar(linea,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b.clo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Errores Control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while(…){ while(…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 </a:t>
            </a: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if(A[k].equals(abc.substring(ind, ind+1))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      </a:t>
            </a: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A[j+1] = A[k]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      </a:t>
            </a: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A[k] = “”+aux; break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      </a:t>
            </a: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p=1, j++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 </a:t>
            </a: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}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Errores Control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static public </a:t>
            </a: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Lista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 poner(String x, int 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{ …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Static public void poner(String x, int i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int n = 0, </a:t>
            </a: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N = 100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 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[]s = []g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String[] nuevo = new String[l.largo+1]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Errores Control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Static public int indice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(String x, Lista l)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 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String h = l.sacar(i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00"/>
                </a:solidFill>
                <a:latin typeface="Courier New"/>
              </a:rPr>
              <a:t>  </a:t>
            </a:r>
            <a:r>
              <a:rPr b="1" lang="es-ES" sz="3200" spc="-1" strike="noStrike">
                <a:solidFill>
                  <a:srgbClr val="ffcc00"/>
                </a:solidFill>
                <a:latin typeface="Courier New"/>
              </a:rPr>
              <a:t>//l.poner(h,i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 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}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3:47:08Z</dcterms:created>
  <dc:creator>Julio</dc:creator>
  <dc:description/>
  <dc:language>en-US</dc:language>
  <cp:lastModifiedBy>jvillane</cp:lastModifiedBy>
  <dcterms:modified xsi:type="dcterms:W3CDTF">2007-06-20T02:15:47Z</dcterms:modified>
  <cp:revision>32</cp:revision>
  <dc:subject/>
  <dc:title>CC100 04 - Computación I Auxiliar Nº 1</dc:title>
</cp:coreProperties>
</file>