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188-1351-4282-A0CE-2F868B2F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8CE-BF37-423A-9D17-3B5B0A79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E5A-67E2-4721-B141-536DAD56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767-908F-4683-8B6B-E46CEFE5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64CE-4695-45CD-8269-B0C9A4EE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4C23-D4D3-4138-92B1-24785FA8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4A98-800D-4125-B359-1749BEC6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0D27-D4F1-48BE-81FE-31DFDE7B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FA97-6311-400A-8457-FD1452FD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4A4C-809B-4226-8B75-6D27609D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12BE-3847-4246-9396-E0EA1377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EDD-7253-4CBB-9EE6-4CA74127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0C9E-81C0-40C4-8269-A3E65949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2518-C5C9-4856-A368-0D9938BC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D3BC-4EC6-4D6A-9DE4-AD5484F8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6D97-E203-40AB-B65E-22F1A2B6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DB4E-C5BB-45F9-B14B-9C0B103B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038-CF5F-4202-A3A6-EF548F50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52A-8722-499C-8F9D-DC4A2334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EA2-5926-46FE-A9E1-E09481D7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AB3-1814-4B54-9937-A241B7A4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1B4-A15A-4E76-A2C5-DF58AEFD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E7B-9D8D-428E-B1F8-CB0A2F78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10A-6F44-49CF-A702-0A15DBA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D057-2AA1-4BC6-A923-E1A5B3964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557A-3EB7-49C8-A8C1-16AF3559C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br.cs.tu-bs.de/courses/ss98/audii/applets/BST/BST-Example.html" TargetMode="External"/><Relationship Id="rId3" Type="http://schemas.openxmlformats.org/officeDocument/2006/relationships/hyperlink" Target="http://www.cs.umd.edu/~egolub/Java/BinaryTree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structuras de Da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Cuál es el costo de insertar un objeto nuevo en un arregl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8880" y="213048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9080" y="285120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46880" y="285120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862160" y="2490840"/>
            <a:ext cx="57636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70520" y="2490840"/>
            <a:ext cx="57636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70520" y="35701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3240" y="357012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9440" y="3209760"/>
            <a:ext cx="217440" cy="3621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8520" y="3209760"/>
            <a:ext cx="216000" cy="3621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4520" y="357192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6880" y="35719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212720" y="3211560"/>
            <a:ext cx="217800" cy="36180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62520" y="3211560"/>
            <a:ext cx="216000" cy="36180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6520" y="429084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5800" y="429084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933440" y="3930480"/>
            <a:ext cx="7164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7080" y="3930480"/>
            <a:ext cx="730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2880" y="429084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1800" y="429084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950160" y="3930480"/>
            <a:ext cx="712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3440" y="3930480"/>
            <a:ext cx="7272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4219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70520" y="4219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21337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4000" y="2565360"/>
            <a:ext cx="0" cy="35892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9257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3357720"/>
            <a:ext cx="0" cy="3585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3718080"/>
            <a:ext cx="432000" cy="43308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149720"/>
            <a:ext cx="0" cy="35892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451008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4941720"/>
            <a:ext cx="0" cy="35892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537372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501336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501336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572000" y="4653000"/>
            <a:ext cx="712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5280" y="4653000"/>
            <a:ext cx="730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2520" y="501336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1440" y="501336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589800" y="4653000"/>
            <a:ext cx="712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4653000"/>
            <a:ext cx="7272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501336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1800" y="50133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3440" y="544500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9800" y="544500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160" y="501336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484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4920" y="1484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ÁR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unteros y Ob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plejo 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 = new Complejo(1,3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42920" y="4508640"/>
            <a:ext cx="936360" cy="576000"/>
            <a:chOff x="1042920" y="4508640"/>
            <a:chExt cx="936360" cy="576000"/>
          </a:xfrm>
        </p:grpSpPr>
        <p:sp>
          <p:nvSpPr>
            <p:cNvPr id="154" name=""/>
            <p:cNvSpPr/>
            <p:nvPr/>
          </p:nvSpPr>
          <p:spPr>
            <a:xfrm>
              <a:off x="1187280" y="5084640"/>
              <a:ext cx="792000" cy="0"/>
            </a:xfrm>
            <a:prstGeom prst="line">
              <a:avLst/>
            </a:prstGeom>
            <a:ln w="69840">
              <a:solidFill>
                <a:srgbClr val="ff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42920" y="4508640"/>
              <a:ext cx="647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796000" y="4221000"/>
            <a:ext cx="2160720" cy="1656000"/>
            <a:chOff x="5796000" y="4221000"/>
            <a:chExt cx="2160720" cy="1656000"/>
          </a:xfrm>
        </p:grpSpPr>
        <p:sp>
          <p:nvSpPr>
            <p:cNvPr id="157" name=""/>
            <p:cNvSpPr/>
            <p:nvPr/>
          </p:nvSpPr>
          <p:spPr>
            <a:xfrm>
              <a:off x="5796000" y="4221000"/>
              <a:ext cx="2158920" cy="165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69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omplej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real = 1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imag = 3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6000" y="4797360"/>
              <a:ext cx="2160720" cy="0"/>
            </a:xfrm>
            <a:prstGeom prst="line">
              <a:avLst/>
            </a:prstGeom>
            <a:ln w="69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89017E-006 L 0.40555 0.00023 E">
                                      <p:cBhvr>
                                        <p:cTn id="20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unteros y Ob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Complejo a = new Complejo(2,4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Complejo b = 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b.amplificar(3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System.out.println(a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unteros y Ob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ring s1 = "P: Hola ¿cómo estas?"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ring s2 = s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2 = s2.concat("\nR: Muy bien gracias"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ystem.out.println(s1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ystem.out.println(s2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No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00000" y="2133720"/>
            <a:ext cx="1656000" cy="576000"/>
            <a:chOff x="900000" y="2133720"/>
            <a:chExt cx="1656000" cy="576000"/>
          </a:xfrm>
        </p:grpSpPr>
        <p:grpSp>
          <p:nvGrpSpPr>
            <p:cNvPr id="165" name=""/>
            <p:cNvGrpSpPr/>
            <p:nvPr/>
          </p:nvGrpSpPr>
          <p:grpSpPr>
            <a:xfrm>
              <a:off x="900000" y="2133720"/>
              <a:ext cx="1295280" cy="576000"/>
              <a:chOff x="900000" y="2133720"/>
              <a:chExt cx="1295280" cy="576000"/>
            </a:xfrm>
          </p:grpSpPr>
          <p:sp>
            <p:nvSpPr>
              <p:cNvPr id="166" name=""/>
              <p:cNvSpPr/>
              <p:nvPr/>
            </p:nvSpPr>
            <p:spPr>
              <a:xfrm>
                <a:off x="900000" y="213372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7640" y="213372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971640" y="22068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35280" y="2421000"/>
              <a:ext cx="72072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629080" y="2133720"/>
            <a:ext cx="1655280" cy="576000"/>
            <a:chOff x="2629080" y="2133720"/>
            <a:chExt cx="1655280" cy="576000"/>
          </a:xfrm>
        </p:grpSpPr>
        <p:grpSp>
          <p:nvGrpSpPr>
            <p:cNvPr id="171" name=""/>
            <p:cNvGrpSpPr/>
            <p:nvPr/>
          </p:nvGrpSpPr>
          <p:grpSpPr>
            <a:xfrm>
              <a:off x="2629080" y="2133720"/>
              <a:ext cx="1295280" cy="576000"/>
              <a:chOff x="2629080" y="2133720"/>
              <a:chExt cx="1295280" cy="576000"/>
            </a:xfrm>
          </p:grpSpPr>
          <p:sp>
            <p:nvSpPr>
              <p:cNvPr id="172" name=""/>
              <p:cNvSpPr/>
              <p:nvPr/>
            </p:nvSpPr>
            <p:spPr>
              <a:xfrm>
                <a:off x="2629080" y="213372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76720" y="213372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00360" y="220680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64000" y="2421000"/>
              <a:ext cx="72036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356000" y="2133720"/>
            <a:ext cx="1295280" cy="576000"/>
            <a:chOff x="4356000" y="2133720"/>
            <a:chExt cx="1295280" cy="576000"/>
          </a:xfrm>
        </p:grpSpPr>
        <p:sp>
          <p:nvSpPr>
            <p:cNvPr id="177" name=""/>
            <p:cNvSpPr/>
            <p:nvPr/>
          </p:nvSpPr>
          <p:spPr>
            <a:xfrm>
              <a:off x="4356000" y="213372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03640" y="213372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427640" y="2206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1280" y="242100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8920" y="242100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70828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2920" y="285264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10920" y="3068640"/>
            <a:ext cx="3970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class Nodo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int inf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Nodo sgt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public Nodo(int info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this.info = inf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1557360"/>
            <a:ext cx="0" cy="50328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112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Class Lista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Nodo pu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Lista(){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imprimir(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int  largo(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agregar(Nodo n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eliminar(int i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Nodo obtener(int i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vaciar(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Imprim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void imprimir(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 (aux != null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ystem.out.println( aux.info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Lar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int largo(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(punt == null) return 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 int cont = 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 (aux != null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 cont++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return co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for(int i=0; i&lt;=53; ++i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String[] a = new String[53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ordenar(a,2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Agreg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uscar el último de la l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(Ojo con el caso de la lista vací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cer que apunte al nuevo no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16000" y="2349360"/>
            <a:ext cx="1655280" cy="576000"/>
            <a:chOff x="1116000" y="2349360"/>
            <a:chExt cx="1655280" cy="576000"/>
          </a:xfrm>
        </p:grpSpPr>
        <p:grpSp>
          <p:nvGrpSpPr>
            <p:cNvPr id="197" name=""/>
            <p:cNvGrpSpPr/>
            <p:nvPr/>
          </p:nvGrpSpPr>
          <p:grpSpPr>
            <a:xfrm>
              <a:off x="1116000" y="2349360"/>
              <a:ext cx="1295280" cy="576000"/>
              <a:chOff x="1116000" y="2349360"/>
              <a:chExt cx="1295280" cy="576000"/>
            </a:xfrm>
          </p:grpSpPr>
          <p:sp>
            <p:nvSpPr>
              <p:cNvPr id="198" name=""/>
              <p:cNvSpPr/>
              <p:nvPr/>
            </p:nvSpPr>
            <p:spPr>
              <a:xfrm>
                <a:off x="111600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6364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187280" y="24224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920" y="2636640"/>
              <a:ext cx="72036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844720" y="2349360"/>
            <a:ext cx="1656000" cy="576000"/>
            <a:chOff x="2844720" y="2349360"/>
            <a:chExt cx="1656000" cy="576000"/>
          </a:xfrm>
        </p:grpSpPr>
        <p:grpSp>
          <p:nvGrpSpPr>
            <p:cNvPr id="203" name=""/>
            <p:cNvGrpSpPr/>
            <p:nvPr/>
          </p:nvGrpSpPr>
          <p:grpSpPr>
            <a:xfrm>
              <a:off x="2844720" y="2349360"/>
              <a:ext cx="1295280" cy="576000"/>
              <a:chOff x="2844720" y="2349360"/>
              <a:chExt cx="1295280" cy="576000"/>
            </a:xfrm>
          </p:grpSpPr>
          <p:sp>
            <p:nvSpPr>
              <p:cNvPr id="204" name=""/>
              <p:cNvSpPr/>
              <p:nvPr/>
            </p:nvSpPr>
            <p:spPr>
              <a:xfrm>
                <a:off x="284472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9236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916360" y="2422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80000" y="2636640"/>
              <a:ext cx="72072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72000" y="2349360"/>
            <a:ext cx="1295280" cy="576000"/>
            <a:chOff x="4572000" y="2349360"/>
            <a:chExt cx="1295280" cy="576000"/>
          </a:xfrm>
        </p:grpSpPr>
        <p:sp>
          <p:nvSpPr>
            <p:cNvPr id="209" name=""/>
            <p:cNvSpPr/>
            <p:nvPr/>
          </p:nvSpPr>
          <p:spPr>
            <a:xfrm>
              <a:off x="4572000" y="234936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19640" y="234936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643280" y="2422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06920" y="263700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4560" y="263700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292428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38920" y="306864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1773360"/>
            <a:ext cx="0" cy="50328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134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948360" y="1486080"/>
            <a:ext cx="1295280" cy="576000"/>
            <a:chOff x="6948360" y="1486080"/>
            <a:chExt cx="1295280" cy="576000"/>
          </a:xfrm>
        </p:grpSpPr>
        <p:sp>
          <p:nvSpPr>
            <p:cNvPr id="219" name=""/>
            <p:cNvSpPr/>
            <p:nvPr/>
          </p:nvSpPr>
          <p:spPr>
            <a:xfrm>
              <a:off x="6948360" y="148608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96000" y="148608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7020000" y="1558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83640" y="177336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531280" y="177336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8360" y="206064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15280" y="220500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1531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gregar </a:t>
            </a:r>
            <a:r>
              <a:rPr b="1" lang="es-ES" sz="2400" spc="-1" strike="noStrike" u="sng">
                <a:solidFill>
                  <a:srgbClr val="ffcc00"/>
                </a:solidFill>
                <a:uFillTx/>
                <a:latin typeface="Arial"/>
              </a:rPr>
              <a:t>no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Agreg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( punt == n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nt = no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else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(aux.sgte != null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.sgte = no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Elim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16000" y="2349360"/>
            <a:ext cx="1655280" cy="576000"/>
            <a:chOff x="1116000" y="2349360"/>
            <a:chExt cx="1655280" cy="576000"/>
          </a:xfrm>
        </p:grpSpPr>
        <p:grpSp>
          <p:nvGrpSpPr>
            <p:cNvPr id="231" name=""/>
            <p:cNvGrpSpPr/>
            <p:nvPr/>
          </p:nvGrpSpPr>
          <p:grpSpPr>
            <a:xfrm>
              <a:off x="1116000" y="2349360"/>
              <a:ext cx="1295280" cy="576000"/>
              <a:chOff x="1116000" y="2349360"/>
              <a:chExt cx="1295280" cy="576000"/>
            </a:xfrm>
          </p:grpSpPr>
          <p:sp>
            <p:nvSpPr>
              <p:cNvPr id="232" name=""/>
              <p:cNvSpPr/>
              <p:nvPr/>
            </p:nvSpPr>
            <p:spPr>
              <a:xfrm>
                <a:off x="111600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6364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187280" y="24224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50920" y="2636640"/>
              <a:ext cx="72036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844720" y="2349360"/>
            <a:ext cx="1655640" cy="576000"/>
            <a:chOff x="2844720" y="2349360"/>
            <a:chExt cx="1655640" cy="576000"/>
          </a:xfrm>
        </p:grpSpPr>
        <p:grpSp>
          <p:nvGrpSpPr>
            <p:cNvPr id="237" name=""/>
            <p:cNvGrpSpPr/>
            <p:nvPr/>
          </p:nvGrpSpPr>
          <p:grpSpPr>
            <a:xfrm>
              <a:off x="2844720" y="2349360"/>
              <a:ext cx="1295280" cy="576000"/>
              <a:chOff x="2844720" y="2349360"/>
              <a:chExt cx="1295280" cy="576000"/>
            </a:xfrm>
          </p:grpSpPr>
          <p:sp>
            <p:nvSpPr>
              <p:cNvPr id="238" name=""/>
              <p:cNvSpPr/>
              <p:nvPr/>
            </p:nvSpPr>
            <p:spPr>
              <a:xfrm>
                <a:off x="284472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9236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916000" y="2422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79640" y="2636640"/>
              <a:ext cx="72072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572000" y="2349360"/>
            <a:ext cx="1295280" cy="576000"/>
            <a:chOff x="4572000" y="2349360"/>
            <a:chExt cx="1295280" cy="576000"/>
          </a:xfrm>
        </p:grpSpPr>
        <p:sp>
          <p:nvSpPr>
            <p:cNvPr id="243" name=""/>
            <p:cNvSpPr/>
            <p:nvPr/>
          </p:nvSpPr>
          <p:spPr>
            <a:xfrm>
              <a:off x="4572000" y="234936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9640" y="234936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643280" y="2422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1773360"/>
            <a:ext cx="0" cy="50328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134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300720" y="2349360"/>
            <a:ext cx="1295280" cy="576000"/>
            <a:chOff x="6300720" y="2349360"/>
            <a:chExt cx="1295280" cy="576000"/>
          </a:xfrm>
        </p:grpSpPr>
        <p:sp>
          <p:nvSpPr>
            <p:cNvPr id="249" name=""/>
            <p:cNvSpPr/>
            <p:nvPr/>
          </p:nvSpPr>
          <p:spPr>
            <a:xfrm>
              <a:off x="6300720" y="234936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48360" y="234936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372360" y="2422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63700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83640" y="263700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40720" y="292428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67640" y="306864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2637000"/>
            <a:ext cx="72072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4920" y="15318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iminar el </a:t>
            </a:r>
            <a:r>
              <a:rPr b="1" lang="es-ES" sz="2400" spc="-1" strike="noStrike" u="sng">
                <a:solidFill>
                  <a:srgbClr val="ffcc00"/>
                </a:solidFill>
                <a:uFillTx/>
                <a:latin typeface="Arial"/>
              </a:rPr>
              <a:t>nod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n la posición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uscar el nodo en la posición (i-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(Ojo con los casos de bor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cer que apunte al nodo en (i+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Elim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( punt == n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retur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nt cont = 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(aux.sgte != null &amp;&amp; cont &lt; i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cont++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 (aux.sgte != n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.sgte = aux.sgte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obtener el i-ésimo val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vaciar la List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Árboles Binar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ructura de datos donde el Nodo además de la información tiene 2 punteros a Nodo denominados hijos: típicamente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zq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de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3645000"/>
            <a:ext cx="1008000" cy="1008000"/>
          </a:xfrm>
          <a:prstGeom prst="ellipse">
            <a:avLst/>
          </a:prstGeom>
          <a:solidFill>
            <a:srgbClr val="0063a7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347640" y="4508640"/>
            <a:ext cx="647640" cy="865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4510080"/>
            <a:ext cx="576360" cy="863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3280" y="5445000"/>
            <a:ext cx="1008000" cy="1008360"/>
          </a:xfrm>
          <a:prstGeom prst="ellipse">
            <a:avLst/>
          </a:prstGeom>
          <a:solidFill>
            <a:srgbClr val="0063a7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≤ 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5445000"/>
            <a:ext cx="1008000" cy="1008360"/>
          </a:xfrm>
          <a:prstGeom prst="ellipse">
            <a:avLst/>
          </a:prstGeom>
          <a:solidFill>
            <a:srgbClr val="0063a7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&gt;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16360" y="45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45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Árboles Binar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74c6ff"/>
                </a:solidFill>
                <a:uFillTx/>
                <a:latin typeface="Arial"/>
                <a:hlinkClick r:id="rId2"/>
              </a:rPr>
              <a:t>http://www.ibr.cs.tu-bs.de/courses/ss98/audii/applets/BST/BST-Example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74c6ff"/>
                </a:solidFill>
                <a:uFillTx/>
                <a:latin typeface="Arial"/>
                <a:hlinkClick r:id="rId3"/>
              </a:rPr>
              <a:t>http://www.cs.umd.edu/~egolub/Java/BinaryTree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atic public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[]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ordenar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([]A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, int 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atic public void ordenar(String[] a, int x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if(x == 0){ …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if(x == 1){ …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emos a los ejercic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BR a = new BR( new FR(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U.readLine(“regiones.txt”)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)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PW a = new PW( new FW(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U.readLine(“provincias.txt”)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)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BR b = new BR(new FR(“regiones.txt”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nt n =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while( b.readLine() != null 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n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String[] prov = new String[n]; int i=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while( b.readLine() != null 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prov[i] = b.readLin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i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while( (l=a.readLine()) != null 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for(n=0; n&lt;=51; ++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while((linea[n]=a.readLine())!=null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for(int i=0; i&lt;51; ++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b.println(linea[i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a.cl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ordenar(linea,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b.cl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while(…){ while(…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if(A[k].equals(abc.substring(ind, ind+1))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A[j+1] = A[k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A[k] = “”+aux; brea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p=1, j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Lista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poner(String x, int 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Static public void poner(String x, int i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nt n = 0,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N = 100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[]s = []g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String[] nuevo = new String[l.largo+1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Static public int indice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(String x, Lista l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String h = l.sacar(i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//l.poner(h,i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villane</cp:lastModifiedBy>
  <dcterms:modified xsi:type="dcterms:W3CDTF">2007-06-20T02:15:47Z</dcterms:modified>
  <cp:revision>32</cp:revision>
  <dc:subject/>
  <dc:title>CC100 04 - Computación I Auxiliar Nº 1</dc:title>
</cp:coreProperties>
</file>