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A87-886B-414E-8BB3-33C780675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199-0F10-4DA1-B2BE-4E3B42E1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7548-B99A-47D2-81E0-4CC7AC0B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A8E3-2B99-4374-A1B2-E4B71CEE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5BB2-DB30-405E-A4D4-B23BD5DC3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14BE-F92D-4F8A-8AD8-11AD8B11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C68D-5AFE-44FA-9ABC-DA454C83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AD11-143D-46C1-95BC-1AFA8029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AD1F8-2F0E-48AC-9BFA-8B4A8958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13F1-EEE1-417F-A80C-CAC567C5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E62F-3510-4450-8C2A-3FB536FC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9D17-A5E8-4B02-A928-5E9B5531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8BB5-86BA-45F8-A227-81FEA4B0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B51B-2806-43A2-9054-B20BB9EB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7C64-8A61-4A2E-98F8-054C6D55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B7D2-8FB2-4801-BAE3-6A26F350F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7923-024D-4311-94A2-37A247A65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E6F-CC38-44AA-ABC5-A20D43D2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D2E4-65E3-4325-860E-B721FCD0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673-2323-4C64-BBB8-DD650697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85A-80B7-4675-957F-5E6369AB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AAC-8C21-4143-ADCC-51012A6B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7DA-1A7B-4201-97CB-FEA5BA22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4ED7-4C53-4E5F-AC6A-06591D30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94FE-A7B3-4789-B674-85360F9C8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C94C-A66C-44E4-B760-D70857484A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br.cs.tu-bs.de/courses/ss98/audii/applets/BST/BST-Example.html" TargetMode="External"/><Relationship Id="rId3" Type="http://schemas.openxmlformats.org/officeDocument/2006/relationships/hyperlink" Target="http://www.cs.umd.edu/~egolub/Java/BinaryTree.html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CC100 04 - Computación I</a:t>
            </a:r>
            <a:br>
              <a:rPr sz="4400"/>
            </a:b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Auxiliar Nº 1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Julio Villane 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structuras de Da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Cuál es el costo de insertar un objeto nuevo en un arregl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38880" y="213048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429080" y="285120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46880" y="285120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4862160" y="2490840"/>
            <a:ext cx="57636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870520" y="2490840"/>
            <a:ext cx="57636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70520" y="357012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023240" y="357012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29440" y="3209760"/>
            <a:ext cx="217440" cy="3621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78520" y="3209760"/>
            <a:ext cx="216000" cy="3621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54520" y="357192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6880" y="357192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212720" y="3211560"/>
            <a:ext cx="217800" cy="36180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62520" y="3211560"/>
            <a:ext cx="216000" cy="36180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6520" y="429084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65800" y="429084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933440" y="3930480"/>
            <a:ext cx="7164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37080" y="3930480"/>
            <a:ext cx="730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2880" y="429084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81800" y="429084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6950160" y="3930480"/>
            <a:ext cx="712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3440" y="3930480"/>
            <a:ext cx="7272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1440" y="42195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870520" y="42195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08000" y="213372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24000" y="2565360"/>
            <a:ext cx="0" cy="35892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08000" y="292572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24000" y="3357720"/>
            <a:ext cx="0" cy="3585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08000" y="3718080"/>
            <a:ext cx="432000" cy="43308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24000" y="4149720"/>
            <a:ext cx="0" cy="35892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08000" y="451008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24000" y="4941720"/>
            <a:ext cx="0" cy="35892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5373720"/>
            <a:ext cx="72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501336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03640" y="501336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4572000" y="4653000"/>
            <a:ext cx="712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75280" y="4653000"/>
            <a:ext cx="730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02520" y="5013360"/>
            <a:ext cx="43164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21440" y="5013360"/>
            <a:ext cx="432000" cy="433440"/>
          </a:xfrm>
          <a:prstGeom prst="ellipse">
            <a:avLst/>
          </a:prstGeom>
          <a:solidFill>
            <a:srgbClr val="0063a7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589800" y="4653000"/>
            <a:ext cx="7128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4653000"/>
            <a:ext cx="72720" cy="360360"/>
          </a:xfrm>
          <a:prstGeom prst="line">
            <a:avLst/>
          </a:prstGeom>
          <a:ln w="57240">
            <a:solidFill>
              <a:srgbClr val="ffe78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360" y="5013360"/>
            <a:ext cx="6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581800" y="501336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3440" y="5445000"/>
            <a:ext cx="6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89800" y="5445000"/>
            <a:ext cx="647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26160" y="5013360"/>
            <a:ext cx="648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148428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LIS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4920" y="148428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ahoma"/>
              </a:rPr>
              <a:t>ÁRB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unteros y Obje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omplejo c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c = new Complejo(1,3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042920" y="4508640"/>
            <a:ext cx="936360" cy="576000"/>
            <a:chOff x="1042920" y="4508640"/>
            <a:chExt cx="936360" cy="576000"/>
          </a:xfrm>
        </p:grpSpPr>
        <p:sp>
          <p:nvSpPr>
            <p:cNvPr id="154" name=""/>
            <p:cNvSpPr/>
            <p:nvPr/>
          </p:nvSpPr>
          <p:spPr>
            <a:xfrm>
              <a:off x="1187280" y="5084640"/>
              <a:ext cx="792000" cy="0"/>
            </a:xfrm>
            <a:prstGeom prst="line">
              <a:avLst/>
            </a:prstGeom>
            <a:ln w="69840">
              <a:solidFill>
                <a:srgbClr val="ffcc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042920" y="4508640"/>
              <a:ext cx="64764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796000" y="4221000"/>
            <a:ext cx="2160720" cy="1656000"/>
            <a:chOff x="5796000" y="4221000"/>
            <a:chExt cx="2160720" cy="1656000"/>
          </a:xfrm>
        </p:grpSpPr>
        <p:sp>
          <p:nvSpPr>
            <p:cNvPr id="157" name=""/>
            <p:cNvSpPr/>
            <p:nvPr/>
          </p:nvSpPr>
          <p:spPr>
            <a:xfrm>
              <a:off x="5796000" y="4221000"/>
              <a:ext cx="2158920" cy="165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69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omplej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real = 1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imag = 3.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96000" y="4797360"/>
              <a:ext cx="2160720" cy="0"/>
            </a:xfrm>
            <a:prstGeom prst="line">
              <a:avLst/>
            </a:prstGeom>
            <a:ln w="69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89017E-006 L 0.40555 0.00023 E">
                                      <p:cBhvr>
                                        <p:cTn id="20" dur="1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unteros y Obje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Complejo a = new Complejo(2,4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Complejo b = 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b.amplificar(3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System.out.println(a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unteros y Obje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tring s1 = "P: Hola ¿cómo estas?"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tring s2 = s1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2 = s2.concat("\nR: Muy bien gracias"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ystem.out.println(s1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ystem.out.println(s2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Nod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900000" y="2133720"/>
            <a:ext cx="1656000" cy="576000"/>
            <a:chOff x="900000" y="2133720"/>
            <a:chExt cx="1656000" cy="576000"/>
          </a:xfrm>
        </p:grpSpPr>
        <p:grpSp>
          <p:nvGrpSpPr>
            <p:cNvPr id="165" name=""/>
            <p:cNvGrpSpPr/>
            <p:nvPr/>
          </p:nvGrpSpPr>
          <p:grpSpPr>
            <a:xfrm>
              <a:off x="900000" y="2133720"/>
              <a:ext cx="1295280" cy="576000"/>
              <a:chOff x="900000" y="2133720"/>
              <a:chExt cx="1295280" cy="576000"/>
            </a:xfrm>
          </p:grpSpPr>
          <p:sp>
            <p:nvSpPr>
              <p:cNvPr id="166" name=""/>
              <p:cNvSpPr/>
              <p:nvPr/>
            </p:nvSpPr>
            <p:spPr>
              <a:xfrm>
                <a:off x="900000" y="213372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547640" y="213372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8" name=""/>
            <p:cNvSpPr/>
            <p:nvPr/>
          </p:nvSpPr>
          <p:spPr>
            <a:xfrm>
              <a:off x="971640" y="220680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835280" y="2421000"/>
              <a:ext cx="72072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629080" y="2133720"/>
            <a:ext cx="1655280" cy="576000"/>
            <a:chOff x="2629080" y="2133720"/>
            <a:chExt cx="1655280" cy="576000"/>
          </a:xfrm>
        </p:grpSpPr>
        <p:grpSp>
          <p:nvGrpSpPr>
            <p:cNvPr id="171" name=""/>
            <p:cNvGrpSpPr/>
            <p:nvPr/>
          </p:nvGrpSpPr>
          <p:grpSpPr>
            <a:xfrm>
              <a:off x="2629080" y="2133720"/>
              <a:ext cx="1295280" cy="576000"/>
              <a:chOff x="2629080" y="2133720"/>
              <a:chExt cx="1295280" cy="576000"/>
            </a:xfrm>
          </p:grpSpPr>
          <p:sp>
            <p:nvSpPr>
              <p:cNvPr id="172" name=""/>
              <p:cNvSpPr/>
              <p:nvPr/>
            </p:nvSpPr>
            <p:spPr>
              <a:xfrm>
                <a:off x="2629080" y="213372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276720" y="213372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2700360" y="220680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64000" y="2421000"/>
              <a:ext cx="72036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356000" y="2133720"/>
            <a:ext cx="1295280" cy="576000"/>
            <a:chOff x="4356000" y="2133720"/>
            <a:chExt cx="1295280" cy="576000"/>
          </a:xfrm>
        </p:grpSpPr>
        <p:sp>
          <p:nvSpPr>
            <p:cNvPr id="177" name=""/>
            <p:cNvSpPr/>
            <p:nvPr/>
          </p:nvSpPr>
          <p:spPr>
            <a:xfrm>
              <a:off x="4356000" y="213372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03640" y="213372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4427640" y="2206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91280" y="2421000"/>
            <a:ext cx="6476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938920" y="2421000"/>
            <a:ext cx="0" cy="28728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96000" y="2708280"/>
            <a:ext cx="28728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22920" y="2852640"/>
            <a:ext cx="4334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410920" y="3068640"/>
            <a:ext cx="3970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class Nodo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int inf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Nodo sgt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public Nodo(int info)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this.info = inf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1557360"/>
            <a:ext cx="0" cy="50328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1125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Class Lista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Nodo pun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Lista(){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imprimir(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int  largo(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agregar(Nodo n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eliminar(int i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Nodo obtener(int i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public void vaciar() 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Imprim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void imprimir(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Nodo aux = pu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while (aux != null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ystem.out.println( aux.info 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 = aux.sg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Larg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blic int largo(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f(punt == null) return 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Nodo aux = punt; int cont = 0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while (aux != null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 = aux.sgte; cont++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return co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for(int i=0; i&lt;=53; ++i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String[] a = new String[53]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ordenar(a,2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Agreg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uscar el último de la lis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(Ojo con el caso de la lista vací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cer que apunte al nuevo no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1116000" y="2349360"/>
            <a:ext cx="1655280" cy="576000"/>
            <a:chOff x="1116000" y="2349360"/>
            <a:chExt cx="1655280" cy="576000"/>
          </a:xfrm>
        </p:grpSpPr>
        <p:grpSp>
          <p:nvGrpSpPr>
            <p:cNvPr id="197" name=""/>
            <p:cNvGrpSpPr/>
            <p:nvPr/>
          </p:nvGrpSpPr>
          <p:grpSpPr>
            <a:xfrm>
              <a:off x="1116000" y="2349360"/>
              <a:ext cx="1295280" cy="576000"/>
              <a:chOff x="1116000" y="2349360"/>
              <a:chExt cx="1295280" cy="576000"/>
            </a:xfrm>
          </p:grpSpPr>
          <p:sp>
            <p:nvSpPr>
              <p:cNvPr id="198" name=""/>
              <p:cNvSpPr/>
              <p:nvPr/>
            </p:nvSpPr>
            <p:spPr>
              <a:xfrm>
                <a:off x="1116000" y="234936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763640" y="234936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1187280" y="242244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50920" y="2636640"/>
              <a:ext cx="72036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844720" y="2349360"/>
            <a:ext cx="1656000" cy="576000"/>
            <a:chOff x="2844720" y="2349360"/>
            <a:chExt cx="1656000" cy="576000"/>
          </a:xfrm>
        </p:grpSpPr>
        <p:grpSp>
          <p:nvGrpSpPr>
            <p:cNvPr id="203" name=""/>
            <p:cNvGrpSpPr/>
            <p:nvPr/>
          </p:nvGrpSpPr>
          <p:grpSpPr>
            <a:xfrm>
              <a:off x="2844720" y="2349360"/>
              <a:ext cx="1295280" cy="576000"/>
              <a:chOff x="2844720" y="2349360"/>
              <a:chExt cx="1295280" cy="576000"/>
            </a:xfrm>
          </p:grpSpPr>
          <p:sp>
            <p:nvSpPr>
              <p:cNvPr id="204" name=""/>
              <p:cNvSpPr/>
              <p:nvPr/>
            </p:nvSpPr>
            <p:spPr>
              <a:xfrm>
                <a:off x="2844720" y="234936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92360" y="234936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2916360" y="2422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780000" y="2636640"/>
              <a:ext cx="72072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72000" y="2349360"/>
            <a:ext cx="1295280" cy="576000"/>
            <a:chOff x="4572000" y="2349360"/>
            <a:chExt cx="1295280" cy="576000"/>
          </a:xfrm>
        </p:grpSpPr>
        <p:sp>
          <p:nvSpPr>
            <p:cNvPr id="209" name=""/>
            <p:cNvSpPr/>
            <p:nvPr/>
          </p:nvSpPr>
          <p:spPr>
            <a:xfrm>
              <a:off x="4572000" y="234936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19640" y="234936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643280" y="24224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506920" y="2637000"/>
            <a:ext cx="6476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54560" y="2637000"/>
            <a:ext cx="0" cy="28728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2924280"/>
            <a:ext cx="28728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38920" y="3068640"/>
            <a:ext cx="4334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1773360"/>
            <a:ext cx="0" cy="50328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5640" y="134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6948360" y="1486080"/>
            <a:ext cx="1295280" cy="576000"/>
            <a:chOff x="6948360" y="1486080"/>
            <a:chExt cx="1295280" cy="576000"/>
          </a:xfrm>
        </p:grpSpPr>
        <p:sp>
          <p:nvSpPr>
            <p:cNvPr id="219" name=""/>
            <p:cNvSpPr/>
            <p:nvPr/>
          </p:nvSpPr>
          <p:spPr>
            <a:xfrm>
              <a:off x="6948360" y="148608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96000" y="148608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7020000" y="15588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83640" y="1773360"/>
            <a:ext cx="6476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531280" y="1773360"/>
            <a:ext cx="0" cy="28728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8360" y="2060640"/>
            <a:ext cx="28728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315280" y="2205000"/>
            <a:ext cx="4334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15318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gregar </a:t>
            </a:r>
            <a:r>
              <a:rPr b="1" lang="es-ES" sz="2400" spc="-1" strike="noStrike" u="sng">
                <a:solidFill>
                  <a:srgbClr val="ffcc00"/>
                </a:solidFill>
                <a:uFillTx/>
                <a:latin typeface="Arial"/>
              </a:rPr>
              <a:t>no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Agreg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f( punt == nu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punt = no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else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Nodo aux = pu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while(aux.sgte != null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 = aux.sg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.sgte = nod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Elimi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16000" y="2349360"/>
            <a:ext cx="1655280" cy="576000"/>
            <a:chOff x="1116000" y="2349360"/>
            <a:chExt cx="1655280" cy="576000"/>
          </a:xfrm>
        </p:grpSpPr>
        <p:grpSp>
          <p:nvGrpSpPr>
            <p:cNvPr id="231" name=""/>
            <p:cNvGrpSpPr/>
            <p:nvPr/>
          </p:nvGrpSpPr>
          <p:grpSpPr>
            <a:xfrm>
              <a:off x="1116000" y="2349360"/>
              <a:ext cx="1295280" cy="576000"/>
              <a:chOff x="1116000" y="2349360"/>
              <a:chExt cx="1295280" cy="576000"/>
            </a:xfrm>
          </p:grpSpPr>
          <p:sp>
            <p:nvSpPr>
              <p:cNvPr id="232" name=""/>
              <p:cNvSpPr/>
              <p:nvPr/>
            </p:nvSpPr>
            <p:spPr>
              <a:xfrm>
                <a:off x="1116000" y="234936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763640" y="234936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1187280" y="2422440"/>
              <a:ext cx="502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050920" y="2636640"/>
              <a:ext cx="72036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844720" y="2349360"/>
            <a:ext cx="1655640" cy="576000"/>
            <a:chOff x="2844720" y="2349360"/>
            <a:chExt cx="1655640" cy="576000"/>
          </a:xfrm>
        </p:grpSpPr>
        <p:grpSp>
          <p:nvGrpSpPr>
            <p:cNvPr id="237" name=""/>
            <p:cNvGrpSpPr/>
            <p:nvPr/>
          </p:nvGrpSpPr>
          <p:grpSpPr>
            <a:xfrm>
              <a:off x="2844720" y="2349360"/>
              <a:ext cx="1295280" cy="576000"/>
              <a:chOff x="2844720" y="2349360"/>
              <a:chExt cx="1295280" cy="576000"/>
            </a:xfrm>
          </p:grpSpPr>
          <p:sp>
            <p:nvSpPr>
              <p:cNvPr id="238" name=""/>
              <p:cNvSpPr/>
              <p:nvPr/>
            </p:nvSpPr>
            <p:spPr>
              <a:xfrm>
                <a:off x="2844720" y="2349360"/>
                <a:ext cx="1295280" cy="576000"/>
              </a:xfrm>
              <a:prstGeom prst="roundRect">
                <a:avLst>
                  <a:gd name="adj" fmla="val 16667"/>
                </a:avLst>
              </a:prstGeom>
              <a:solidFill>
                <a:srgbClr val="0063a7"/>
              </a:solidFill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3492360" y="2349360"/>
                <a:ext cx="0" cy="576000"/>
              </a:xfrm>
              <a:prstGeom prst="line">
                <a:avLst/>
              </a:prstGeom>
              <a:ln w="442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" name=""/>
            <p:cNvSpPr/>
            <p:nvPr/>
          </p:nvSpPr>
          <p:spPr>
            <a:xfrm>
              <a:off x="2916000" y="2422440"/>
              <a:ext cx="503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79640" y="2636640"/>
              <a:ext cx="720720" cy="0"/>
            </a:xfrm>
            <a:prstGeom prst="line">
              <a:avLst/>
            </a:prstGeom>
            <a:ln w="63360">
              <a:solidFill>
                <a:srgbClr val="ff99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572000" y="2349360"/>
            <a:ext cx="1295280" cy="576000"/>
            <a:chOff x="4572000" y="2349360"/>
            <a:chExt cx="1295280" cy="576000"/>
          </a:xfrm>
        </p:grpSpPr>
        <p:sp>
          <p:nvSpPr>
            <p:cNvPr id="243" name=""/>
            <p:cNvSpPr/>
            <p:nvPr/>
          </p:nvSpPr>
          <p:spPr>
            <a:xfrm>
              <a:off x="4572000" y="234936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19640" y="234936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4643280" y="24224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3280" y="1773360"/>
            <a:ext cx="0" cy="50328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134136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6300720" y="2349360"/>
            <a:ext cx="1295280" cy="576000"/>
            <a:chOff x="6300720" y="2349360"/>
            <a:chExt cx="1295280" cy="576000"/>
          </a:xfrm>
        </p:grpSpPr>
        <p:sp>
          <p:nvSpPr>
            <p:cNvPr id="249" name=""/>
            <p:cNvSpPr/>
            <p:nvPr/>
          </p:nvSpPr>
          <p:spPr>
            <a:xfrm>
              <a:off x="6300720" y="2349360"/>
              <a:ext cx="1295280" cy="576000"/>
            </a:xfrm>
            <a:prstGeom prst="roundRect">
              <a:avLst>
                <a:gd name="adj" fmla="val 16667"/>
              </a:avLst>
            </a:prstGeom>
            <a:solidFill>
              <a:srgbClr val="0063a7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948360" y="2349360"/>
              <a:ext cx="0" cy="576000"/>
            </a:xfrm>
            <a:prstGeom prst="line">
              <a:avLst/>
            </a:prstGeom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6372360" y="242244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4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637000"/>
            <a:ext cx="6476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883640" y="2637000"/>
            <a:ext cx="0" cy="28728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740720" y="2924280"/>
            <a:ext cx="28728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667640" y="3068640"/>
            <a:ext cx="433440" cy="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08720" y="2637000"/>
            <a:ext cx="720720" cy="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4920" y="15318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iminar el </a:t>
            </a:r>
            <a:r>
              <a:rPr b="1" lang="es-ES" sz="2400" spc="-1" strike="noStrike" u="sng">
                <a:solidFill>
                  <a:srgbClr val="ffcc00"/>
                </a:solidFill>
                <a:uFillTx/>
                <a:latin typeface="Arial"/>
              </a:rPr>
              <a:t>nodo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n la posición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4005000"/>
            <a:ext cx="822960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Buscar el nodo en la posición (i-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Tahoma"/>
              </a:rPr>
              <a:t>(Ojo con los casos de bord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Hacer que apunte al nodo en (i+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Lista Enlazada - Elimina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f( punt == nu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retur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Nodo aux = pu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nt cont = 2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while(aux.sgte != null &amp;&amp; cont &lt; i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 = aux.sg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cont++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if (aux.sgte != nul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aux.sgte = aux.sgte.sgt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obtener el i-ésimo valo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Cómo vaciar la Lista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Árboles Binar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structura de datos donde el Nodo además de la información tiene 2 punteros a Nodo denominados hijos: típicamente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izq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 y </a:t>
            </a:r>
            <a:r>
              <a:rPr b="0" lang="es-ES" sz="3200" spc="-1" strike="noStrike">
                <a:solidFill>
                  <a:srgbClr val="ffcc00"/>
                </a:solidFill>
                <a:latin typeface="Tahoma"/>
              </a:rPr>
              <a:t>der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51280" y="3645000"/>
            <a:ext cx="1008000" cy="1008000"/>
          </a:xfrm>
          <a:prstGeom prst="ellipse">
            <a:avLst/>
          </a:prstGeom>
          <a:solidFill>
            <a:srgbClr val="0063a7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347640" y="4508640"/>
            <a:ext cx="647640" cy="86508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6360" y="4510080"/>
            <a:ext cx="576360" cy="863640"/>
          </a:xfrm>
          <a:prstGeom prst="line">
            <a:avLst/>
          </a:prstGeom>
          <a:ln w="6336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843280" y="5445000"/>
            <a:ext cx="1008000" cy="1008360"/>
          </a:xfrm>
          <a:prstGeom prst="ellipse">
            <a:avLst/>
          </a:prstGeom>
          <a:solidFill>
            <a:srgbClr val="0063a7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≤ </a:t>
            </a: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88000" y="5445000"/>
            <a:ext cx="1008000" cy="1008360"/>
          </a:xfrm>
          <a:prstGeom prst="ellipse">
            <a:avLst/>
          </a:prstGeom>
          <a:solidFill>
            <a:srgbClr val="0063a7"/>
          </a:solidFill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&gt; inf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16360" y="458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izq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32360" y="4581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Arial"/>
              </a:rPr>
              <a:t>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Árboles Binar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74c6ff"/>
                </a:solidFill>
                <a:uFillTx/>
                <a:latin typeface="Arial"/>
                <a:hlinkClick r:id="rId2"/>
              </a:rPr>
              <a:t>http://www.ibr.cs.tu-bs.de/courses/ss98/audii/applets/BST/BST-Example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74c6ff"/>
                </a:solidFill>
                <a:uFillTx/>
                <a:latin typeface="Arial"/>
                <a:hlinkClick r:id="rId3"/>
              </a:rPr>
              <a:t>http://www.cs.umd.edu/~egolub/Java/BinaryTree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tatic public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[]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 ordenar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([]A</a:t>
            </a: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, int 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Static public void ordenar(String[] a, int x)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if(x == 0){ …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2800" spc="-1" strike="noStrike">
                <a:solidFill>
                  <a:srgbClr val="ffcc00"/>
                </a:solidFill>
                <a:latin typeface="Courier New"/>
              </a:rPr>
              <a:t>if(x == 1){ … 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¿ Dudas 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Pasemos a los ejercic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BR a = new BR( new FR( </a:t>
            </a: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U.readLine(“regiones.txt”) </a:t>
            </a: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)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PW a = new PW( new FW( </a:t>
            </a: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U.readLine(“provincias.txt”) </a:t>
            </a: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)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BR b = new BR(new FR(“regiones.txt”)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int n = 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while( b.readLine() != null 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n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String[] prov = new String[n]; int i=0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while( b.readLine() != null 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prov[i] = b.readLin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i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while( (l=a.readLine()) != null 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for(n=0; n&lt;=51; ++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while((linea[n]=a.readLine())!=null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for(int i=0; i&lt;51; ++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b.println(linea[i]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a.clo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ordenar(linea,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b.close(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while(…){ while(…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if(A[k].equals(abc.substring(ind, ind+1))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A[j+1] = A[k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A[k] = “”+aux; brea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p=1, j++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static public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Lista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poner(String x, int 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{ …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Static public void poner(String x, int i)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int n = 0, </a:t>
            </a: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N = 100</a:t>
            </a: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[]s = []go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urier New"/>
              </a:rPr>
              <a:t>String[] nuevo = new String[l.largo+1]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Tahoma"/>
              </a:rPr>
              <a:t>Errores Control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Static public int indice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(String x, Lista l)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String h = l.sacar(i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s-ES" sz="3200" spc="-1" strike="noStrike">
                <a:solidFill>
                  <a:srgbClr val="ffcc00"/>
                </a:solidFill>
                <a:latin typeface="Courier New"/>
              </a:rPr>
              <a:t>//l.poner(h,i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  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urier New"/>
              </a:rPr>
              <a:t>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3:47:08Z</dcterms:created>
  <dc:creator>Julio</dc:creator>
  <dc:description/>
  <dc:language>en-US</dc:language>
  <cp:lastModifiedBy>jvillane</cp:lastModifiedBy>
  <dcterms:modified xsi:type="dcterms:W3CDTF">2007-06-20T02:15:47Z</dcterms:modified>
  <cp:revision>32</cp:revision>
  <dc:subject/>
  <dc:title>CC100 04 - Computación I Auxiliar Nº 1</dc:title>
</cp:coreProperties>
</file>