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4A5-DBBE-4ECA-BEC8-71EEBBBB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016-A73A-4E5F-8994-84827129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AC8-715D-43A3-9A51-B7EC08B9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125-02F1-4189-812E-40C5A82D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3712-5C89-457A-A0CE-93016CB7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22B1-60DB-45D9-8CE7-543ADB7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F4C1-0867-4175-AD04-EAC6CBD0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1FD-A2D0-433A-AA2B-9A87EAB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B68-5FEC-4215-922A-A3356E9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7249-C22D-40B7-9A4A-01785EB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8677-E263-47E4-9843-E37BF9D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9B6-62F6-47DB-A190-9F20EA7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F023-D9B2-4E7F-84D9-A42867B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5C9A-0095-4976-B41F-AF6FDFA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8BC1-4716-4C01-963E-EA4EA70D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4255-574C-42A6-845D-E7D86588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993-CFAF-4B8D-84FE-76361CAB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03B-1863-4341-A9FA-CEF4AC2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769-13A1-4F7E-8590-9C145AF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1C9-A08C-44F8-B378-5105D70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C86-EE96-44A7-8E9D-70AE356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99A-5CFE-4451-996B-57E478C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E68-7AB0-4142-89F0-B6DE43F6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6BD-AF91-48F7-B25A-FE7571B5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F64-E007-4568-9BC0-D36D70D59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331-F820-4281-85FD-4E4C0028A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e.unb.ca/brp/lib/java/bubblesort/" TargetMode="External"/><Relationship Id="rId3" Type="http://schemas.openxmlformats.org/officeDocument/2006/relationships/hyperlink" Target="http://www.ece.unb.ca/brp/lib/java/bubblesort/" TargetMode="External"/><Relationship Id="rId4" Type="http://schemas.openxmlformats.org/officeDocument/2006/relationships/hyperlink" Target="http://www.ndsu.nodak.edu/instruct/juell/vp/cs1and2/sortdemo/BubbleSortDemo_ny.html" TargetMode="External"/><Relationship Id="rId5" Type="http://schemas.openxmlformats.org/officeDocument/2006/relationships/hyperlink" Target="http://web.engr.oregonstate.edu/~minoura/cs261/javaProgs/sort/BubbleSort.html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cribir una función que busque un String en un arreg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orne un boo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torne el índice de su primera apar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Búsque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chars, enteros, real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arreglos de otras Cl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mplos de Búsque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la forma de optimizar la búsqueda en arregl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Orden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597040" cy="194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Bubble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bubble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://www.ece.unb.ca/brp/lib/java/bubblesor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4"/>
              </a:rPr>
              <a:t>http://www.ndsu.nodak.edu/instruct/juell/vp/cs1and2/sortdemo/BubbleSortDemo_n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74c6ff"/>
                </a:solidFill>
                <a:uFillTx/>
                <a:latin typeface="Arial"/>
                <a:hlinkClick r:id="rId5"/>
              </a:rPr>
              <a:t>http://web.engr.oregonstate.edu/~minoura/cs261/javaProgs/sort/BubbleSor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erge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merge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Quick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quick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nsertionS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wanginator.de/studium/applets/insertionsort_e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imero el swap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private static void swap (int[] a, int i, int j)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int h = a[i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i] = a[j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j] = h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imero el swap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private static void swap (</a:t>
            </a:r>
            <a:r>
              <a:rPr b="1" lang="es-ES" sz="21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[] a, int i, int j)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 h = a[i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i] = a[j]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a[j] = h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nt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]&gt;a[j+1]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omparar a[j] con a[j+1]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adaptar BubleSo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static void bubblesort (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&lt;Clase&gt;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[] a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i=1; i&lt;a.length; i++) {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for(int j=0; j&lt;a.length-i; j++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f (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].compareTo(a[j+1]) &gt; 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s-ES" sz="2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(a, j, j+1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5460840"/>
            <a:ext cx="59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¿ a.compareTo(b)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597040" cy="194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.compareTo(b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étodo que me sirve para comparar objetos de un mismo tip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torna un enter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lt;0 si a&lt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gt;0 si a&gt;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0 si a=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eamos un ejemplo en Complej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46084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6-06T04:13:14Z</dcterms:modified>
  <cp:revision>22</cp:revision>
  <dc:subject/>
  <dc:title>CC100 04 - Computación I Auxiliar Nº 1</dc:title>
</cp:coreProperties>
</file>