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0A7-8B2D-4A31-8178-01DB20E7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74A-5C27-4A5D-8E01-AAE5AEBC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7FE-9921-43E7-AEFE-0A111A91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AF3-9D8B-4B12-A92B-7C792528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DAD8-5CD5-4E53-8D12-42E14E58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F547-C432-4B77-8577-F8165177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2A04-EDE2-4E05-92CB-3D1DD339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9DA6-3A8E-4F0E-B1DA-13102F5D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67BF-435E-47A2-9B4A-ACD64924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0820-7532-4B49-B75E-4C1897BD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72ED-FBF3-4B66-B945-C1E25BE2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9B2-475B-4686-9062-3308F56B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511F-91A1-43CA-8C10-992BD1E7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E254-79E6-4140-A464-95B121EA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B931-FD4A-4665-9B42-5A282897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70B0-E670-4621-9E77-9706D4F3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5AAD-8E8A-4817-8098-E4A3CAB5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B60-A0FE-49E9-BA2F-414F376A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B46-D963-4363-811D-4248C6FA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FEA-9649-4A33-B8C5-F59D29F1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74B-E261-4D10-A197-33C1BD63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5CA-7A54-4FCC-80DA-A4F01AF5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988-B35F-44F4-AA09-F22ADFD3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CA0-AB76-4514-AF21-0EEE54C4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C071-616D-4DD9-9A75-F674FA71E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3B1D-678A-4617-B67A-D7F0988F4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e.unb.ca/brp/lib/java/bubblesort/" TargetMode="External"/><Relationship Id="rId3" Type="http://schemas.openxmlformats.org/officeDocument/2006/relationships/hyperlink" Target="http://www.ece.unb.ca/brp/lib/java/bubblesort/" TargetMode="External"/><Relationship Id="rId4" Type="http://schemas.openxmlformats.org/officeDocument/2006/relationships/hyperlink" Target="http://www.ndsu.nodak.edu/instruct/juell/vp/cs1and2/sortdemo/BubbleSortDemo_ny.html" TargetMode="External"/><Relationship Id="rId5" Type="http://schemas.openxmlformats.org/officeDocument/2006/relationships/hyperlink" Target="http://web.engr.oregonstate.edu/~minoura/cs261/javaProgs/sort/BubbleSort.html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cribir una función que busque un String en un arreg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torne un bool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torne el índice de su primera apar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Búsque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arreglos de chars, enteros, real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arreglos 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arreglos de otras Cl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jemplos de Búsque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Cuál es la forma de optimizar la búsqueda en arregl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5460840"/>
            <a:ext cx="59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Orden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2597040" cy="1947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BubbleS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wanginator.de/studium/applets/bubblesort_en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74c6ff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2800" spc="-1" strike="noStrike" u="sng">
                <a:solidFill>
                  <a:srgbClr val="74c6ff"/>
                </a:solidFill>
                <a:uFillTx/>
                <a:latin typeface="Arial"/>
                <a:hlinkClick r:id="rId3"/>
              </a:rPr>
              <a:t>://www.ece.unb.ca/brp/lib/java/bubblesort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74c6ff"/>
                </a:solidFill>
                <a:uFillTx/>
                <a:latin typeface="Arial"/>
                <a:hlinkClick r:id="rId4"/>
              </a:rPr>
              <a:t>http://www.ndsu.nodak.edu/instruct/juell/vp/cs1and2/sortdemo/BubbleSortDemo_ny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74c6ff"/>
                </a:solidFill>
                <a:uFillTx/>
                <a:latin typeface="Arial"/>
                <a:hlinkClick r:id="rId5"/>
              </a:rPr>
              <a:t>http://web.engr.oregonstate.edu/~minoura/cs261/javaProgs/sort/BubbleSort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ergeS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wanginator.de/studium/applets/mergesort_en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QuickS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wanginator.de/studium/applets/quicksort_en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nsertionS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wanginator.de/studium/applets/insertionsort_en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adaptar BubbleSo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imero el swap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private static void swap (int[] a, int i, int j)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int h = a[i]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a[i] = a[j]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a[j] = h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que permita efectuar votaciones para 100 candid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5460840"/>
            <a:ext cx="59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Difícil (Largo), pero se pue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adaptar BubbleSo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imero el swap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private static void swap (</a:t>
            </a:r>
            <a:r>
              <a:rPr b="1" lang="es-ES" sz="2100" spc="-1" strike="noStrike">
                <a:solidFill>
                  <a:srgbClr val="ffcc00"/>
                </a:solidFill>
                <a:latin typeface="Courier New"/>
              </a:rPr>
              <a:t>&lt;Clase&gt;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[] a, int i, int j)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100" spc="-1" strike="noStrike">
                <a:solidFill>
                  <a:srgbClr val="ffcc00"/>
                </a:solidFill>
                <a:latin typeface="Courier New"/>
              </a:rPr>
              <a:t>&lt;Clase&gt;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 h = a[i]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a[i] = a[j]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a[j] = h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adaptar BubleSo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static void bubblesort (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int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[] a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for(int i=1; i&lt;a.length; i++) {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for(int j=0; j&lt;a.length-i; j++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f (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a[j]&gt;a[j+1]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(a, j, j+1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adaptar BubleSo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static void bubblesort (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&lt;Clase&gt;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[] a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for(int i=1; i&lt;a.length; i++) {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for(int j=0; j&lt;a.length-i; j++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f (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&lt;Comparar a[j] con a[j+1]&gt;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(a, j, j+1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adaptar BubleSo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static void bubblesort (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&lt;Clase&gt;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[] a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for(int i=1; i&lt;a.length; i++) {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for(int j=0; j&lt;a.length-i; j++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f (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a[j].compareTo(a[j+1]) &gt; 0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(a, j, j+1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5460840"/>
            <a:ext cx="59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¿ a.compareTo(b) 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2597040" cy="1947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.compareTo(b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étodo que me sirve para comparar objetos de un mismo tip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orna un enter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&lt;0 si a&lt;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&gt;0 si a&gt;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0 si a=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Veamos un ejemplo en Complej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emos a los ejercic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que permita efectuar votaciones para ‘n’ candidatos, donde ‘n’ puede ser un número mu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460840"/>
            <a:ext cx="59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Difícil, no se pue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Sinónim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vector, array, aline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junto o agrupación de variables de un mismo tipo cuyo acceso se realiza a través del uso de índ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Wikip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tipo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] nombr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mbre = new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tipo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dimens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jempl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[] valores = new int[3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tring[] arg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 igual que los Strings la primera posición del arreglo corresponderá al índice 0 y la última al (largo-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: int[] a = new int[6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81120" y="4221000"/>
            <a:ext cx="4753080" cy="720720"/>
            <a:chOff x="2481120" y="4221000"/>
            <a:chExt cx="4753080" cy="720720"/>
          </a:xfrm>
        </p:grpSpPr>
        <p:sp>
          <p:nvSpPr>
            <p:cNvPr id="97" name=""/>
            <p:cNvSpPr/>
            <p:nvPr/>
          </p:nvSpPr>
          <p:spPr>
            <a:xfrm>
              <a:off x="248112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7348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548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748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984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4184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48292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0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492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1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2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3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4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5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4941720"/>
            <a:ext cx="136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Tahoma"/>
              </a:rPr>
              <a:t>a =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pueden construir arreglos de cualquier cosa, incluso de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Complejo[] cs = new Complejo[2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Button[] bs = new Button[10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String[] ss = new String[3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ro se debe de tener cuidad de inicializar correctamente cada uno de esos objetos antes de usar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 caso del arreglo de bot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or( int i = 0 ; i &lt; bs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.length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 i++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s[ i ] = new Button( “Boton ” + i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6-06T04:13:14Z</dcterms:modified>
  <cp:revision>22</cp:revision>
  <dc:subject/>
  <dc:title>CC100 04 - Computación I Auxiliar Nº 1</dc:title>
</cp:coreProperties>
</file>