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9FC-B35D-410F-898F-AB00ABA7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EB7-1322-4EB2-8189-56EE5CCF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60A-8B77-4471-9FC3-05DD93AA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519-27CB-411C-9C84-AB584992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6E4-CBCB-4F6C-8F65-403CA7A6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EB0-A553-46AD-89CA-29783FB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069-8CAD-4DE5-B127-71908D8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F1A-1A50-4A73-99C4-0266D79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327-7477-4CEF-A26C-DF8681C5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3A8-8588-4E6C-A52F-679FF71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79F-644F-4BBD-BCC5-1471C02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A89-F9C0-4EC8-978E-62C9AE3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0A7-91A0-4C78-949B-6D40AE241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0360" y="420840"/>
          <a:ext cx="8651880" cy="63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420840"/>
                    <a:ext cx="8651880" cy="63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651880" cy="68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51880" cy="68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7-06-02T16:23:08Z</dcterms:modified>
  <cp:revision>15</cp:revision>
  <dc:subject/>
  <dc:title>Sin título de diapositiva</dc:title>
</cp:coreProperties>
</file>