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60C5-88BE-4B77-BE2C-21BA33CD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EDE1-5288-4D5D-A251-C81314B4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9406-8818-4D9D-AB4A-5F3A5CAE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6F66-020A-47EB-B001-70B5C57B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882D-86D2-4049-8FDC-5A6FD267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B187-7986-48CB-B9AB-14BC452D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7337-836B-4CFC-AE7E-20B791FA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E0D6-EE18-438E-A334-B14220D1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1F4D-61FC-4E9E-9490-4A4B9E13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BCC7-C700-491D-8DEC-337BDDEC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B463-03C2-4379-B2BF-DFBD549F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AC24-4900-48AC-81D9-9BB18EDD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4AF7-FA4F-4148-BEA7-292E34379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14400" y="517680"/>
          <a:ext cx="7724880" cy="625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724880" cy="62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261000"/>
            <a:ext cx="864216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s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Objec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s StackF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gregar al comien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ero=new Nodo(x, prim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x |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y |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9280" y="223920"/>
            <a:ext cx="878544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Objec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s Stack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excepción si lista está vac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primero==null) throw new StackEmpt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recuperar prime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aux=primero.valor;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x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y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eliminar primer n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ero=primero.sgte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y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evolver prime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au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//fin class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0840" y="517680"/>
          <a:ext cx="860256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17680"/>
                    <a:ext cx="860256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54200" y="457200"/>
          <a:ext cx="8177040" cy="66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57200"/>
                    <a:ext cx="8177040" cy="66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3560" y="554040"/>
          <a:ext cx="8469360" cy="60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54040"/>
                    <a:ext cx="8469360" cy="60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44600"/>
          <a:ext cx="8506080" cy="764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4600"/>
                    <a:ext cx="8506080" cy="76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80960" y="396720"/>
          <a:ext cx="8458200" cy="690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396720"/>
                    <a:ext cx="8458200" cy="690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65200" y="480960"/>
          <a:ext cx="8205840" cy="646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480960"/>
                    <a:ext cx="8205840" cy="646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01560" y="433440"/>
          <a:ext cx="8048880" cy="71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33440"/>
                    <a:ext cx="8048880" cy="71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614520"/>
          <a:ext cx="8132760" cy="66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14520"/>
                    <a:ext cx="8132760" cy="66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04720" y="457200"/>
          <a:ext cx="8494920" cy="623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457200"/>
                    <a:ext cx="8494920" cy="62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60360" y="420840"/>
          <a:ext cx="8651880" cy="636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420840"/>
                    <a:ext cx="8651880" cy="63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79280" y="189000"/>
          <a:ext cx="8651880" cy="688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8651880" cy="688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07960" y="457200"/>
          <a:ext cx="8394840" cy="666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57200"/>
                    <a:ext cx="8394840" cy="66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01560" y="649440"/>
          <a:ext cx="82296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649440"/>
                    <a:ext cx="82296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90640" y="642960"/>
          <a:ext cx="776916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642960"/>
                    <a:ext cx="776916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4520" y="480960"/>
          <a:ext cx="8180280" cy="60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480960"/>
                    <a:ext cx="8180280" cy="60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18:37:05Z</dcterms:created>
  <dc:creator>jalvarez</dc:creator>
  <dc:description/>
  <dc:language>en-US</dc:language>
  <cp:lastModifiedBy>jalvarez</cp:lastModifiedBy>
  <cp:lastPrinted>2006-08-24T14:05:39Z</cp:lastPrinted>
  <dcterms:modified xsi:type="dcterms:W3CDTF">2007-06-02T16:23:08Z</dcterms:modified>
  <cp:revision>15</cp:revision>
  <dc:subject/>
  <dc:title>Sin título de diapositiva</dc:title>
</cp:coreProperties>
</file>