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12A8-D5A4-4305-B460-15EAAE392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E892-6627-47EC-9EFF-23197BF8C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26AC-F961-4C21-9CF1-B9668A7B9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46E6-5C2C-4294-95C1-28B46F8E5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7EE5-4113-4CE9-970C-A68455322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F584-44B6-49AD-85B6-2F2720EF2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0087-0C8C-4BED-B72C-EB3198849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D7B8-3664-43F4-9CB0-497A8A7F7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ADF8-9950-4213-AEA0-F4BB4E6AA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9518-3988-4CA9-B9B2-841BA38F4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0712-4C2C-4035-B432-83A58E0A5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4EFC-E003-43FA-B935-73DDFD7AD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A353B-B7AA-4415-81FD-825CF10D24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914400" y="517680"/>
          <a:ext cx="7724880" cy="6256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517680"/>
                    <a:ext cx="7724880" cy="62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50920" y="261000"/>
            <a:ext cx="8642160" cy="62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ternativamen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sh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Object 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rows StackFu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agregar al comienz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mero=new Nodo(x, primero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1º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urier New"/>
                <a:ea typeface="Times New Roman"/>
              </a:rPr>
              <a:t> x |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urier New"/>
                <a:ea typeface="Times New Roman"/>
              </a:rPr>
              <a:t> y |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79280" y="223920"/>
            <a:ext cx="8785440" cy="530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Objec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op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rows StackEmp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excepción si lista está vac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(primero==null) throw new StackEmpty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recuperar primer v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bject aux=primero.valor;//1º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urier New"/>
                <a:ea typeface="Times New Roman"/>
              </a:rPr>
              <a:t>x|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urier New"/>
              </a:rPr>
              <a:t>y|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eliminar primer no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mero=primero.sgte;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//1º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urier New"/>
              </a:rPr>
              <a:t>y|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devolver primer v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au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//fin class S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420840" y="517680"/>
          <a:ext cx="8602560" cy="5846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0840" y="517680"/>
                    <a:ext cx="8602560" cy="584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754200" y="457200"/>
          <a:ext cx="8177040" cy="6618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457200"/>
                    <a:ext cx="8177040" cy="661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493560" y="554040"/>
          <a:ext cx="8469360" cy="6099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560" y="554040"/>
                    <a:ext cx="8469360" cy="609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469800" y="444600"/>
          <a:ext cx="8506080" cy="7640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44600"/>
                    <a:ext cx="8506080" cy="764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480960" y="396720"/>
          <a:ext cx="8458200" cy="6905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960" y="396720"/>
                    <a:ext cx="8458200" cy="690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565200" y="480960"/>
          <a:ext cx="8205840" cy="6461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5200" y="480960"/>
                    <a:ext cx="8205840" cy="646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601560" y="433440"/>
          <a:ext cx="8048880" cy="7146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560" y="433440"/>
                    <a:ext cx="8048880" cy="714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685800" y="614520"/>
          <a:ext cx="8132760" cy="6688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614520"/>
                    <a:ext cx="8132760" cy="66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504720" y="457200"/>
          <a:ext cx="8494920" cy="6232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4720" y="457200"/>
                    <a:ext cx="8494920" cy="623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360360" y="420840"/>
          <a:ext cx="8651880" cy="6365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0360" y="420840"/>
                    <a:ext cx="8651880" cy="636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179280" y="189000"/>
          <a:ext cx="8651880" cy="6888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89000"/>
                    <a:ext cx="8651880" cy="688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507960" y="457200"/>
          <a:ext cx="8394840" cy="6667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960" y="457200"/>
                    <a:ext cx="8394840" cy="666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601560" y="649440"/>
          <a:ext cx="8229600" cy="618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560" y="649440"/>
                    <a:ext cx="8229600" cy="61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890640" y="642960"/>
          <a:ext cx="7769160" cy="586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90640" y="642960"/>
                    <a:ext cx="7769160" cy="58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614520" y="480960"/>
          <a:ext cx="8180280" cy="6064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4520" y="480960"/>
                    <a:ext cx="8180280" cy="60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6T18:37:05Z</dcterms:created>
  <dc:creator>jalvarez</dc:creator>
  <dc:description/>
  <dc:language>en-US</dc:language>
  <cp:lastModifiedBy>jalvarez</cp:lastModifiedBy>
  <cp:lastPrinted>2006-08-24T14:05:39Z</cp:lastPrinted>
  <dcterms:modified xsi:type="dcterms:W3CDTF">2007-06-02T16:23:08Z</dcterms:modified>
  <cp:revision>15</cp:revision>
  <dc:subject/>
  <dc:title>Sin título de diapositiva</dc:title>
</cp:coreProperties>
</file>