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535-D173-483A-91A8-09438477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F6B-CAA2-4FFE-B8D7-C6B38266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122-C3DC-4F8D-BFC8-606226F5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9DB-8C6F-4FE3-BDF0-DC3F3B6C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EE4-70C6-4C10-A1A5-3EF5CC10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92B-2F3C-4188-A13C-26C4D8BF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039-C7A0-4754-86C7-A5902DD0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C21-2E69-499E-BA7C-66FEB8A8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474-0598-4329-B92D-1CC4AFC8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189-D388-4D47-BBE4-B03F3D5C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BFE-2D73-4607-9469-92A4DEC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B9B-113B-40F5-A9FA-553622DA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7469-12E9-4180-95EC-3305A1FC2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0360" y="420840"/>
          <a:ext cx="8651880" cy="636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420840"/>
                    <a:ext cx="8651880" cy="63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189000"/>
          <a:ext cx="8651880" cy="68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651880" cy="68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7-06-02T16:23:08Z</dcterms:modified>
  <cp:revision>15</cp:revision>
  <dc:subject/>
  <dc:title>Sin título de diapositiva</dc:title>
</cp:coreProperties>
</file>