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5741988" cy="7650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2472-6A0F-4E60-AA13-D59EA3830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C429-5114-4388-BD9C-DAF51A7F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6DF0-FF92-498E-A31C-47460F67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CE21-C467-4EC1-A0C6-5D790846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DDE2-D656-47A1-ADA1-D2EDA030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C667-3AFA-4BE1-B121-3D616B7A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0336-7EAF-4A22-8066-65E27A49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2475-A880-42B0-95C1-7AE557AB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3F2F-1514-44FA-8BA5-841E9691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F40D-CA39-467F-88FA-1DEE2372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2297-9BB7-4AC1-A78E-B5FE4968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ED74-E77F-4189-85A2-51DB320C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F9E7-8E76-45D6-AD8B-E1FBEFA33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65080" y="606600"/>
          <a:ext cx="762012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06600"/>
                    <a:ext cx="762012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85680" y="614520"/>
          <a:ext cx="7845480" cy="634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5680" y="614520"/>
                    <a:ext cx="7845480" cy="63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54200" y="457200"/>
          <a:ext cx="8177040" cy="625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57200"/>
                    <a:ext cx="8177040" cy="62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77800" y="614520"/>
          <a:ext cx="8373960" cy="597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614520"/>
                    <a:ext cx="8373960" cy="59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93560" y="577800"/>
          <a:ext cx="819324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577800"/>
                    <a:ext cx="819324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01560" y="588960"/>
          <a:ext cx="8350200" cy="634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588960"/>
                    <a:ext cx="8350200" cy="63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28480" y="504720"/>
          <a:ext cx="8374320" cy="563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504720"/>
                    <a:ext cx="8374320" cy="563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46280" y="601560"/>
          <a:ext cx="8132760" cy="553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601560"/>
                    <a:ext cx="8132760" cy="55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14520" y="649440"/>
          <a:ext cx="8024760" cy="545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649440"/>
                    <a:ext cx="8024760" cy="54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80960" y="577800"/>
          <a:ext cx="8373960" cy="632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577800"/>
                    <a:ext cx="8373960" cy="63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85800" y="396720"/>
          <a:ext cx="784368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96720"/>
                    <a:ext cx="784368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57200" y="469800"/>
          <a:ext cx="8542440" cy="603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69800"/>
                    <a:ext cx="8542440" cy="60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6720" y="420840"/>
          <a:ext cx="8421840" cy="700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420840"/>
                    <a:ext cx="8421840" cy="70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19200" y="681120"/>
          <a:ext cx="791676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681120"/>
                    <a:ext cx="79167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38160" y="517680"/>
          <a:ext cx="7796160" cy="619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517680"/>
                    <a:ext cx="7796160" cy="61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80960" y="457200"/>
          <a:ext cx="838692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57200"/>
                    <a:ext cx="838692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80960" y="433440"/>
          <a:ext cx="8531280" cy="618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33440"/>
                    <a:ext cx="8531280" cy="61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92000" y="568440"/>
          <a:ext cx="807732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568440"/>
                    <a:ext cx="807732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1T21:20:30Z</dcterms:created>
  <dc:creator>jalvarez</dc:creator>
  <dc:description/>
  <dc:language>en-US</dc:language>
  <cp:lastModifiedBy>jalvarez</cp:lastModifiedBy>
  <cp:lastPrinted>2006-07-21T17:48:13Z</cp:lastPrinted>
  <dcterms:modified xsi:type="dcterms:W3CDTF">2007-05-29T15:21:23Z</dcterms:modified>
  <cp:revision>20</cp:revision>
  <dc:subject/>
  <dc:title>Sin título de diapositiva</dc:title>
</cp:coreProperties>
</file>