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5741988" cy="7650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E06-C869-4A6D-98AA-BFCD06A9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EB2-DD76-49AE-8B9D-6F43B5E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4E20-373C-4A30-BDE9-0EB1DE316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BCB-C600-4D9A-9CBA-251DAB34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819-302B-4715-A573-BFAC2BA6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07B-A8CD-4F84-B695-36EB2C22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B418-BE01-4B75-84B8-43AF7C72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3A2-9D0B-44CF-BBAA-85D0F3D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3439-8319-486C-92C3-BD0A3AED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F5C-687A-4017-B49D-B48D14F0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AE1-69F4-4074-9D20-94648D07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8A0-A007-4F40-B33E-ED04189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7511-945D-4D9F-B30E-DDEC9A956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457200"/>
          <a:ext cx="817704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57200"/>
                    <a:ext cx="817704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77800" y="614520"/>
          <a:ext cx="837396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614520"/>
                    <a:ext cx="837396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3560" y="577800"/>
          <a:ext cx="81932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577800"/>
                    <a:ext cx="81932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1560" y="588960"/>
          <a:ext cx="835020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588960"/>
                    <a:ext cx="835020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28480" y="504720"/>
          <a:ext cx="8374320" cy="563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04720"/>
                    <a:ext cx="837432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46280" y="601560"/>
          <a:ext cx="8132760" cy="55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601560"/>
                    <a:ext cx="813276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4520" y="649440"/>
          <a:ext cx="8024760" cy="54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49440"/>
                    <a:ext cx="8024760" cy="54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80960" y="577800"/>
          <a:ext cx="8373960" cy="632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577800"/>
                    <a:ext cx="8373960" cy="63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469800"/>
          <a:ext cx="8542440" cy="603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9800"/>
                    <a:ext cx="8542440" cy="603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6720" y="420840"/>
          <a:ext cx="8421840" cy="700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20840"/>
                    <a:ext cx="8421840" cy="70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19200" y="681120"/>
          <a:ext cx="791676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81120"/>
                    <a:ext cx="7916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8160" y="517680"/>
          <a:ext cx="779616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517680"/>
                    <a:ext cx="779616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0960" y="457200"/>
          <a:ext cx="83869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57200"/>
                    <a:ext cx="83869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80960" y="433440"/>
          <a:ext cx="853128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33440"/>
                    <a:ext cx="853128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92000" y="568440"/>
          <a:ext cx="807732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68440"/>
                    <a:ext cx="807732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07-05-29T15:21:23Z</dcterms:modified>
  <cp:revision>20</cp:revision>
  <dc:subject/>
  <dc:title>Sin título de diapositiva</dc:title>
</cp:coreProperties>
</file>