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5741988" cy="7650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A94-16EF-43E8-8F06-25232A4A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8C3-F9CD-4CF2-B155-26C2EFE8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A3E-D5E3-4F99-835F-8CC261B1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ADF-A21D-4BED-95B5-6C562E6A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3C5-BC60-4EAF-A2D8-257BFC9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B91-9C86-4316-8C18-59BE5F2B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DD1-1DD4-42BB-B890-CF047A0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E45-11A1-475A-92DE-5EDBC302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A4E-534C-4749-BFB8-7031C907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8E4-2478-4D5F-9673-D7022F97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910-F848-4884-AEE5-C59FA96F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BCE-A576-4539-B918-AC624290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0525-794D-4A8C-8D6F-EC17C8AD9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1560" y="588960"/>
          <a:ext cx="835020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588960"/>
                    <a:ext cx="835020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4520" y="649440"/>
          <a:ext cx="8024760" cy="54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49440"/>
                    <a:ext cx="802476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57200"/>
          <a:ext cx="8386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57200"/>
                    <a:ext cx="8386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07-05-29T15:21:23Z</dcterms:modified>
  <cp:revision>20</cp:revision>
  <dc:subject/>
  <dc:title>Sin título de diapositiva</dc:title>
</cp:coreProperties>
</file>