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5741988" cy="7650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CF8-8388-4DC3-A1D8-314E8E85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8AE-5CB8-43D9-AB62-F8C4DFC3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DD2-D57A-4879-9201-480E68C1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2A8-9C4B-4C40-8D66-C6A15F93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4C1-C4D8-4ACF-85E8-919A6A1E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19A-AAE4-4468-A0B3-A30F66DC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ACF-3515-404C-BFAA-85D01C36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29B-5E03-41B3-BD58-79AFFF84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C43-B6C5-470A-B387-AEFAE029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497-8677-4162-856D-9067E8A8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82B-14B4-4A17-84FA-7C325C95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4F9-F049-484B-93BE-FB47DC07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A06A-7148-43D4-8180-C7DE603FD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1560" y="588960"/>
          <a:ext cx="835020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588960"/>
                    <a:ext cx="835020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4520" y="649440"/>
          <a:ext cx="8024760" cy="54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49440"/>
                    <a:ext cx="802476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57200"/>
          <a:ext cx="83869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57200"/>
                    <a:ext cx="83869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1:20:30Z</dcterms:created>
  <dc:creator>jalvarez</dc:creator>
  <dc:description/>
  <dc:language>en-US</dc:language>
  <cp:lastModifiedBy>jalvarez</cp:lastModifiedBy>
  <cp:lastPrinted>2006-07-21T17:48:13Z</cp:lastPrinted>
  <dcterms:modified xsi:type="dcterms:W3CDTF">2007-05-29T15:21:23Z</dcterms:modified>
  <cp:revision>20</cp:revision>
  <dc:subject/>
  <dc:title>Sin título de diapositiva</dc:title>
</cp:coreProperties>
</file>