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D781-3627-43BB-B811-ED9F4259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19C0-D3BC-483E-9F3F-2763A5F7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4D5E-A27C-47B5-93C9-E520BEF9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8A2-0F14-4F82-BBC4-AAB46742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6531-0131-49D8-96D4-869322BB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7A9B-48F5-4B4F-87A9-7CEE374C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D63D-3100-4F9B-B6D0-01D25BAC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6BD7-7809-46BA-8E9B-1493F356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5363-A515-44D2-ADCD-9B312B9C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6569-3852-4F77-8927-B8AEE8FF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B3E-6F68-412F-91E2-7B245AD2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7D18-E081-4582-B486-38CC96C5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584B-DD10-4E19-AB58-AE714F932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85920" y="396720"/>
          <a:ext cx="8600760" cy="654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396720"/>
                    <a:ext cx="8600760" cy="654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22160" y="493560"/>
          <a:ext cx="8025120" cy="606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493560"/>
                    <a:ext cx="8025120" cy="606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9800" y="409680"/>
          <a:ext cx="8445600" cy="67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9680"/>
                    <a:ext cx="8445600" cy="67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09680" y="409680"/>
          <a:ext cx="8566200" cy="72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409680"/>
                    <a:ext cx="8566200" cy="72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96720" y="396720"/>
          <a:ext cx="8602920" cy="65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396720"/>
                    <a:ext cx="8602920" cy="65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82640" y="601560"/>
          <a:ext cx="7904160" cy="604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601560"/>
                    <a:ext cx="79041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17680" y="457200"/>
          <a:ext cx="8397720" cy="626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457200"/>
                    <a:ext cx="8397720" cy="62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457200"/>
          <a:ext cx="8506080" cy="661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57200"/>
                    <a:ext cx="850608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93560" y="433440"/>
          <a:ext cx="8409240" cy="67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33440"/>
                    <a:ext cx="840924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72960" y="396720"/>
          <a:ext cx="8674200" cy="631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96720"/>
                    <a:ext cx="8674200" cy="631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3120" y="614520"/>
          <a:ext cx="7951680" cy="76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614520"/>
                    <a:ext cx="7951680" cy="76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14520" y="480960"/>
          <a:ext cx="8096040" cy="608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096040" cy="60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79400" y="619200"/>
          <a:ext cx="806472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19200"/>
                    <a:ext cx="806472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42960" y="878040"/>
          <a:ext cx="7854840" cy="509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878040"/>
                    <a:ext cx="785484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9800" y="396720"/>
          <a:ext cx="83980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96720"/>
                    <a:ext cx="83980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20840" y="568440"/>
          <a:ext cx="853596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68440"/>
                    <a:ext cx="853596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85920" y="385920"/>
          <a:ext cx="8542080" cy="648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385920"/>
                    <a:ext cx="8542080" cy="64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17680" y="649440"/>
          <a:ext cx="8350200" cy="57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350200" cy="57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16:08:35Z</dcterms:created>
  <dc:creator>jalvarez</dc:creator>
  <dc:description/>
  <dc:language>en-US</dc:language>
  <cp:lastModifiedBy>jalvarez</cp:lastModifiedBy>
  <cp:lastPrinted>2006-06-20T14:58:23Z</cp:lastPrinted>
  <dcterms:modified xsi:type="dcterms:W3CDTF">2007-05-25T12:31:12Z</dcterms:modified>
  <cp:revision>18</cp:revision>
  <dc:subject/>
  <dc:title>Sin título de diapositiva</dc:title>
</cp:coreProperties>
</file>