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994525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991E8-896A-4D66-A112-F553EC773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43249-8DD7-47FA-A3A8-1B169E008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72DF3-E0A8-4B3A-9E22-5101A4671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3C3A9-534D-424D-8008-943DCDE03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9AB6B-BBD2-4C8E-8C11-E9FC1273A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44A46-ECB5-496A-A927-EE56C1190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1F85E-18E8-4DBC-A0FA-F9AFA14A6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F32CA-D131-4403-B141-8933788E4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CC480-6953-45AE-9FBC-554DDEEFA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5DFE9-BCF6-4C13-88AC-0895700AD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DC459-83D7-4EB4-B09B-8B055D500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BBCE1-1F6E-4C0D-B575-52A2466F6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CF7EB-ABA1-4C8C-BEA5-47B34AA3B0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385920" y="396720"/>
          <a:ext cx="8600760" cy="6545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5920" y="396720"/>
                    <a:ext cx="8600760" cy="654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722160" y="493560"/>
          <a:ext cx="8025120" cy="6064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2160" y="493560"/>
                    <a:ext cx="8025120" cy="606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469800" y="409680"/>
          <a:ext cx="8445600" cy="6724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409680"/>
                    <a:ext cx="8445600" cy="672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409680" y="409680"/>
          <a:ext cx="8566200" cy="7254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9680" y="409680"/>
                    <a:ext cx="8566200" cy="725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396720" y="396720"/>
          <a:ext cx="8602920" cy="6581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6720" y="396720"/>
                    <a:ext cx="8602920" cy="658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782640" y="601560"/>
          <a:ext cx="7904160" cy="6040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2640" y="601560"/>
                    <a:ext cx="7904160" cy="604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517680" y="457200"/>
          <a:ext cx="8397720" cy="6269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7680" y="457200"/>
                    <a:ext cx="8397720" cy="626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469800" y="457200"/>
          <a:ext cx="8506080" cy="6616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457200"/>
                    <a:ext cx="8506080" cy="661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493560" y="433440"/>
          <a:ext cx="8409240" cy="6797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3560" y="433440"/>
                    <a:ext cx="8409240" cy="679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372960" y="396720"/>
          <a:ext cx="8674200" cy="6316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2960" y="396720"/>
                    <a:ext cx="8674200" cy="631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843120" y="614520"/>
          <a:ext cx="7951680" cy="7615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3120" y="614520"/>
                    <a:ext cx="7951680" cy="761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614520" y="480960"/>
          <a:ext cx="8096040" cy="6087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4520" y="480960"/>
                    <a:ext cx="8096040" cy="608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779400" y="619200"/>
          <a:ext cx="8064720" cy="5875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9400" y="619200"/>
                    <a:ext cx="8064720" cy="587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642960" y="878040"/>
          <a:ext cx="7854840" cy="5097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2960" y="878040"/>
                    <a:ext cx="7854840" cy="509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469800" y="396720"/>
          <a:ext cx="8398080" cy="6473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396720"/>
                    <a:ext cx="8398080" cy="647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420840" y="568440"/>
          <a:ext cx="8535960" cy="6037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0840" y="568440"/>
                    <a:ext cx="8535960" cy="603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385920" y="385920"/>
          <a:ext cx="8542080" cy="6484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5920" y="385920"/>
                    <a:ext cx="8542080" cy="648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517680" y="649440"/>
          <a:ext cx="8350200" cy="5775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7680" y="649440"/>
                    <a:ext cx="8350200" cy="577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4T16:08:35Z</dcterms:created>
  <dc:creator>jalvarez</dc:creator>
  <dc:description/>
  <dc:language>en-US</dc:language>
  <cp:lastModifiedBy>jalvarez</cp:lastModifiedBy>
  <cp:lastPrinted>2006-06-20T14:58:23Z</cp:lastPrinted>
  <dcterms:modified xsi:type="dcterms:W3CDTF">2007-05-25T12:31:12Z</dcterms:modified>
  <cp:revision>18</cp:revision>
  <dc:subject/>
  <dc:title>Sin título de diapositiva</dc:title>
</cp:coreProperties>
</file>