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E14-88CB-4DEF-9CB1-689970B2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12A-8007-491B-9626-58B7E556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06A-1C1D-4E00-A318-EDF6030A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D29-16B5-41BB-8BAA-5494CC0F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230-9C1F-4AC6-9221-5B804528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27E-639A-4FA7-8DBE-4AA411E3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955-B71B-4E98-89F3-3846FBF0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EF2-020E-4958-841D-C869D40E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0F0-F518-4C81-A306-2E681A7F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1D4-269B-4103-9048-448EFF42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D14-D784-47D1-8CE0-59E56A98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73C-D799-4E55-8080-129C54A7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4AFA-6E36-448F-8E26-52A6BA03F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5920" y="396720"/>
          <a:ext cx="8600760" cy="654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96720"/>
                    <a:ext cx="8600760" cy="654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409680"/>
          <a:ext cx="8445600" cy="67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9680"/>
                    <a:ext cx="844560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9680" y="409680"/>
          <a:ext cx="8566200" cy="72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09680"/>
                    <a:ext cx="8566200" cy="72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6720" y="396720"/>
          <a:ext cx="860292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396720"/>
                    <a:ext cx="860292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457200"/>
          <a:ext cx="8397720" cy="62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57200"/>
                    <a:ext cx="8397720" cy="62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50608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5060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3560" y="433440"/>
          <a:ext cx="840924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4092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2960" y="396720"/>
          <a:ext cx="8674200" cy="63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74200" cy="63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20840" y="568440"/>
          <a:ext cx="85359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8440"/>
                    <a:ext cx="85359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7-05-25T12:31:12Z</dcterms:modified>
  <cp:revision>18</cp:revision>
  <dc:subject/>
  <dc:title>Sin título de diapositiva</dc:title>
</cp:coreProperties>
</file>