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0A0-9DE2-4442-B47E-4325724D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A28A-722F-4B57-87AD-C3038A4C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FDF-A1BD-4780-B165-C89E6926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66D-1896-4F59-A482-D3247C11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32FB-1DFC-40D3-A95F-41813B4C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4C3-04D7-4853-ADB4-04195152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8BED-5064-4842-9DBF-4C7B2435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4B5-502B-49C9-8F2F-0A6BD302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0E6-8ED1-49B5-85EB-5D2E52F4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0F2-9354-4EFA-8352-F3A8E333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C45-2162-4C73-85E0-9AB90CC8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92C-29F6-4DB7-A929-A0F7A4B2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0738-B6F2-4FC5-A40E-507DBB269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85920" y="396720"/>
          <a:ext cx="8600760" cy="654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96720"/>
                    <a:ext cx="8600760" cy="654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22160" y="493560"/>
          <a:ext cx="8025120" cy="60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493560"/>
                    <a:ext cx="8025120" cy="60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409680"/>
          <a:ext cx="8445600" cy="67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9680"/>
                    <a:ext cx="8445600" cy="67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9680" y="409680"/>
          <a:ext cx="8566200" cy="72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409680"/>
                    <a:ext cx="8566200" cy="72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96720" y="396720"/>
          <a:ext cx="8602920" cy="65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396720"/>
                    <a:ext cx="860292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82640" y="601560"/>
          <a:ext cx="7904160" cy="604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601560"/>
                    <a:ext cx="79041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7680" y="457200"/>
          <a:ext cx="8397720" cy="626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57200"/>
                    <a:ext cx="8397720" cy="62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57200"/>
          <a:ext cx="850608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57200"/>
                    <a:ext cx="850608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93560" y="433440"/>
          <a:ext cx="8409240" cy="67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33440"/>
                    <a:ext cx="840924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72960" y="396720"/>
          <a:ext cx="8674200" cy="63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96720"/>
                    <a:ext cx="8674200" cy="63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3120" y="614520"/>
          <a:ext cx="7951680" cy="76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14520"/>
                    <a:ext cx="7951680" cy="76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14520" y="480960"/>
          <a:ext cx="8096040" cy="60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096040" cy="60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79400" y="619200"/>
          <a:ext cx="806472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19200"/>
                    <a:ext cx="806472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9800" y="396720"/>
          <a:ext cx="83980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96720"/>
                    <a:ext cx="83980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20840" y="568440"/>
          <a:ext cx="853596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8440"/>
                    <a:ext cx="853596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5920" y="385920"/>
          <a:ext cx="8542080" cy="64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85920"/>
                    <a:ext cx="8542080" cy="64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17680" y="649440"/>
          <a:ext cx="835020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35020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6:08:35Z</dcterms:created>
  <dc:creator>jalvarez</dc:creator>
  <dc:description/>
  <dc:language>en-US</dc:language>
  <cp:lastModifiedBy>jalvarez</cp:lastModifiedBy>
  <cp:lastPrinted>2006-06-20T14:58:23Z</cp:lastPrinted>
  <dcterms:modified xsi:type="dcterms:W3CDTF">2007-05-25T12:31:12Z</dcterms:modified>
  <cp:revision>18</cp:revision>
  <dc:subject/>
  <dc:title>Sin título de diapositiva</dc:title>
</cp:coreProperties>
</file>