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4CB-A555-4B7D-BC11-9CED866B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5E9-1512-478B-B8F1-F5857641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2BA-1120-4570-B23F-D534ADCA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FF8-5670-432F-8369-BC46B9DD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347F-479C-48E3-B9E9-63EB5E22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9152-6459-43E5-877B-12CFAE53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4A0C-EEC0-40EB-9B1F-FF93D50F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4273-EE3C-4DCD-A700-F9528B69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D08F-4B3A-4A50-B147-6FC40705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1601-1A83-4838-82D7-C5145B86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5E78-CF99-49A4-97A1-ECF21F7C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3A1-4E2A-4B73-8AC0-B2B85A47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5A76-C72B-4B81-9756-3813B100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5214-76BE-4FDA-AA9F-D77E1C2C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39E8-BC8E-473F-B8C4-84282B2F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AA07-0E42-4639-A790-97520898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A638-D23C-4304-BA0B-B82C8A7B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4B7-EB5D-454C-9000-42E2587E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DEE-4502-469A-BCA2-2E63227E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26D-FCE7-4B93-A11F-B9CA7474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53D7-33AE-40CC-A8B8-93983EAE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91D-005E-43E1-9B10-DF13CCA3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BE2-C499-4ACF-B3FE-973EDD43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7A6-685D-4773-A6F0-45161A2E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462A-66B3-42E1-901F-CCD759B23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8E11-96C1-4D49-A208-6738C58A8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4560" y="2421000"/>
            <a:ext cx="72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amplificar(double k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k*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k*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jemplo 1 con parámetr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2.amplificar(3.0);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-1-3i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-3-9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4560" y="2421000"/>
            <a:ext cx="72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a = a+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sumar(Complejo c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real+c.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imag+c.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jemplo 2 con parámetr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mplejo c3 = new Complejo(2,1);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2+1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2.sumar(c3);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      //-3-9i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-1-8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4560" y="2276640"/>
            <a:ext cx="727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return a+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 suma(Complejo c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ouble r = real+c.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ouble i = imag+c.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turn new Complejo(r,j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jemplo 3 con parámetr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589720"/>
            <a:ext cx="8291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mplejo c4 = c2.suma(c3);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(-1-8i)+(2+1i)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1-7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Método Espe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42100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(&lt;real&gt;, &lt;imag&gt;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String toString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turn "("+real+", "+imag+"i)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4653000"/>
            <a:ext cx="84358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System.out.println(c4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Sin Método toString: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mplejo@19821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n Método toString: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(1, -7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Herenc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Veámoslo en un ejemplo con las clases Circulo y Cilindr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– Interfaces Gráf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Interfaces Gráf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struir la siguiente interfaz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411280" y="2852640"/>
            <a:ext cx="4314960" cy="293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visemos el C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Se viene el Control Recuperativ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1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if, while, funciones, String, Recursivid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rch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l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er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terfaces Gráficas (AWT, JSw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Arch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ectura de Arch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import java.io.* - throws IOExcept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ufferedReader b = new BufferedReader(new FileReader(“archivo.txt”)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tring line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while( (linea = b.readLine()) != null 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//acá usamos li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.clos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scritura de Arch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import java.io.* - throws IOExcep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intWriter p = new PrintWriter(new FileWriter(“archivo.txt”)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while( &lt;condicion&gt; 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println(&lt;string&gt;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clos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Variables de Instancia: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orresponden a las variables que definen el obj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jemplo: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30920" indent="-165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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un Complejo lo definen dos variables reales, la parte real y la parte imagin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4165560"/>
            <a:ext cx="51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rivate double 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rivate double 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onstructores: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finen la forma de instanci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301788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0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0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38560" y="3017880"/>
            <a:ext cx="482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dou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, double imag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this.real = 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this.imag = 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mplejo c1 = new Complejo();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0+0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mplejo c2 = new Complejo(1,3);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1+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Métodos: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finen el comportamiento del obj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jemplo sin parámetr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352728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invertir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-1*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-1*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5734080"/>
            <a:ext cx="8435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2.invertir();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-1-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ulio Villane S</cp:lastModifiedBy>
  <dcterms:modified xsi:type="dcterms:W3CDTF">2007-05-29T07:24:59Z</dcterms:modified>
  <cp:revision>17</cp:revision>
  <dc:subject/>
  <dc:title>CC100 04 - Computación I Auxiliar Nº 1</dc:title>
</cp:coreProperties>
</file>