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CDA-BA50-40CF-A0CF-C63CFB71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B87-92D8-4918-8750-01F76CE9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C0A-27D0-425F-953B-4787A132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D11-4E8F-41AB-8625-C1E421AE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4193-E19E-44CD-8238-9D140BCD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5ED6-A813-41AD-B6C7-146B18AB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464C-D75E-4795-9B73-49FEA5F7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67BD-3143-4CD3-8C3E-E03D5581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E73B-4DC1-4B4C-80B7-D4519E2D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707A-0121-4E7A-B466-3E95A9D3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AAFE-D798-4567-A5EF-C77032B3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A18-44C5-43E0-BE52-324285EF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E9F0-9D0F-49A1-B311-0561A92A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F740-7A65-4EA7-8C70-D19A62E4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4183-2756-42DA-B07E-96C49663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9C54-4A3D-4A60-87CF-7DF7F103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6011-DA92-4DA6-B29D-DD2DE014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C4B2-45DE-4D51-ACB0-E6B83E01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3833-9DF7-479D-ACDA-C840B17A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D41-F128-45FE-800E-3EE890B6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E93-F213-478F-9F79-8A0E288A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966A-B4DC-40D5-85F2-45899434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C2A4-2319-46F0-B578-F2A5345C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1BF3-09C7-495A-842D-F3A5D95B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1878-8281-4179-8596-84C68B5059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D22E-7F51-4095-A19B-2D219BF7E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4560" y="2421000"/>
            <a:ext cx="727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amplificar(double k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k*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k*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jemplo 1 con parámetr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2.amplificar(3.0);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-1-3i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-3-9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4560" y="2421000"/>
            <a:ext cx="72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a = a+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sumar(Complejo c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real+c.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imag+c.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jemplo 2 con parámetr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mplejo c3 = new Complejo(2,1);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2+1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2.sumar(c3);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      //-3-9i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-1-8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4560" y="2276640"/>
            <a:ext cx="727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return a+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 suma(Complejo c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ouble r = real+c.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double i = imag+c.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turn new Complejo(r,j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jemplo 3 con parámetr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589720"/>
            <a:ext cx="82915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mplejo c4 = c2.suma(c3);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(-1-8i)+(2+1i) 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1-7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Método Espe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42100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//(&lt;real&gt;, &lt;imag&gt;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String toString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turn "("+real+", "+imag+"i)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4653000"/>
            <a:ext cx="84358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System.out.println(c4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Sin Método toString: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mplejo@19821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n Método toString: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(1, -7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Herenc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Herenc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Veámoslo en un ejemplo con las clases Circulo y Cilindr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– Interfaces Gráf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Interfaces Gráfic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struir la siguiente interfaz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411280" y="2852640"/>
            <a:ext cx="4314960" cy="2935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visemos el C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Se viene el Control Recuperativ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1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if, while, funciones, String, Recursivida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rch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l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er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terfaces Gráficas (AWT, JSw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Arch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ectura de Arch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import java.io.* - throws IOExcept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ufferedReader b = new BufferedReader(new FileReader(“archivo.txt”)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tring line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while( (linea = b.readLine()) != null 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//acá usamos lin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.clos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scritura de Arch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(import java.io.* - throws IOExcep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intWriter p = new PrintWriter(new FileWriter(“archivo.txt”)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while( &lt;condicion&gt; 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println(&lt;string&gt;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.clos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Repaso - 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Variables de Instancia: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orresponden a las variables que definen el obj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98720" indent="-19872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jemplo: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30920" indent="-165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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un Complejo lo definen dos variables reales, la parte real y la parte imagin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4165560"/>
            <a:ext cx="51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rivate double 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rivate double 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Constructores: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finen la forma de instanci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301788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0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0.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38560" y="3017880"/>
            <a:ext cx="482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Complejo(dou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, double imag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this.real = 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this.imag = 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537372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mplejo c1 = new Complejo();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0+0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omplejo c2 = new Complejo(1,3);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1+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Cl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Métodos: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finen el comportamiento del obje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Ejemplo sin parámetr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3527280"/>
            <a:ext cx="72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public void invertir(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real = -1*rea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imag = -1*im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5734080"/>
            <a:ext cx="8435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2.invertir();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//-1-3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ulio Villane S</cp:lastModifiedBy>
  <dcterms:modified xsi:type="dcterms:W3CDTF">2007-05-29T07:24:59Z</dcterms:modified>
  <cp:revision>17</cp:revision>
  <dc:subject/>
  <dc:title>CC100 04 - Computación I Auxiliar Nº 1</dc:title>
</cp:coreProperties>
</file>