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BA4-A9B6-47BF-8B8A-A9A844D2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05F-A10F-48EF-8A68-F7D4FFD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863-9065-48BD-BE8E-DD5B5F83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B6C-A2B1-4D2E-B955-ACD91CDC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07BD-657A-4412-8517-34988A6F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2425-722E-46B1-9069-BCFB22C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F496-08EF-49D2-BB28-78D654E8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C09A-0B88-4C97-AE81-563C4942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6C8F-2FB7-4BE6-B2EB-40A8FE1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1626-3369-4922-9387-2D09A9E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5146-E490-4391-AFD9-C6C5AE5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82F-02D5-41D0-81E5-C802E59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731-A122-4120-8A1F-B259D2EE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A17C-BF2D-44A2-81F7-8949A35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B2D-3239-4F20-A0FC-33014DA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A101-CE34-4321-BB46-9F91CEFD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945-8024-4732-8F3E-93BD004C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58B-B773-4351-88A4-AD605691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8C9-4F39-421D-AB0E-479CC39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3D9-43EB-4A04-B078-22669D7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A13-F30B-4397-B09E-D25C42BD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CFC-E0CD-433D-8321-74334B4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294-6214-42E6-A88D-CC12FDC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86C-5465-49CB-888B-7F69ABD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55C3-F14D-4920-82CF-D79BFE938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3B64-F6C8-4E70-9274-0557B2282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eámoslo en un ejemplo con las clases Circulo y Cilindr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– 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ruir la siguiente interfaz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31496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C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e viene el Control Recuper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1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f, while, funciones, String, Recursivid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ch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erfaces Gráficas (AWT, JSw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ec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ufferedReader b = new BufferedReader(new FileRead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 lin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(linea = b.readLine()) != null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//acá usamos li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cri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ntWriter p = new PrintWriter(new FileWrit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&lt;condicion&gt;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println(&lt;string&gt;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29T07:24:59Z</dcterms:modified>
  <cp:revision>17</cp:revision>
  <dc:subject/>
  <dc:title>CC100 04 - Computación I Auxiliar Nº 1</dc:title>
</cp:coreProperties>
</file>