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E91-F621-40FD-9EB9-83018DCF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0EB-7E05-48B0-B049-6C61736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7EE-4457-44F0-8747-43F7732A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D34-D260-4206-B318-925B9A9F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590-CE75-4AD0-A468-4CE7BC12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926-1D77-4166-A6CD-32FBC722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4B3-DBA7-4217-AD5A-BBD40338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064-5C35-41F2-AF94-4736BCA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208-5553-4061-8AAA-BC82556E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F58-1AA8-459A-9814-6E871D5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5C5-F649-44E8-B541-1F284A79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F25-1D27-489A-93CB-A31D56F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608-9008-485A-B1E3-220EF0B6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35000" y="698400"/>
          <a:ext cx="7977240" cy="660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98400"/>
                    <a:ext cx="7977240" cy="66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9156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9156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765000"/>
          <a:ext cx="8350200" cy="55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3502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593640"/>
          <a:ext cx="807732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7732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76400" y="717480"/>
          <a:ext cx="753264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17480"/>
                    <a:ext cx="753264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1720" y="630360"/>
          <a:ext cx="843624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30360"/>
                    <a:ext cx="84362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6800" y="60660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0660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68440" y="544680"/>
          <a:ext cx="83628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44680"/>
                    <a:ext cx="83628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730080"/>
          <a:ext cx="816480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8164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69800" y="577800"/>
          <a:ext cx="8253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253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20840"/>
          <a:ext cx="8253360" cy="64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20840"/>
                    <a:ext cx="825336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420840"/>
          <a:ext cx="845820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4582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7-05-15T16:02:19Z</dcterms:modified>
  <cp:revision>15</cp:revision>
  <dc:subject/>
  <dc:title>Sin título de diapositiva</dc:title>
</cp:coreProperties>
</file>