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F1F-B18D-419F-8A49-6B6F3E40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DA7-4C9B-43AF-BE3B-51F488C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3D1-45BF-4A0B-BF49-77985F7E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323-CE16-4141-8578-78F28B7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67C-00C6-455F-B580-5DCB30D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6B7-C212-4FA9-B327-5F415B52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1C9-B3E6-4513-81D4-27E38B9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9D8-CC9A-4660-B377-020AE2A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338-22AE-4CD4-BBFE-1F19F86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DE7-99EE-44BF-9B1A-E9C71FC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175-8189-46D3-9FEB-C134AB5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505-9FA3-42A2-99DC-29E2544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638B-55AE-4761-912F-AFD14BEDA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35000" y="698400"/>
          <a:ext cx="7977240" cy="660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98400"/>
                    <a:ext cx="7977240" cy="66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9156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9156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765000"/>
          <a:ext cx="8350200" cy="55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3502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593640"/>
          <a:ext cx="807732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7732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76400" y="717480"/>
          <a:ext cx="753264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17480"/>
                    <a:ext cx="753264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1720" y="630360"/>
          <a:ext cx="84362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30360"/>
                    <a:ext cx="84362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6800" y="60660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0660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68440" y="544680"/>
          <a:ext cx="83628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44680"/>
                    <a:ext cx="83628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730080"/>
          <a:ext cx="816480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8164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69800" y="577800"/>
          <a:ext cx="8253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253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20840"/>
          <a:ext cx="8253360" cy="64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20840"/>
                    <a:ext cx="825336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420840"/>
          <a:ext cx="845820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4582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7-05-15T16:02:19Z</dcterms:modified>
  <cp:revision>15</cp:revision>
  <dc:subject/>
  <dc:title>Sin título de diapositiva</dc:title>
</cp:coreProperties>
</file>