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A80-2B30-4342-B123-C81C0510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E98-ADAC-4AFD-BFFC-DB5DCD05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ACE-3D44-43D1-A960-97C775DE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567-713E-4112-8CB4-92A76289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392-D624-4E41-B0FB-401DE26D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D48-9617-442C-889C-B98577B3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C4A-BA49-4BC5-B9E6-052CE70F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BF9-7A49-4E59-8A0E-8B3EAB84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E89-4D6D-4BC3-A9BC-2FC676CA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058-F84E-43B2-AD2F-C4A49C1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6F9-1F48-47DB-A1DE-B04FAC7B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F42-603D-4CB4-80D5-D6AB3889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B787-9E3D-4F41-9D71-0549B8FC4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35000" y="698400"/>
          <a:ext cx="7977240" cy="660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98400"/>
                    <a:ext cx="7977240" cy="660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606600"/>
          <a:ext cx="789156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9156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765000"/>
          <a:ext cx="8350200" cy="55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83502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17480" y="593640"/>
          <a:ext cx="807732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7732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76400" y="717480"/>
          <a:ext cx="7532640" cy="533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17480"/>
                    <a:ext cx="753264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1720" y="630360"/>
          <a:ext cx="843624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30360"/>
                    <a:ext cx="843624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6800" y="606600"/>
          <a:ext cx="795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06600"/>
                    <a:ext cx="795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68440" y="544680"/>
          <a:ext cx="83628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44680"/>
                    <a:ext cx="83628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30080" y="730080"/>
          <a:ext cx="816480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730080"/>
                    <a:ext cx="816480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69800" y="577800"/>
          <a:ext cx="8253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77800"/>
                    <a:ext cx="8253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20840"/>
          <a:ext cx="8253360" cy="64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20840"/>
                    <a:ext cx="825336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420840"/>
          <a:ext cx="845820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20840"/>
                    <a:ext cx="84582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7-05-15T16:02:19Z</dcterms:modified>
  <cp:revision>15</cp:revision>
  <dc:subject/>
  <dc:title>Sin título de diapositiva</dc:title>
</cp:coreProperties>
</file>