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BA65-0316-46EC-9F33-711F2C73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006D-13A0-4F79-BC00-5DBE712C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68D-51E8-400A-AAD3-672D8AF8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AB43-3CE8-46FA-A3B5-C22D27BB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5205-60ED-4E50-8257-96B8B536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3EB6-A1E7-4AD4-BC70-E9B1DCB7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ED4-DA4A-4024-9131-298DA1DF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ED0-ED5B-48FF-BE47-EB0A6800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A81F-0DD8-411B-AF00-E4AE3B67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F6D-8304-4081-B255-D0E9B866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C5F6-85F9-49C3-9281-0D6A5FB1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812-A2A7-4228-A16C-C0DA5485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A468-AC5C-488D-BD06-7B747D5F7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92280" y="531720"/>
          <a:ext cx="814068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31720"/>
                    <a:ext cx="814068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35000" y="698400"/>
          <a:ext cx="7977240" cy="660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698400"/>
                    <a:ext cx="7977240" cy="660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65160" y="606600"/>
          <a:ext cx="789156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9156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11280" y="765000"/>
          <a:ext cx="8350200" cy="55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65000"/>
                    <a:ext cx="8350200" cy="55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17480" y="593640"/>
          <a:ext cx="807732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93640"/>
                    <a:ext cx="807732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76400" y="717480"/>
          <a:ext cx="7532640" cy="533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717480"/>
                    <a:ext cx="753264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31720" y="630360"/>
          <a:ext cx="843624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630360"/>
                    <a:ext cx="843624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66800" y="606600"/>
          <a:ext cx="79549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06600"/>
                    <a:ext cx="79549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68440" y="544680"/>
          <a:ext cx="836280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44680"/>
                    <a:ext cx="836280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30080" y="730080"/>
          <a:ext cx="816480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730080"/>
                    <a:ext cx="816480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69800" y="577800"/>
          <a:ext cx="825336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77800"/>
                    <a:ext cx="825336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0960" y="420840"/>
          <a:ext cx="8253360" cy="64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20840"/>
                    <a:ext cx="8253360" cy="64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3440" y="420840"/>
          <a:ext cx="845820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20840"/>
                    <a:ext cx="84582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13:24:06Z</dcterms:created>
  <dc:creator>jalvarez</dc:creator>
  <dc:description/>
  <dc:language>en-US</dc:language>
  <cp:lastModifiedBy>jalvarez</cp:lastModifiedBy>
  <cp:lastPrinted>2006-10-02T18:34:45Z</cp:lastPrinted>
  <dcterms:modified xsi:type="dcterms:W3CDTF">2007-05-15T16:02:19Z</dcterms:modified>
  <cp:revision>15</cp:revision>
  <dc:subject/>
  <dc:title>Sin título de diapositiva</dc:title>
</cp:coreProperties>
</file>