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4F4-5340-46E6-9A87-A64CA202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C8F-46CD-4DD7-AB7C-E4510786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CBC-AB73-4DC8-A14D-C2F91955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789-F793-4845-8714-2ECD1F9F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B32-14E0-40F7-91CE-B40327B1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5B7-74FC-4CB2-B4F5-3140A7FA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24B-5C4A-4A86-8840-54A1D0B2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7C8-74C2-4A65-BBBD-63A221E1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751-A1FD-486D-AF87-84CE7B02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061-1FBC-475B-8417-052CAAAE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BB2E-3DCC-4E11-8712-9B0EB14D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DA82-C566-4370-BAE9-B85051B8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C927-FD14-405F-8301-4F5C54D4F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528480"/>
          <a:ext cx="8578800" cy="693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28480"/>
                    <a:ext cx="8578800" cy="69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69800" y="577800"/>
          <a:ext cx="8458200" cy="588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77800"/>
                    <a:ext cx="8458200" cy="58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44600" y="420840"/>
          <a:ext cx="8578800" cy="731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20840"/>
                    <a:ext cx="857880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49440" y="409680"/>
          <a:ext cx="827856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409680"/>
                    <a:ext cx="827856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6400" y="480960"/>
          <a:ext cx="7904160" cy="689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480960"/>
                    <a:ext cx="7904160" cy="689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44600" y="409680"/>
          <a:ext cx="850716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9680"/>
                    <a:ext cx="850716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88960" y="517680"/>
          <a:ext cx="8242200" cy="642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17680"/>
                    <a:ext cx="8242200" cy="64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30360" y="568440"/>
          <a:ext cx="82645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645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30360" y="630360"/>
          <a:ext cx="815184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15184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4520" y="577800"/>
          <a:ext cx="819288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77800"/>
                    <a:ext cx="819288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01800" y="469800"/>
          <a:ext cx="7580160" cy="62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469800"/>
                    <a:ext cx="7580160" cy="62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9560" y="493560"/>
          <a:ext cx="814536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93560"/>
                    <a:ext cx="814536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843120" y="601560"/>
          <a:ext cx="790416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01560"/>
                    <a:ext cx="790416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41440" y="469800"/>
          <a:ext cx="844524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69800"/>
                    <a:ext cx="84452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5800" y="493560"/>
          <a:ext cx="7988400" cy="784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93560"/>
                    <a:ext cx="7988400" cy="784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06520" y="792000"/>
          <a:ext cx="811512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792000"/>
                    <a:ext cx="81151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92280" y="531720"/>
          <a:ext cx="814068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31720"/>
                    <a:ext cx="814068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73200" y="444600"/>
          <a:ext cx="8145360" cy="62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8145360" cy="62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549360"/>
          <a:ext cx="8001000" cy="68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9360"/>
                    <a:ext cx="800100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04720" y="565200"/>
          <a:ext cx="829008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65200"/>
                    <a:ext cx="829008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5800" y="517680"/>
          <a:ext cx="8253360" cy="63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17680"/>
                    <a:ext cx="825336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06520" y="593640"/>
          <a:ext cx="841212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93640"/>
                    <a:ext cx="841212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44600" y="433440"/>
          <a:ext cx="8518320" cy="659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33440"/>
                    <a:ext cx="8518320" cy="65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44680" y="668160"/>
          <a:ext cx="841212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68160"/>
                    <a:ext cx="84121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6-05-31T13:28:42Z</cp:lastPrinted>
  <dcterms:modified xsi:type="dcterms:W3CDTF">2007-05-11T14:16:23Z</dcterms:modified>
  <cp:revision>11</cp:revision>
  <dc:subject/>
  <dc:title>Sin título de diapositiva</dc:title>
</cp:coreProperties>
</file>