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E9E1-F609-4B39-978A-7A8234813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2F79-7F57-4487-ABD3-B214EA94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DAF3-553A-4682-9F41-B8A9190CD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79EB-B6A8-4C7B-A531-59D0AA40E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A6AF-5A61-4298-8336-EB89D0032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07CA-5494-4B55-9366-30D8F68A8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6436-269A-42D7-9AAA-DCCA6C468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7847-91E9-41FC-9797-7CE603D58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134E-1659-44F2-A9EB-5DAB85EE8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B74E-1433-46DC-B5A5-B4C438D9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6EEF-0C56-4002-911B-CB6F1128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6A87-4634-41BF-BBE2-23EC0425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52DC4-B613-4D7A-BD21-89DCE6DCEC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57200" y="528480"/>
          <a:ext cx="8578800" cy="693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28480"/>
                    <a:ext cx="8578800" cy="693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69800" y="577800"/>
          <a:ext cx="8458200" cy="5883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577800"/>
                    <a:ext cx="8458200" cy="588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44600" y="420840"/>
          <a:ext cx="8578800" cy="731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20840"/>
                    <a:ext cx="8578800" cy="731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49440" y="409680"/>
          <a:ext cx="8278560" cy="701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9440" y="409680"/>
                    <a:ext cx="8278560" cy="701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806400" y="480960"/>
          <a:ext cx="7904160" cy="689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6400" y="480960"/>
                    <a:ext cx="7904160" cy="689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44600" y="409680"/>
          <a:ext cx="8507160" cy="6905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09680"/>
                    <a:ext cx="8507160" cy="69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588960" y="517680"/>
          <a:ext cx="8242200" cy="642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8960" y="517680"/>
                    <a:ext cx="8242200" cy="642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30360" y="568440"/>
          <a:ext cx="8264520" cy="604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68440"/>
                    <a:ext cx="8264520" cy="60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630360" y="630360"/>
          <a:ext cx="8151840" cy="565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630360"/>
                    <a:ext cx="8151840" cy="56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614520" y="577800"/>
          <a:ext cx="8192880" cy="585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577800"/>
                    <a:ext cx="8192880" cy="58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901800" y="469800"/>
          <a:ext cx="7580160" cy="620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1800" y="469800"/>
                    <a:ext cx="7580160" cy="620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09560" y="493560"/>
          <a:ext cx="8145360" cy="597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9560" y="493560"/>
                    <a:ext cx="8145360" cy="59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843120" y="601560"/>
          <a:ext cx="7904160" cy="5931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3120" y="601560"/>
                    <a:ext cx="7904160" cy="593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541440" y="469800"/>
          <a:ext cx="8445240" cy="617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469800"/>
                    <a:ext cx="844524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685800" y="493560"/>
          <a:ext cx="7988400" cy="784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93560"/>
                    <a:ext cx="7988400" cy="784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506520" y="792000"/>
          <a:ext cx="8115120" cy="525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792000"/>
                    <a:ext cx="811512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692280" y="531720"/>
          <a:ext cx="8140680" cy="607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531720"/>
                    <a:ext cx="8140680" cy="607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73200" y="444600"/>
          <a:ext cx="8145360" cy="624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444600"/>
                    <a:ext cx="8145360" cy="624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84360" y="549360"/>
          <a:ext cx="8001000" cy="6834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549360"/>
                    <a:ext cx="8001000" cy="683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04720" y="565200"/>
          <a:ext cx="8290080" cy="552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565200"/>
                    <a:ext cx="8290080" cy="55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85800" y="517680"/>
          <a:ext cx="8253360" cy="631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517680"/>
                    <a:ext cx="8253360" cy="63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06520" y="593640"/>
          <a:ext cx="8412120" cy="582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593640"/>
                    <a:ext cx="8412120" cy="58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44600" y="433440"/>
          <a:ext cx="8518320" cy="659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33440"/>
                    <a:ext cx="8518320" cy="65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544680" y="668160"/>
          <a:ext cx="8412120" cy="595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668160"/>
                    <a:ext cx="8412120" cy="59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1:23:41Z</dcterms:created>
  <dc:creator>jalvarez</dc:creator>
  <dc:description/>
  <dc:language>en-US</dc:language>
  <cp:lastModifiedBy>jalvarez</cp:lastModifiedBy>
  <cp:lastPrinted>2006-05-31T13:28:42Z</cp:lastPrinted>
  <dcterms:modified xsi:type="dcterms:W3CDTF">2007-05-11T14:16:23Z</dcterms:modified>
  <cp:revision>11</cp:revision>
  <dc:subject/>
  <dc:title>Sin título de diapositiva</dc:title>
</cp:coreProperties>
</file>