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138-73BF-4C1E-A2BD-47811458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092-AF03-448A-ADEC-9312A2D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F59-0DBC-4ED6-A7B4-0FBE46B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B60-E0D9-49E6-A7CC-8AA371F6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3F4-CF53-4C5E-8149-56766DC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2C6-FE01-4F46-8342-EF8F41CB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F19-5048-4446-8B5D-E2BE2310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470-A845-48A3-A88F-BE4E965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D44-E8B2-4B66-ABCB-1CD9D522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A76-7195-4395-8076-2C50E9E7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6F9-FFF4-45D0-995A-00297BE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4C1-AECD-45BD-86B4-85ED14D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45C0-995C-4082-9A80-7AFFBC66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28480"/>
          <a:ext cx="857880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57880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9800" y="577800"/>
          <a:ext cx="845820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4582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4600" y="420840"/>
          <a:ext cx="85788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788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9440" y="409680"/>
          <a:ext cx="827856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409680"/>
                    <a:ext cx="827856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0960"/>
          <a:ext cx="79041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0960"/>
                    <a:ext cx="79041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9680"/>
          <a:ext cx="850716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9680"/>
                    <a:ext cx="850716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8960" y="517680"/>
          <a:ext cx="8242200" cy="64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17680"/>
                    <a:ext cx="82422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630360"/>
          <a:ext cx="815184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1518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01800" y="469800"/>
          <a:ext cx="75801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69800"/>
                    <a:ext cx="75801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9560" y="493560"/>
          <a:ext cx="81453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93560"/>
                    <a:ext cx="81453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43120" y="601560"/>
          <a:ext cx="79041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01560"/>
                    <a:ext cx="79041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41440" y="469800"/>
          <a:ext cx="84452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69800"/>
                    <a:ext cx="8445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493560"/>
          <a:ext cx="7988400" cy="78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3560"/>
                    <a:ext cx="7988400" cy="78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06520" y="792000"/>
          <a:ext cx="811512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92000"/>
                    <a:ext cx="8115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73200" y="444600"/>
          <a:ext cx="814536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814536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549360"/>
          <a:ext cx="8001000" cy="68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8001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4720" y="565200"/>
          <a:ext cx="829008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65200"/>
                    <a:ext cx="829008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517680"/>
          <a:ext cx="825336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7680"/>
                    <a:ext cx="825336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593640"/>
          <a:ext cx="841212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93640"/>
                    <a:ext cx="84121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33440"/>
          <a:ext cx="851832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3440"/>
                    <a:ext cx="851832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668160"/>
          <a:ext cx="84121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412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7-05-11T14:16:23Z</dcterms:modified>
  <cp:revision>11</cp:revision>
  <dc:subject/>
  <dc:title>Sin título de diapositiva</dc:title>
</cp:coreProperties>
</file>