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A5B-9226-402E-9C82-7A02B9EF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984-5FFA-4ABB-B43B-7313ED4B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973-9916-46AF-81E2-14176114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0EC-EDB9-483A-8AB5-E1625C69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6B4-A158-4A8B-AEAF-70D1B4E0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F3B-9766-49C4-873E-09E666A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D21-F4FC-4E11-B343-84E69E47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330-AC00-4702-B8DA-2A69D76B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FE4-9344-43CA-88C1-87DBEA7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600-BC06-4F26-B179-24B5E94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E15-FD02-466B-8453-3CB53714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EE1-BAF8-4C8A-9B21-7D46DB75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5CD-5344-46B8-9FE2-7D1D03F02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28480"/>
          <a:ext cx="8578800" cy="69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8480"/>
                    <a:ext cx="8578800" cy="69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9800" y="577800"/>
          <a:ext cx="8458200" cy="588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45820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4600" y="420840"/>
          <a:ext cx="8578800" cy="73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788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9440" y="409680"/>
          <a:ext cx="827856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409680"/>
                    <a:ext cx="827856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0960"/>
          <a:ext cx="79041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0960"/>
                    <a:ext cx="79041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9680"/>
          <a:ext cx="850716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9680"/>
                    <a:ext cx="850716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8960" y="517680"/>
          <a:ext cx="8242200" cy="64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17680"/>
                    <a:ext cx="82422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630360"/>
          <a:ext cx="815184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15184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01800" y="469800"/>
          <a:ext cx="75801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469800"/>
                    <a:ext cx="75801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9560" y="493560"/>
          <a:ext cx="81453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93560"/>
                    <a:ext cx="81453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43120" y="601560"/>
          <a:ext cx="790416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01560"/>
                    <a:ext cx="790416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41440" y="469800"/>
          <a:ext cx="84452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69800"/>
                    <a:ext cx="84452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493560"/>
          <a:ext cx="7988400" cy="78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3560"/>
                    <a:ext cx="7988400" cy="78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06520" y="792000"/>
          <a:ext cx="811512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792000"/>
                    <a:ext cx="81151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73200" y="444600"/>
          <a:ext cx="814536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814536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549360"/>
          <a:ext cx="8001000" cy="68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8001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04720" y="565200"/>
          <a:ext cx="829008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65200"/>
                    <a:ext cx="829008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517680"/>
          <a:ext cx="825336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7680"/>
                    <a:ext cx="825336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593640"/>
          <a:ext cx="841212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93640"/>
                    <a:ext cx="841212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33440"/>
          <a:ext cx="8518320" cy="65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3440"/>
                    <a:ext cx="8518320" cy="65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668160"/>
          <a:ext cx="84121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4121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7-05-11T14:16:23Z</dcterms:modified>
  <cp:revision>11</cp:revision>
  <dc:subject/>
  <dc:title>Sin título de diapositiva</dc:title>
</cp:coreProperties>
</file>