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09A2-6126-4DB0-9415-8C991B82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6F1E-D577-4B1C-8CA8-D7BF4D34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88D-0EC0-4A32-888B-F5860319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BAC-F153-4BA5-88BF-58467C9C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0C9-BCEA-4CAB-9254-51A77BE9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72B-78F2-4285-8CF1-4339D45E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BA3-1A32-493D-B256-747B8A1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4D00-CE0B-4AAF-A596-AA85C2C8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2E5-0BED-42C2-9464-A88D47A5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5BC-92A8-4D44-AD88-5F483A7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37D-D394-4AFD-B3C1-209EF3E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BD0-CC6F-46F0-9236-BA898D4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54AC-3FF5-49B1-A34E-CA4703FEB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28480"/>
          <a:ext cx="8578800" cy="69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8480"/>
                    <a:ext cx="8578800" cy="69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9800" y="577800"/>
          <a:ext cx="8458200" cy="588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45820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4600" y="420840"/>
          <a:ext cx="8578800" cy="73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788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9440" y="409680"/>
          <a:ext cx="827856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409680"/>
                    <a:ext cx="827856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0960"/>
          <a:ext cx="79041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0960"/>
                    <a:ext cx="79041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9680"/>
          <a:ext cx="850716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9680"/>
                    <a:ext cx="850716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8960" y="517680"/>
          <a:ext cx="8242200" cy="64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17680"/>
                    <a:ext cx="82422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630360"/>
          <a:ext cx="815184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15184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01800" y="469800"/>
          <a:ext cx="75801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469800"/>
                    <a:ext cx="75801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9560" y="493560"/>
          <a:ext cx="81453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93560"/>
                    <a:ext cx="81453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43120" y="601560"/>
          <a:ext cx="790416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01560"/>
                    <a:ext cx="790416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41440" y="469800"/>
          <a:ext cx="84452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69800"/>
                    <a:ext cx="84452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493560"/>
          <a:ext cx="7988400" cy="78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3560"/>
                    <a:ext cx="7988400" cy="78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06520" y="792000"/>
          <a:ext cx="811512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792000"/>
                    <a:ext cx="81151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73200" y="444600"/>
          <a:ext cx="814536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814536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549360"/>
          <a:ext cx="8001000" cy="68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8001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04720" y="565200"/>
          <a:ext cx="829008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65200"/>
                    <a:ext cx="829008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517680"/>
          <a:ext cx="825336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7680"/>
                    <a:ext cx="825336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593640"/>
          <a:ext cx="841212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93640"/>
                    <a:ext cx="841212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33440"/>
          <a:ext cx="8518320" cy="65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3440"/>
                    <a:ext cx="8518320" cy="65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668160"/>
          <a:ext cx="84121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4121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7-05-11T14:16:23Z</dcterms:modified>
  <cp:revision>11</cp:revision>
  <dc:subject/>
  <dc:title>Sin título de diapositiva</dc:title>
</cp:coreProperties>
</file>