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92B-8E80-409F-A180-597E6719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2CD-8403-4A28-A68B-7983E283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2E2-D479-410D-8B3E-BF1C2DA7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62F-CC63-40F9-9276-C51399F8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879-2914-4F50-BACD-BA30DC3D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650-9316-4691-B7E3-846EBAA7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C3C-27BA-46D8-A17D-219D9B96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624-6721-4FBE-859F-D18A86F5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289-4447-4BDE-AD5B-9D444F44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8FF-FCC2-415A-BF58-D4140305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F80-F435-4579-97E0-EA88352A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706-C045-4DB7-A231-7B3A8148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02CC-B3D2-4C78-B0C2-2735DE846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78040" y="642960"/>
          <a:ext cx="758340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42960"/>
                    <a:ext cx="758340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3440" y="519120"/>
          <a:ext cx="859644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519120"/>
                    <a:ext cx="859644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6520" y="482760"/>
          <a:ext cx="8437320" cy="62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82760"/>
                    <a:ext cx="8437320" cy="62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82760" y="619200"/>
          <a:ext cx="848520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19200"/>
                    <a:ext cx="848520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57200"/>
          <a:ext cx="808524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57200"/>
                    <a:ext cx="808524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49440" y="577800"/>
          <a:ext cx="8313480" cy="648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577800"/>
                    <a:ext cx="8313480" cy="64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6720" y="541440"/>
          <a:ext cx="8579160" cy="655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41440"/>
                    <a:ext cx="8579160" cy="65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9680" y="396720"/>
          <a:ext cx="863748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396720"/>
                    <a:ext cx="863748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44600" y="420840"/>
          <a:ext cx="8518320" cy="67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20840"/>
                    <a:ext cx="8518320" cy="67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53920" y="446040"/>
          <a:ext cx="789156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46040"/>
                    <a:ext cx="789156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93560" y="469800"/>
          <a:ext cx="842184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69800"/>
                    <a:ext cx="842184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38280" y="614520"/>
          <a:ext cx="780732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614520"/>
                    <a:ext cx="780732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655560"/>
          <a:ext cx="822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55560"/>
                    <a:ext cx="822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53920" y="482760"/>
          <a:ext cx="7805880" cy="622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82760"/>
                    <a:ext cx="7805880" cy="62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1720" y="482760"/>
          <a:ext cx="8474040" cy="65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82760"/>
                    <a:ext cx="847404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9200" y="433440"/>
          <a:ext cx="831204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33440"/>
                    <a:ext cx="831204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81120"/>
          <a:ext cx="80406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81120"/>
                    <a:ext cx="80406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30360" y="568440"/>
          <a:ext cx="8226360" cy="627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26360" cy="62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07-05-08T18:18:42Z</dcterms:modified>
  <cp:revision>13</cp:revision>
  <dc:subject/>
  <dc:title>Sin título de diapositiva</dc:title>
</cp:coreProperties>
</file>