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38D-468F-4033-925A-2EC032D3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0CE-21D1-4FEF-AE18-C8167FE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F38-6252-4F5D-9BBE-A4BC7A15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748-0ADD-421C-9430-6876B111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B8F-5193-4972-BB70-A540DC7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591-6AA9-4919-B891-1830CAFA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192-F37E-4270-AFC9-FE6A2FF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662-0222-439D-A061-A573404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17A-7069-4FFA-8E83-03A013C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400-89C4-4CBF-B97C-17323F1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619-DD69-43E3-8C0B-C6491CA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B08-7826-4E6C-9BAD-3C98881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4ED-B1F5-4B4A-8613-AF7B71BF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482760"/>
          <a:ext cx="843732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3732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85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85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57200"/>
          <a:ext cx="80852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0852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9440" y="577800"/>
          <a:ext cx="831348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577800"/>
                    <a:ext cx="831348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541440"/>
          <a:ext cx="8579160" cy="65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41440"/>
                    <a:ext cx="857916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9680" y="396720"/>
          <a:ext cx="863748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396720"/>
                    <a:ext cx="863748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4600" y="420840"/>
          <a:ext cx="8518320" cy="67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18320" cy="67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446040"/>
          <a:ext cx="789156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46040"/>
                    <a:ext cx="789156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3560" y="469800"/>
          <a:ext cx="842184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69800"/>
                    <a:ext cx="84218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8280" y="614520"/>
          <a:ext cx="780732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614520"/>
                    <a:ext cx="780732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433440"/>
          <a:ext cx="831204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1204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30360" y="568440"/>
          <a:ext cx="82263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263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7-05-08T18:18:42Z</dcterms:modified>
  <cp:revision>13</cp:revision>
  <dc:subject/>
  <dc:title>Sin título de diapositiva</dc:title>
</cp:coreProperties>
</file>