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590-5258-40C6-BF9C-5D8982B5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EFB-5780-48D0-9BF3-B3F8333E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351-7E05-442E-B3C2-FEB496E8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F3C-2A5B-4DEB-B159-EB24F04D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197-8F88-4545-B9B3-D7D0DF8A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777-8AA3-490E-904E-60A9570B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A5E-C2E2-4CAE-917A-E619C0E4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33E-65CE-4704-AAF2-B420AC05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FF0-D265-4B36-B2A7-61942DC5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E35-4AB3-490D-A498-C0F07B7F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CFC-2DE6-4358-8888-7D305A54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CA7-AD47-4F95-9615-1AD2A8EE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70A-04C3-4B8B-B5C3-9545724E7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78040" y="642960"/>
          <a:ext cx="758340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42960"/>
                    <a:ext cx="758340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3440" y="519120"/>
          <a:ext cx="859644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19120"/>
                    <a:ext cx="85964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482760"/>
          <a:ext cx="843732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3732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82760" y="619200"/>
          <a:ext cx="84852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19200"/>
                    <a:ext cx="84852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57200"/>
          <a:ext cx="80852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0852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9440" y="577800"/>
          <a:ext cx="831348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577800"/>
                    <a:ext cx="831348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541440"/>
          <a:ext cx="8579160" cy="655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41440"/>
                    <a:ext cx="8579160" cy="65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9680" y="396720"/>
          <a:ext cx="863748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396720"/>
                    <a:ext cx="863748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44600" y="420840"/>
          <a:ext cx="8518320" cy="67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18320" cy="67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446040"/>
          <a:ext cx="789156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46040"/>
                    <a:ext cx="789156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3560" y="469800"/>
          <a:ext cx="842184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69800"/>
                    <a:ext cx="842184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38280" y="614520"/>
          <a:ext cx="780732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614520"/>
                    <a:ext cx="780732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55560"/>
          <a:ext cx="822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55560"/>
                    <a:ext cx="822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3920" y="482760"/>
          <a:ext cx="7805880" cy="62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82760"/>
                    <a:ext cx="7805880" cy="62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1720" y="482760"/>
          <a:ext cx="847404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7404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9200" y="433440"/>
          <a:ext cx="831204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33440"/>
                    <a:ext cx="831204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81120"/>
          <a:ext cx="8040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8040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30360" y="568440"/>
          <a:ext cx="822636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2636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7-05-08T18:18:42Z</dcterms:modified>
  <cp:revision>13</cp:revision>
  <dc:subject/>
  <dc:title>Sin título de diapositiva</dc:title>
</cp:coreProperties>
</file>