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5D61-7978-4875-8E18-6D1624432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4D5F-5333-488C-8D2F-0B947DF7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3B76-0D53-489F-943E-0F4D6E7F5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81D1-24EE-4E71-B38D-1C1686BD2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00D5-351F-4376-A0C1-E602991F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E0AB-E202-49F6-8D08-5DDA51CB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0D54-4D75-4960-AB18-39276FD4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82D6-5524-4A77-B461-D9B1FB0D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61B5-CAB7-4F2A-92D3-BA688808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3133-1589-43F1-B13C-E74ACD91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6EAC-3BD1-48A3-AA26-F74BEA1F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DAC1-7920-4A18-8383-91C5A86D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158E-D8B5-474A-B3F6-3C407E4C1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78040" y="642960"/>
          <a:ext cx="758340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642960"/>
                    <a:ext cx="758340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33440" y="519120"/>
          <a:ext cx="8596440" cy="653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519120"/>
                    <a:ext cx="8596440" cy="65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06520" y="482760"/>
          <a:ext cx="8437320" cy="62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482760"/>
                    <a:ext cx="8437320" cy="62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82760" y="619200"/>
          <a:ext cx="8485200" cy="620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619200"/>
                    <a:ext cx="8485200" cy="62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57200"/>
          <a:ext cx="8085240" cy="620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57200"/>
                    <a:ext cx="8085240" cy="62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49440" y="577800"/>
          <a:ext cx="8313480" cy="648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577800"/>
                    <a:ext cx="8313480" cy="648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96720" y="541440"/>
          <a:ext cx="8579160" cy="655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541440"/>
                    <a:ext cx="8579160" cy="65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09680" y="396720"/>
          <a:ext cx="8637480" cy="696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396720"/>
                    <a:ext cx="8637480" cy="69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44600" y="420840"/>
          <a:ext cx="8518320" cy="675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20840"/>
                    <a:ext cx="8518320" cy="67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853920" y="446040"/>
          <a:ext cx="789156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446040"/>
                    <a:ext cx="789156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93560" y="469800"/>
          <a:ext cx="8421840" cy="597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69800"/>
                    <a:ext cx="8421840" cy="59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38280" y="614520"/>
          <a:ext cx="7807320" cy="57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614520"/>
                    <a:ext cx="7807320" cy="57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1120" y="655560"/>
          <a:ext cx="822492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655560"/>
                    <a:ext cx="822492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853920" y="482760"/>
          <a:ext cx="7805880" cy="622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482760"/>
                    <a:ext cx="7805880" cy="62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31720" y="482760"/>
          <a:ext cx="8474040" cy="656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82760"/>
                    <a:ext cx="8474040" cy="65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19200" y="433440"/>
          <a:ext cx="831204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433440"/>
                    <a:ext cx="831204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41320" y="681120"/>
          <a:ext cx="8040600" cy="55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81120"/>
                    <a:ext cx="804060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30360" y="568440"/>
          <a:ext cx="8226360" cy="627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68440"/>
                    <a:ext cx="8226360" cy="62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01:30Z</dcterms:created>
  <dc:creator>jalvarez</dc:creator>
  <dc:description/>
  <dc:language>en-US</dc:language>
  <cp:lastModifiedBy>jalvarez</cp:lastModifiedBy>
  <cp:lastPrinted>2006-05-19T15:19:42Z</cp:lastPrinted>
  <dcterms:modified xsi:type="dcterms:W3CDTF">2007-05-08T18:18:42Z</dcterms:modified>
  <cp:revision>13</cp:revision>
  <dc:subject/>
  <dc:title>Sin título de diapositiva</dc:title>
</cp:coreProperties>
</file>