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7EA-1BCF-420E-AB64-D571D6D8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D54-91D0-4E0B-9174-42236AAD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415-22A0-49A3-82FF-F0F50C23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706B-2EF1-4768-A36B-4B62ECE9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6CB-9DD2-4E65-89D3-E827CBD8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A929-A407-4BDC-BD06-7E53C8A5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44D-B796-4963-BEE5-FDC40ADE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622-6C03-4D7D-8AC3-EA960757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3DC-3C99-4057-94A8-E2BB94FA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C3B-46FD-4846-B5CD-DEB30DC6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A3D-6E2A-43A7-920D-991EC439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DBA-D752-4328-9B1E-75BB7D36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5889-7CB3-477B-85CB-1FADE790E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78040" y="642960"/>
          <a:ext cx="758340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42960"/>
                    <a:ext cx="758340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3440" y="519120"/>
          <a:ext cx="8596440" cy="65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519120"/>
                    <a:ext cx="859644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06520" y="482760"/>
          <a:ext cx="8437320" cy="62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82760"/>
                    <a:ext cx="8437320" cy="62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82760" y="619200"/>
          <a:ext cx="848520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19200"/>
                    <a:ext cx="848520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57200"/>
          <a:ext cx="808524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57200"/>
                    <a:ext cx="808524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49440" y="577800"/>
          <a:ext cx="8313480" cy="648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577800"/>
                    <a:ext cx="8313480" cy="64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6720" y="541440"/>
          <a:ext cx="8579160" cy="655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41440"/>
                    <a:ext cx="8579160" cy="65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9680" y="396720"/>
          <a:ext cx="863748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396720"/>
                    <a:ext cx="863748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44600" y="420840"/>
          <a:ext cx="8518320" cy="67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20840"/>
                    <a:ext cx="8518320" cy="67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53920" y="446040"/>
          <a:ext cx="789156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46040"/>
                    <a:ext cx="789156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93560" y="469800"/>
          <a:ext cx="842184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69800"/>
                    <a:ext cx="842184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38280" y="614520"/>
          <a:ext cx="780732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614520"/>
                    <a:ext cx="780732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655560"/>
          <a:ext cx="822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55560"/>
                    <a:ext cx="822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53920" y="482760"/>
          <a:ext cx="7805880" cy="622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82760"/>
                    <a:ext cx="7805880" cy="62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1720" y="482760"/>
          <a:ext cx="8474040" cy="65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82760"/>
                    <a:ext cx="847404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9200" y="433440"/>
          <a:ext cx="831204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33440"/>
                    <a:ext cx="831204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81120"/>
          <a:ext cx="80406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81120"/>
                    <a:ext cx="80406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30360" y="568440"/>
          <a:ext cx="8226360" cy="627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26360" cy="62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07-05-08T18:18:42Z</dcterms:modified>
  <cp:revision>13</cp:revision>
  <dc:subject/>
  <dc:title>Sin título de diapositiva</dc:title>
</cp:coreProperties>
</file>