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5A7-F986-4276-A021-AD526FFB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B94-E7A5-4956-96CF-0356326D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289-1B00-4BFD-87C9-73A3AF00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E98-D414-44A0-BC71-CCAF2A04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AA1-5273-4909-A91E-D2118FC2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7E3-7E7B-454E-8E85-207DB72C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4AC-28EF-4BBF-8B66-AF9CA5B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158-6507-43F4-BB66-93076DBB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388-E97C-4456-9B0A-D3CD653F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BC9-6413-4C1F-B95F-B7DB252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441-97FB-4165-903F-185970C1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612-2253-4D59-A58A-0EA36EB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22AA-62F0-4557-BB3C-DA0698447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420840"/>
          <a:ext cx="846144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20840"/>
                    <a:ext cx="846144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8720" y="642960"/>
          <a:ext cx="7854840" cy="569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642960"/>
                    <a:ext cx="7854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469800"/>
          <a:ext cx="838656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1720" y="506520"/>
          <a:ext cx="82630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2630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1720" y="506520"/>
          <a:ext cx="84740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740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446040"/>
          <a:ext cx="8138880" cy="76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38880" cy="76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06600"/>
          <a:ext cx="804060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04060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68440" y="446040"/>
          <a:ext cx="832644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2644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93640"/>
          <a:ext cx="8474040" cy="65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93640"/>
                    <a:ext cx="847404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0360" y="506520"/>
          <a:ext cx="764532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7645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57280"/>
          <a:ext cx="847404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57280"/>
                    <a:ext cx="84740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06600"/>
          <a:ext cx="8163000" cy="60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06600"/>
          <a:ext cx="8262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262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581040"/>
          <a:ext cx="810108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81040"/>
                    <a:ext cx="810108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6-05-23T16:18:20Z</cp:lastPrinted>
  <dcterms:modified xsi:type="dcterms:W3CDTF">2007-05-04T20:59:43Z</dcterms:modified>
  <cp:revision>6</cp:revision>
  <dc:subject/>
  <dc:title>Sin título de diapositiva</dc:title>
</cp:coreProperties>
</file>