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E12-1B82-4545-BCD7-5626265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629-DC19-4702-946C-6125076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DC8-7E9D-46FD-9551-D1B30067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2E3-2BAA-4119-97EE-6D3AC64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37A-2BE4-494D-ABB4-FAEBED6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343-E692-4493-A0C3-DCBD190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8A8-8426-4D64-82F3-7DC27C4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534-FF5A-4658-80CA-16484A0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86C-45F4-4890-950D-F4BA598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68E-EA33-42EE-B717-EAE191E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F7C-7AA1-4EDF-8ABB-FA0F9AF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81D-8951-4207-84E0-4C73937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532-15C4-4490-B55E-C31B49E3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7-05-04T20:59:43Z</dcterms:modified>
  <cp:revision>6</cp:revision>
  <dc:subject/>
  <dc:title>Sin título de diapositiva</dc:title>
</cp:coreProperties>
</file>