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212-7414-4CAD-871C-762D3FAE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5AE-11BD-478B-9C83-DA0521C6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3BA-44EB-4406-BEA8-B5220DB0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D65-3BE9-49B8-9D2A-76CDEA8B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B94-DC74-4C3A-B1D0-6928C3C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8EA-2932-4B9B-B3D2-19EC3C4E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982-100F-40B3-BDAD-1DCE945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7C8-F31A-428D-B83F-0F5CECC2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A61-B3DD-4E9B-8EB2-9329602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44F-4D06-4128-BF4F-28F0B9E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5BA-D376-4187-B7EC-1BFAA9C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02A-8E3C-4532-8ABA-8D5FCA3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A03D-29E3-4B3F-8BFD-9B6D9AD0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7-05-04T20:59:43Z</dcterms:modified>
  <cp:revision>6</cp:revision>
  <dc:subject/>
  <dc:title>Sin título de diapositiva</dc:title>
</cp:coreProperties>
</file>