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152-54F1-4A8B-B5CE-A45D540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E3A-6F2A-4FCB-B3E1-D29483B0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6CF-3C91-487B-AEA4-0F557161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1F8-B680-4AD3-9E9D-B4CA33AA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5A6-BB3B-4CEA-B86D-2C189FCB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C56-C48B-42F5-A565-0489E973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8ED-23B2-4DCB-AE5A-0A891E6B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B71-7DDB-41BA-8B92-1B84AEFE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E09-146D-4BB0-91C0-7A92F762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E4C-3476-4914-B2D3-955BB48E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624-E565-4606-80A6-B7CA1E9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838-B19D-472F-AF9D-8E0422A9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22F6-F7D0-435C-B798-2C697C471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0360" y="482760"/>
          <a:ext cx="8003880" cy="674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82760"/>
                    <a:ext cx="80038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57200"/>
          <a:ext cx="8288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57200"/>
                    <a:ext cx="8288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0360" y="606600"/>
          <a:ext cx="7854840" cy="60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06600"/>
                    <a:ext cx="785484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9480" y="507960"/>
          <a:ext cx="820440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07960"/>
                    <a:ext cx="820440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609480"/>
          <a:ext cx="8470800" cy="595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470800" cy="59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2760" y="593640"/>
          <a:ext cx="849780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93640"/>
                    <a:ext cx="84978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00280" y="609480"/>
          <a:ext cx="80769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609480"/>
                    <a:ext cx="80769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7-04-30T19:17:58Z</dcterms:modified>
  <cp:revision>7</cp:revision>
  <dc:subject/>
  <dc:title>Sin título de diapositiva</dc:title>
</cp:coreProperties>
</file>