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1224-5499-4295-B3EC-88826A85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AB6-4529-47F7-B5B3-8D495BBF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FF48-DF14-48DE-AEB3-EC5A9A1F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245-16F5-45E3-871E-7D4D136F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341-FA01-46BB-A688-BFB2FE37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0367-FAC7-433B-9BFA-36798297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F2C7-59AD-46F3-A4AD-0C22B7BB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BED2-9DF7-4C2C-BC0F-03CFBA95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ADE-25B4-44EB-8417-873455B6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96ED-2DA4-4620-B5EC-78069A97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150-9FD5-4FF0-86BE-20011322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810-9294-4759-94B7-925397E8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9D3A-3AC9-4D9A-9DCD-7DF13086A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30360" y="482760"/>
          <a:ext cx="8003880" cy="6742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360" y="482760"/>
                    <a:ext cx="8003880" cy="67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7880" y="457200"/>
          <a:ext cx="8288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457200"/>
                    <a:ext cx="8288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30360" y="606600"/>
          <a:ext cx="7854840" cy="606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06600"/>
                    <a:ext cx="7854840" cy="60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9480" y="507960"/>
          <a:ext cx="8204400" cy="631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07960"/>
                    <a:ext cx="8204400" cy="63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62120" y="546120"/>
          <a:ext cx="792468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6120"/>
                    <a:ext cx="792468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609480"/>
          <a:ext cx="8470800" cy="595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470800" cy="59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06600" y="642960"/>
          <a:ext cx="8188200" cy="55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1882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82760" y="593640"/>
          <a:ext cx="849780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93640"/>
                    <a:ext cx="849780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800280" y="609480"/>
          <a:ext cx="807696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609480"/>
                    <a:ext cx="807696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469800"/>
          <a:ext cx="847404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47404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96880" y="596880"/>
          <a:ext cx="8242200" cy="591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96880"/>
                    <a:ext cx="82422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568440"/>
          <a:ext cx="822636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68440"/>
                    <a:ext cx="822636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55728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20840" y="803160"/>
          <a:ext cx="8288280" cy="520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803160"/>
                    <a:ext cx="8288280" cy="52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6-05-09T15:34:00Z</cp:lastPrinted>
  <dcterms:modified xsi:type="dcterms:W3CDTF">2007-04-30T19:17:58Z</dcterms:modified>
  <cp:revision>7</cp:revision>
  <dc:subject/>
  <dc:title>Sin título de diapositiva</dc:title>
</cp:coreProperties>
</file>