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9AA-4827-4D15-8D11-D5129C8A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FE6-9EDA-4540-BBBF-F814B53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185-FBF0-4CCD-8043-9D4261A7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5F4-32F6-4717-85C0-A5330D21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349-DEA9-44A6-B385-271D251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A6E-9D9A-4155-B4A9-8959B0F1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B15-6D78-4CDC-81D0-4D99CA0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A68-70DE-44B9-9AAE-ED4734F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571-62A1-4FED-9F7E-66D5A0A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AC4-565C-4E5D-9DC6-2547F64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37C-0E4B-4A5A-9F45-D041DEA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7BB-6ED7-466F-9D06-263275E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F73-3B0F-4D2F-BDB5-0944D460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5720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5720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606600"/>
          <a:ext cx="785484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785484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9480" y="507960"/>
          <a:ext cx="82044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2044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609480"/>
          <a:ext cx="8470800" cy="595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47080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00280" y="609480"/>
          <a:ext cx="80769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609480"/>
                    <a:ext cx="80769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7-04-30T19:17:58Z</dcterms:modified>
  <cp:revision>7</cp:revision>
  <dc:subject/>
  <dc:title>Sin título de diapositiva</dc:title>
</cp:coreProperties>
</file>