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6CE-BE07-479D-9B3A-7C6E1380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754-B52F-44BD-B55E-06A067AA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D6C-1A72-43C2-A6FC-D82A928F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F91-FB7E-49F4-9D06-94A7C698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DE6B-941F-4471-B7C9-FC0504E7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55D3-9868-4E9C-9E4E-7048F34F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F465-33C9-4F87-9C66-1227A695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6D8F-AE42-42EF-8360-0B7F0A8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0AAE-C295-4CAD-B8BE-5B6909F5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A66D-49E4-499E-AE0E-8EB54432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0518-15C8-49EA-8817-CBF7CE88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E92-6DF5-482A-B961-6B5A7C33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5C9F-3A2D-4A62-B8D9-95BA7AFE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E9BD-BBDA-4185-BC7B-A9DC8D19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5FE4-D979-43F0-B9E9-605213EE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D226-52BF-4E82-8A6F-BEF1848E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7862-E232-4BA2-8D76-48F35093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123-6A96-4A2B-9E1A-A0952EA5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F88-9FA3-4BE4-B393-4A969836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931-FFBC-435B-90F5-09D13E27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8CF-7915-44BF-90DA-920763CE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D10-BDA2-4DD5-9EC1-9BE4E0C1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CE7-A95C-4D0C-96F9-AC888C18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309-8B1F-4966-A487-4AFD2D71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7A5C-4408-4732-AF1F-483EE7739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68E7-407B-4256-9858-36C13D903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Karen Flores 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jercicio Propues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(Votaciones) que permita efectuar votaciones para ‘n’ candidatos, donde ‘n’ puede ser un número mu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100 candid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5460840"/>
            <a:ext cx="554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2600" spc="-1" strike="noStrike">
                <a:solidFill>
                  <a:srgbClr val="ffcc00"/>
                </a:solidFill>
                <a:latin typeface="Tahoma"/>
              </a:rPr>
              <a:t>Difícil (Largo), pero se pue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‘n’ candidatos, donde ‘n’ puede ser un número mu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5460840"/>
            <a:ext cx="554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2600" spc="-1" strike="noStrike">
                <a:solidFill>
                  <a:srgbClr val="ffcc00"/>
                </a:solidFill>
                <a:latin typeface="Tahoma"/>
              </a:rPr>
              <a:t>Difícil, no se pue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inónim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vector, array, aline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junto o agrupación de variables de un mismo tipo cuyo acceso se realiza a través del uso de índ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Wikip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] nombr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mbre = new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dimens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jempl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[] valores = new int[3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ring[] arg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 igual que los Strings la primera posición del arreglo corresponderá al índice 0 y la última al (largo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: int[] a = new int[6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81120" y="4221000"/>
            <a:ext cx="4753080" cy="720720"/>
            <a:chOff x="2481120" y="4221000"/>
            <a:chExt cx="4753080" cy="720720"/>
          </a:xfrm>
        </p:grpSpPr>
        <p:sp>
          <p:nvSpPr>
            <p:cNvPr id="97" name=""/>
            <p:cNvSpPr/>
            <p:nvPr/>
          </p:nvSpPr>
          <p:spPr>
            <a:xfrm>
              <a:off x="248112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73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5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748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984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4184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48292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0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492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2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3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4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5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4941720"/>
            <a:ext cx="13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Tahoma"/>
              </a:rPr>
              <a:t>a =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pueden construir arreglos de cualquier cosa, incluso de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omplejo[] cs = new Complejo[2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Button[] bs = new Button[10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String[] ss = new String[3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ro se debe de tener cuidad de inicializar correctamente cada uno de esos objetos antes de usar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 caso del arreglo de bot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( int i = 0 ; i &lt; bs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.length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 i++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s[ i ] = new Button( “Boton ” + i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5-08T06:06:01Z</dcterms:modified>
  <cp:revision>16</cp:revision>
  <dc:subject/>
  <dc:title>CC100 04 - Computación I Auxiliar Nº 1</dc:title>
</cp:coreProperties>
</file>