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BC7-B9A3-449D-8AD6-F1F976ED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815-FF42-441F-A16A-3729ED6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090-62A5-405E-A0DF-D97459C0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363-031D-45B9-B979-F744FB81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0994-0E6D-43CB-B7E0-F6F9AF71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C4BE-08FF-4BCC-A288-4F5EFE2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75F1-A5D4-4547-AC76-F58D1E49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E7A1-3C0B-4317-9625-9ACD1F0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CE39-5741-4AAB-9B3E-4CB5CD5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F5B8-816B-4D43-830B-179DD0B0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284-A838-4A22-A5CE-FFC0111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F2A-B287-411C-B81B-AD1F4E90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BED4-9DA2-4D99-AB29-5CD5BE22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C12D-B523-4402-B93E-7601D55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8D87-6CD0-4E10-B87C-86F55DF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CE0-D43D-4078-AB06-FB7E54A3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41C-BE13-47DC-8816-44997542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D2F-02D1-4F91-B4B2-D3BD2B8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D9F-1412-4B75-985B-FFD7604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3B9-C1C2-4CE3-9EAD-7D19291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798-1E87-45DD-A71D-F493B4CA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8B2-2A7C-426E-9A69-D47B25C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E31-8061-4405-BF27-EC26F775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9CE-A714-4CB7-BBF7-8469582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AF7-DBC8-400F-AF5A-D3F9D535E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B81-0C55-4D48-9C18-D8DADD1F2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 Propu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(Votaciones)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100 candid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 (Largo), per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, n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inóni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vector, array, aline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o agrupación de variables de un mismo tipo cuyo acceso se realiza a través del uso de í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Wikip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] nomb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mbre = new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dimens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jemp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[] valores = new int[3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[] ar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 igual que los Strings la primera posición del arreglo corresponderá al índice 0 y la última al (largo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: int[] a = new int[6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81120" y="4221000"/>
            <a:ext cx="4753080" cy="720720"/>
            <a:chOff x="2481120" y="4221000"/>
            <a:chExt cx="4753080" cy="720720"/>
          </a:xfrm>
        </p:grpSpPr>
        <p:sp>
          <p:nvSpPr>
            <p:cNvPr id="97" name=""/>
            <p:cNvSpPr/>
            <p:nvPr/>
          </p:nvSpPr>
          <p:spPr>
            <a:xfrm>
              <a:off x="248112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3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5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748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984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184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8292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941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Tahoma"/>
              </a:rPr>
              <a:t>a =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pueden construir arreglos de cualquier cosa, incluso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mplejo[] cs = new Complejo[2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Button[] bs = new Button[10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tring[] ss = new String[3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se debe de tener cuidad de inicializar correctamente cada uno de esos objetos antes de us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caso del arreglo de bo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( int i = 0 ; i &lt; bs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.leng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 i++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s[ i ] = new Button( “Boton ” + i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08T06:06:01Z</dcterms:modified>
  <cp:revision>16</cp:revision>
  <dc:subject/>
  <dc:title>CC100 04 - Computación I Auxiliar Nº 1</dc:title>
</cp:coreProperties>
</file>