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F6D-49F7-4AE9-A1F3-68DC93C8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043-C3F4-4177-ABDB-D809598E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BED-E05D-4100-BDAB-8877B611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EE7-350D-4888-9021-43C18E46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0A09-3EE5-4225-8C15-09B96495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2D16-B517-4421-B82A-A1137EDF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F7EF-563F-41CD-9171-7A75EA57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2B59-FE67-45D6-8008-DC8EB64C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DAD7-4A47-4122-82FB-2519E279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031B-C495-4D8C-AC78-47BB1651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2F05-2D52-4504-ADBB-A2596E0B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2C1-0367-4251-9158-D870861D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CE95-D96E-4FBE-B8F7-2E7633ED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0D43-975A-4EC4-BCE8-03151F24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93BE-FA96-4A22-87A7-3289C291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4A43-AE51-4902-8330-D6F1AB51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5F18-E34C-4878-AD49-1E7B42E1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E87-313C-45F4-8E02-D39E4011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ADA1-81D4-422F-91AC-15976088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CDCF-5486-4054-BC83-73AE43F8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AF4-5B5F-4262-A4F3-9F57C353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69A-2842-4509-9B18-24BEB93E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8B02-D2E6-465A-A024-3B9460AD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7EC9-3EE5-4C3A-999A-C77D014F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C5E0-4690-4150-B997-81D5D3EEEA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78F5-B4A3-4789-99D5-9BEAFB8B64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Karen Flores 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jercicio Propues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rear un programa (Votaciones) que permita efectuar votaciones para ‘n’ candidatos, donde ‘n’ puede ser un número muy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rear un programa que permita efectuar votaciones para 100 candida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9280" y="5460840"/>
            <a:ext cx="554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s-ES" sz="2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s-ES" sz="2600" spc="-1" strike="noStrike">
                <a:solidFill>
                  <a:srgbClr val="ffcc00"/>
                </a:solidFill>
                <a:latin typeface="Tahoma"/>
              </a:rPr>
              <a:t>Difícil (Largo), pero se pue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rear un programa que permita efectuar votaciones para ‘n’ candidatos, donde ‘n’ puede ser un número muy gran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59280" y="5460840"/>
            <a:ext cx="554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cc00"/>
                </a:solidFill>
                <a:latin typeface="Wingdings"/>
                <a:ea typeface="Wingdings"/>
              </a:rPr>
              <a:t></a:t>
            </a:r>
            <a:r>
              <a:rPr b="0" lang="es-ES" sz="26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s-ES" sz="2600" spc="-1" strike="noStrike">
                <a:solidFill>
                  <a:srgbClr val="ffcc00"/>
                </a:solidFill>
                <a:latin typeface="Tahoma"/>
              </a:rPr>
              <a:t>Difícil, no se pue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Sinónim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 vector, array, aline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njunto o agrupación de variables de un mismo tipo cuyo acceso se realiza a través del uso de índ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Wikipe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tipo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[] nombr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ombre = new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tipo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&lt;dimensión&gt;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Ejemplo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int[] valores = new int[30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tring[] args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l igual que los Strings la primera posición del arreglo corresponderá al índice 0 y la última al (largo-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: int[] a = new int[6]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81120" y="4221000"/>
            <a:ext cx="4753080" cy="720720"/>
            <a:chOff x="2481120" y="4221000"/>
            <a:chExt cx="4753080" cy="720720"/>
          </a:xfrm>
        </p:grpSpPr>
        <p:sp>
          <p:nvSpPr>
            <p:cNvPr id="97" name=""/>
            <p:cNvSpPr/>
            <p:nvPr/>
          </p:nvSpPr>
          <p:spPr>
            <a:xfrm>
              <a:off x="2481120" y="4221000"/>
              <a:ext cx="792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73480" y="4221000"/>
              <a:ext cx="792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65480" y="4221000"/>
              <a:ext cx="792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57480" y="4221000"/>
              <a:ext cx="792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49840" y="4221000"/>
              <a:ext cx="792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41840" y="4221000"/>
              <a:ext cx="792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cc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482920" y="4941720"/>
            <a:ext cx="79200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0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4920" y="4941720"/>
            <a:ext cx="7923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1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67280" y="4941720"/>
            <a:ext cx="79200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2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4941720"/>
            <a:ext cx="7923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3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4941720"/>
            <a:ext cx="79200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4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4941720"/>
            <a:ext cx="792360" cy="72072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a[5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4941720"/>
            <a:ext cx="1368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Tahoma"/>
              </a:rPr>
              <a:t>a =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e pueden construir arreglos de cualquier cosa, incluso de clas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Complejo[] cs = new Complejo[20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Button[] bs = new Button[100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String[] ss = new String[30]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rregl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ero se debe de tener cuidad de inicializar correctamente cada uno de esos objetos antes de usar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 caso del arreglo de bot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or( int i = 0 ; i &lt; bs</a:t>
            </a: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.length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; i++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bs[ i ] = new Button( “Boton ” + i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ulio Villane S</cp:lastModifiedBy>
  <dcterms:modified xsi:type="dcterms:W3CDTF">2007-05-08T06:06:01Z</dcterms:modified>
  <cp:revision>16</cp:revision>
  <dc:subject/>
  <dc:title>CC100 04 - Computación I Auxiliar Nº 1</dc:title>
</cp:coreProperties>
</file>