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562-C29B-42D1-900B-D58886C5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B3B-961D-46DA-BC39-01DE8DE5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81C-81FC-4026-8D45-BD4085BE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2ED-C8EA-4E7C-A238-78545201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AF79-18DF-419B-B4EF-809FA500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71E1-B03B-4D26-9FF0-5DBAF317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E1E9-DEFE-4196-B616-24048D5A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4EF9-4F3B-4C28-88FE-3DFE77CB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71FE-3BFF-44FA-8DD9-84D4C88E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5900-F0D1-43FF-9FAE-B7D09EDB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79FD-8F57-4B51-8E78-CFCC4F81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166-F383-43E9-8B91-C28D6A3E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5EFC-EBB2-4C3E-9BC1-163329FD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02AC-C403-4805-BFD0-B029D9C4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121F-4495-4C80-8886-33BA854E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04A5-46BD-4EB3-902D-1EFA2829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659D-79E6-4A2D-B97E-FAE0EC9F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604-BB6C-4EF7-876D-FDAB8B82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966C-35D2-4EEE-937D-13F90A58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80B-C442-40EF-8399-4CFEAC9E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AA3-0598-4509-B9EC-147E70A1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D254-4570-4659-A2B8-CA8B36E1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BF4-2728-4FFD-8F94-484AB59A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B068-9432-4CB4-8B8B-0D72AB5F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89A2-78A4-4632-A156-961315148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08FF-2CA2-4A83-B12E-CEBE8DB172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Karen Flores 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jercicio Propues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rear un programa (Votaciones) que permita efectuar votaciones para ‘n’ candidatos, donde ‘n’ puede ser un número muy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rear un programa que permita efectuar votaciones para 100 candid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9280" y="5460840"/>
            <a:ext cx="554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s-ES" sz="2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s-ES" sz="2600" spc="-1" strike="noStrike">
                <a:solidFill>
                  <a:srgbClr val="ffcc00"/>
                </a:solidFill>
                <a:latin typeface="Tahoma"/>
              </a:rPr>
              <a:t>Difícil (Largo), pero se pue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rear un programa que permita efectuar votaciones para ‘n’ candidatos, donde ‘n’ puede ser un número muy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9280" y="5460840"/>
            <a:ext cx="554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s-ES" sz="2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s-ES" sz="2600" spc="-1" strike="noStrike">
                <a:solidFill>
                  <a:srgbClr val="ffcc00"/>
                </a:solidFill>
                <a:latin typeface="Tahoma"/>
              </a:rPr>
              <a:t>Difícil, no se pue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Sinónim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vector, array, aline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junto o agrupación de variables de un mismo tipo cuyo acceso se realiza a través del uso de índ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Wikipe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tipo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[] nombr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mbre = new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tipo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dimensión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Ejempl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t[] valores = new int[30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tring[] arg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l igual que los Strings la primera posición del arreglo corresponderá al índice 0 y la última al (largo-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: int[] a = new int[6]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81120" y="4221000"/>
            <a:ext cx="4753080" cy="720720"/>
            <a:chOff x="2481120" y="4221000"/>
            <a:chExt cx="4753080" cy="720720"/>
          </a:xfrm>
        </p:grpSpPr>
        <p:sp>
          <p:nvSpPr>
            <p:cNvPr id="97" name=""/>
            <p:cNvSpPr/>
            <p:nvPr/>
          </p:nvSpPr>
          <p:spPr>
            <a:xfrm>
              <a:off x="2481120" y="4221000"/>
              <a:ext cx="792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73480" y="4221000"/>
              <a:ext cx="792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65480" y="4221000"/>
              <a:ext cx="792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57480" y="4221000"/>
              <a:ext cx="792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49840" y="4221000"/>
              <a:ext cx="792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41840" y="4221000"/>
              <a:ext cx="792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482920" y="4941720"/>
            <a:ext cx="79200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0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4920" y="4941720"/>
            <a:ext cx="7923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1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67280" y="4941720"/>
            <a:ext cx="79200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2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4941720"/>
            <a:ext cx="7923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3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4941720"/>
            <a:ext cx="79200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4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4941720"/>
            <a:ext cx="7923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5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4941720"/>
            <a:ext cx="136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Tahoma"/>
              </a:rPr>
              <a:t>a =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pueden construir arreglos de cualquier cosa, incluso de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Complejo[] cs = new Complejo[20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Button[] bs = new Button[100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String[] ss = new String[3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ero se debe de tener cuidad de inicializar correctamente cada uno de esos objetos antes de usar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 caso del arreglo de bot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or( int i = 0 ; i &lt; bs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.length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; i++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s[ i ] = new Button( “Boton ” + i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ulio Villane S</cp:lastModifiedBy>
  <dcterms:modified xsi:type="dcterms:W3CDTF">2007-05-08T06:06:01Z</dcterms:modified>
  <cp:revision>16</cp:revision>
  <dc:subject/>
  <dc:title>CC100 04 - Computación I Auxiliar Nº 1</dc:title>
</cp:coreProperties>
</file>