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82C-C401-4E20-972B-43BFC56A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9F2-4308-4D35-BA9C-AF3192BE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E43-2B59-4364-ADBE-1CFCFBDF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80D-2BE7-483B-A7E4-03D6C770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989-E329-4D9E-96A6-DAF9F2F4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2AA-E79C-4D14-8D3C-CBECBFB9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2DC-2C58-4A86-B707-5901FCB0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D36-16F6-4314-95EA-86D5C6F9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B22-750A-48B6-99CB-B2A7E9D0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DA7-A2CC-4448-8581-89330C83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E14-63B3-4E83-9998-42CDD49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2DC-6797-4EE7-9E7A-BD2E695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C0E-B810-4945-98A3-571483583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260280"/>
            <a:ext cx="8497800" cy="61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unciones que devuelven un objeto de la c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+b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-b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,b*x.a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82184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7960" y="507960"/>
          <a:ext cx="8458200" cy="623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58200" cy="623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09680" y="457200"/>
          <a:ext cx="86137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57200"/>
                    <a:ext cx="8613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62040" y="528480"/>
          <a:ext cx="7783560" cy="74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528480"/>
                    <a:ext cx="7783560" cy="74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20560" y="571680"/>
          <a:ext cx="8217000" cy="60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571680"/>
                    <a:ext cx="8217000" cy="60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82760" y="393840"/>
          <a:ext cx="8496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3840"/>
                    <a:ext cx="8496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9800" y="520560"/>
          <a:ext cx="819144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0560"/>
                    <a:ext cx="819144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41320" y="531720"/>
          <a:ext cx="8164440" cy="598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531720"/>
                    <a:ext cx="81644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8280" y="528480"/>
          <a:ext cx="822960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528480"/>
                    <a:ext cx="822960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30360" y="593640"/>
          <a:ext cx="836280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362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28480" y="554040"/>
          <a:ext cx="8350560" cy="59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54040"/>
                    <a:ext cx="835056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20840" y="480960"/>
          <a:ext cx="8591400" cy="677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80960"/>
                    <a:ext cx="8591400" cy="67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20840" y="528480"/>
          <a:ext cx="862632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28480"/>
                    <a:ext cx="862632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20840" y="409680"/>
          <a:ext cx="848196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09680"/>
                    <a:ext cx="848196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1040" y="593640"/>
          <a:ext cx="819000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93640"/>
                    <a:ext cx="819000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66800" y="630360"/>
          <a:ext cx="804060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30360"/>
                    <a:ext cx="80406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04880" y="506520"/>
          <a:ext cx="801684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06520"/>
                    <a:ext cx="801684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07880" y="519120"/>
          <a:ext cx="858528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519120"/>
                    <a:ext cx="8585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04880" y="469800"/>
          <a:ext cx="825192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69800"/>
                    <a:ext cx="825192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476280"/>
            <a:ext cx="871380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x,String y,String z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95280" y="495360"/>
          <a:ext cx="86472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95360"/>
                    <a:ext cx="86472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55560" y="469800"/>
          <a:ext cx="812664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69800"/>
                    <a:ext cx="812664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295280"/>
            <a:ext cx="850752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//visibles en clase, no fu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//co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 y b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: devuelven un resultado (no modifican obje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981000"/>
            <a:ext cx="86407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sel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ve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pa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x.b==b*x.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x.b-b*x.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4-28T15:36:59Z</dcterms:modified>
  <cp:revision>23</cp:revision>
  <dc:subject/>
  <dc:title>Sin título de diapositiva</dc:title>
</cp:coreProperties>
</file>