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228-BFD6-4F72-9D30-12FE8BE3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F6E-E80F-4CD6-81C1-D1F5F41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FC4-7029-4DA6-B9E9-1B669F37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B6A-6B1E-433B-B88F-61EF5837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EF8-146B-4EFF-A70C-690D3E02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CAA-2F22-455B-8C6C-B3FA8CC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758-E3F6-4303-83EB-C67E8ED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AE1-A865-4DF3-B0E1-F4C891B8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041-70E2-45BA-9AEF-DC6063C1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7ED-1FDC-448E-8013-15709E9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8C1-236A-45DF-BE17-A0603A5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760-8EAC-4D06-A9D5-CCDB3935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0CA5-9711-4A8A-AD9F-A6423D44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60280"/>
            <a:ext cx="8497800" cy="61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unciones que devuelven un objeto de la cl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+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-b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a,b*x.b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ew F(a*x.b,b*x.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ublic 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2184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7960" y="507960"/>
          <a:ext cx="8458200" cy="62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58200" cy="62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09680" y="457200"/>
          <a:ext cx="86137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57200"/>
                    <a:ext cx="8613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62040" y="528480"/>
          <a:ext cx="7783560" cy="74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528480"/>
                    <a:ext cx="7783560" cy="74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20560" y="571680"/>
          <a:ext cx="8217000" cy="60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571680"/>
                    <a:ext cx="8217000" cy="60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393840"/>
          <a:ext cx="8496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3840"/>
                    <a:ext cx="8496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9800" y="520560"/>
          <a:ext cx="8191440" cy="56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0560"/>
                    <a:ext cx="8191440" cy="56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38280" y="528480"/>
          <a:ext cx="822960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528480"/>
                    <a:ext cx="822960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28480" y="554040"/>
          <a:ext cx="8350560" cy="59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54040"/>
                    <a:ext cx="835056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0840" y="480960"/>
          <a:ext cx="8591400" cy="677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0960"/>
                    <a:ext cx="8591400" cy="67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0840" y="528480"/>
          <a:ext cx="862632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28480"/>
                    <a:ext cx="862632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20840" y="409680"/>
          <a:ext cx="8481960" cy="65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09680"/>
                    <a:ext cx="8481960" cy="65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1040" y="593640"/>
          <a:ext cx="819000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93640"/>
                    <a:ext cx="819000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04880" y="506520"/>
          <a:ext cx="80168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0168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07880" y="519120"/>
          <a:ext cx="858528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519120"/>
                    <a:ext cx="85852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704880" y="469800"/>
          <a:ext cx="825192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69800"/>
                    <a:ext cx="825192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476280"/>
            <a:ext cx="871380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x,String y,String z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95280" y="495360"/>
          <a:ext cx="86472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95360"/>
                    <a:ext cx="86472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55560" y="469800"/>
          <a:ext cx="812664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69800"/>
                    <a:ext cx="812664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295280"/>
            <a:ext cx="85075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//visibles en clase, no fu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//co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 y b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: devuelven un resultado (no modifican ob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sel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ver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pa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boolea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==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x.b-b*x.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4-28T15:36:59Z</dcterms:modified>
  <cp:revision>23</cp:revision>
  <dc:subject/>
  <dc:title>Sin título de diapositiva</dc:title>
</cp:coreProperties>
</file>