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D23-AADF-4B3D-99E8-84241171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F9A-7279-4751-9FC4-CBC10FDA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7AD-65DE-4494-9BA8-874E90C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6F9-696F-4F5B-9A74-AE29303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D07-BC4F-4A33-9B21-EE90CBE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7FD-E3DF-4F0F-99DD-6AD5BA6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D36-5665-4AB1-A9FA-318528E1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B67-A22D-46B6-9680-8B06C12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B46-907C-4D1C-80E5-D33606C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C4C-AA07-4BB9-9234-FFCA732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00D-C628-4878-A0D4-D5F7BFA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49C-67F1-496A-9A8D-FC72D14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A2F4-C7E7-4F80-9E7F-9CA45D85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60280"/>
            <a:ext cx="849780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unciones que devuelven un objeto de la c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+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-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,b*x.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2184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507960"/>
          <a:ext cx="8458200" cy="62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58200" cy="62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9680" y="457200"/>
          <a:ext cx="86137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57200"/>
                    <a:ext cx="8613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62040" y="528480"/>
          <a:ext cx="7783560" cy="74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528480"/>
                    <a:ext cx="7783560" cy="74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0560" y="571680"/>
          <a:ext cx="8217000" cy="60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571680"/>
                    <a:ext cx="8217000" cy="60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393840"/>
          <a:ext cx="8496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3840"/>
                    <a:ext cx="8496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9800" y="520560"/>
          <a:ext cx="819144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0560"/>
                    <a:ext cx="819144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28480" y="554040"/>
          <a:ext cx="8350560" cy="59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54040"/>
                    <a:ext cx="83505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0840" y="480960"/>
          <a:ext cx="8591400" cy="67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0960"/>
                    <a:ext cx="8591400" cy="67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0840" y="528480"/>
          <a:ext cx="862632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62632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0840" y="409680"/>
          <a:ext cx="848196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09680"/>
                    <a:ext cx="848196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1040" y="593640"/>
          <a:ext cx="819000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93640"/>
                    <a:ext cx="819000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04880" y="506520"/>
          <a:ext cx="80168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0168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07880" y="519120"/>
          <a:ext cx="858528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519120"/>
                    <a:ext cx="8585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04880" y="469800"/>
          <a:ext cx="825192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69800"/>
                    <a:ext cx="825192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76280"/>
            <a:ext cx="87138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x,String y,String z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495360"/>
          <a:ext cx="86472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95360"/>
                    <a:ext cx="86472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95280"/>
            <a:ext cx="85075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//visibles en clase, no fu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//co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 y b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: devuelven un resultado (no modifican ob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sel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ve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pa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==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-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28T15:36:59Z</dcterms:modified>
  <cp:revision>23</cp:revision>
  <dc:subject/>
  <dc:title>Sin título de diapositiva</dc:title>
</cp:coreProperties>
</file>