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8C9-67E5-42AC-AE85-ECC7FB70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F5B-9EB8-4518-9F75-C46DE276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72DF-9853-455B-9555-DEA5141A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0D3-B861-4C62-A8FC-2AF739D1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7931-587B-4CD7-BA75-42237A81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DDC-E56C-4790-9696-29A17EC8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A29-F9A3-4879-B86B-6AF94388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0FC-A2DF-4FB2-8A19-D44276D8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0048-F1BD-4B3E-BC0A-A2BEB36F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378-0FDE-487A-86E5-96734A63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A96-BE6E-499E-B5C6-F84D06B4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34F-9B2D-4CA5-9A42-2F946319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1127-C2C4-4D87-AEDE-F5340026F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: Introducción a la Programación orientada a obje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obj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finición de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b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260280"/>
            <a:ext cx="8497800" cy="61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unciones que devuelven un objeto de la c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peradores binar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ew F(a*x.b+b*x.a,b*x.b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rest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ew F(a*x.b-b*x.a,b*x.b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ew F(a*x.a,b*x.b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ew F(a*x.b,b*x.a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peradores unar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new F(b,a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imp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=U.mcd(a,b); return new F(a/m,b/m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cedimientos (public void): modifican ob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52640"/>
            <a:ext cx="821844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modif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b=x; validar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u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mplif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m=U.mcd(a,b);a/=m;b/=m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t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t=a; a=b; b=t; validar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bi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+b*x.a; b*=x.b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st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-b*x.a; b*=x.b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ultipl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a; b*=x.b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vid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b; b*=x.a; validar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Con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990720"/>
            <a:ext cx="82296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x.indexOf(“/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{a=Integer.parseInt(x);b=1;return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a=Integer.parseInt(x.substring(0,i)); b=Integer.parseInt(x.substring(i+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//métodos internos (de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b==0) U.abortar(“denominador cero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//fin class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07960" y="507960"/>
          <a:ext cx="8458200" cy="623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07960"/>
                    <a:ext cx="8458200" cy="623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09680" y="457200"/>
          <a:ext cx="861372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457200"/>
                    <a:ext cx="86137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662040" y="528480"/>
          <a:ext cx="7783560" cy="741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528480"/>
                    <a:ext cx="7783560" cy="74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20560" y="571680"/>
          <a:ext cx="8217000" cy="60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571680"/>
                    <a:ext cx="8217000" cy="60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82760" y="393840"/>
          <a:ext cx="84960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393840"/>
                    <a:ext cx="8496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69800" y="520560"/>
          <a:ext cx="8191440" cy="56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0560"/>
                    <a:ext cx="8191440" cy="56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841320" y="531720"/>
          <a:ext cx="8164440" cy="5986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1320" y="531720"/>
                    <a:ext cx="816444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38280" y="528480"/>
          <a:ext cx="822960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528480"/>
                    <a:ext cx="822960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30360" y="593640"/>
          <a:ext cx="836280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36280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28480" y="554040"/>
          <a:ext cx="8350560" cy="59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54040"/>
                    <a:ext cx="8350560" cy="59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20840" y="480960"/>
          <a:ext cx="8591400" cy="677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80960"/>
                    <a:ext cx="8591400" cy="67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20840" y="528480"/>
          <a:ext cx="8626320" cy="646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28480"/>
                    <a:ext cx="862632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20840" y="409680"/>
          <a:ext cx="8481960" cy="65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09680"/>
                    <a:ext cx="8481960" cy="65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1040" y="593640"/>
          <a:ext cx="819000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93640"/>
                    <a:ext cx="819000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766800" y="630360"/>
          <a:ext cx="804060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30360"/>
                    <a:ext cx="804060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04880" y="506520"/>
          <a:ext cx="801684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06520"/>
                    <a:ext cx="801684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07880" y="519120"/>
          <a:ext cx="8585280" cy="65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519120"/>
                    <a:ext cx="858528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704880" y="469800"/>
          <a:ext cx="8251920" cy="59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469800"/>
                    <a:ext cx="8251920" cy="59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476280"/>
            <a:ext cx="871380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s de 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x,String y,String z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z.indexOf(x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0)return z; //cas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95280" y="495360"/>
          <a:ext cx="86472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95360"/>
                    <a:ext cx="86472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piar archivos contando caracteres y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Reader(U.readLine(“input?”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Writer(U.readLine(“output?”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int nl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nl; nc+=linea.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55560" y="469800"/>
          <a:ext cx="812664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469800"/>
                    <a:ext cx="812664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“más lejana=“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lase Fraccion (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295280"/>
            <a:ext cx="850752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//en archivo F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resentacion: datos de un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,b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//visibles en clase, no fu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nstructores: inicializan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//”canónic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x; b=y; valida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a=0; b=1;}//default 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//copy 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 b=1;}//co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asigna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){...}//si x=4.5,a=45 y b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: devuelven un resultado (no modifican obje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981000"/>
            <a:ext cx="864072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sele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return 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return b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nver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return a+”/”+b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o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return a/b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double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oDoubl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return (double)a/b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mpa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a*x.b==b*x.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a*x.b-b*x.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7-04-28T15:36:59Z</dcterms:modified>
  <cp:revision>23</cp:revision>
  <dc:subject/>
  <dc:title>Sin título de diapositiva</dc:title>
</cp:coreProperties>
</file>