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CD7B-81D4-4EC0-9A07-842C107885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ivate (super) VS pro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definición de métodos (usando su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String(): ladrar + super.toString(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518-3B07-4466-B9A1-4C9FA75C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587-9B9C-4D93-B15D-5032A83F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446-8911-409C-94F8-D2DA74FF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803-468A-490F-AE63-4F24702B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CD81-5C2E-40B0-83E6-D8BBC713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EE60-F1B7-4502-9998-D06EE6B3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1DD-15BD-4633-A7B4-CDD866E9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AB38-E6D2-4B2C-BEAA-5B2987C5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1E8E-8059-40F2-B139-3F114141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44C3-68EA-4238-8E36-6B733067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2590-6238-492E-B1C4-3AA6B8A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2F2-AFB1-4D43-AAF7-A079DD65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1546-F47F-4572-912A-DDCB00CF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2C83-0098-4C2D-BD44-9C731385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BE9E-6AE2-4376-A2F5-55D69EA4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FEB-E1B2-4F91-BE67-45E9162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8B43-9CD3-4F2D-A5B3-64E41FA3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90A-4EDC-4F43-8A66-65A42AEC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AEB-800D-4290-876A-5E8E2DB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580-EE40-443A-BAD1-F6802F34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310-BB57-4D50-8860-41CA746F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31A-35F8-4348-86E7-581108E3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21E-4F84-4DFA-934D-3D8A3B3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468-6B4C-4C3C-AA32-43A13F0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9515-D8FE-4E75-AE15-3C02D18E356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67F7-4C52-4811-A420-30BD807668A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maginar que para la tarea 6 nos mandan implementar la clase Mamíf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que para la tarea 7 nos mandan a implementar las clases gato y pe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365720"/>
            <a:ext cx="792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Idea: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Reutilizar la clase Mamífero y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refactorizar (adaptar) el cód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o cuando están terminando la tarea 7 les entregan las notas de la tarea 6 y se dan cuenta que la clase Mamífero tenía err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4365720"/>
            <a:ext cx="79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Problema: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Tener que corregir las clases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Perro y Gato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independiente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uno de los mecanismos de la Programación Orientada a Objetos por medio del cual una clase deriva de otra de manera de extender su funcion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3640" y="3860640"/>
            <a:ext cx="5400720" cy="2521080"/>
            <a:chOff x="1763640" y="3860640"/>
            <a:chExt cx="5400720" cy="2521080"/>
          </a:xfrm>
        </p:grpSpPr>
        <p:sp>
          <p:nvSpPr>
            <p:cNvPr id="131" name=""/>
            <p:cNvSpPr/>
            <p:nvPr/>
          </p:nvSpPr>
          <p:spPr>
            <a:xfrm>
              <a:off x="3348000" y="3860640"/>
              <a:ext cx="2160720" cy="935280"/>
            </a:xfrm>
            <a:prstGeom prst="roundRect">
              <a:avLst>
                <a:gd name="adj" fmla="val 3361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Tahoma"/>
                </a:rPr>
                <a:t>Mamífer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771640" y="4797360"/>
              <a:ext cx="3313080" cy="647640"/>
              <a:chOff x="2771640" y="4797360"/>
              <a:chExt cx="3313080" cy="647640"/>
            </a:xfrm>
          </p:grpSpPr>
          <p:sp>
            <p:nvSpPr>
              <p:cNvPr id="133" name=""/>
              <p:cNvSpPr/>
              <p:nvPr/>
            </p:nvSpPr>
            <p:spPr>
              <a:xfrm>
                <a:off x="2771640" y="5229360"/>
                <a:ext cx="3313080" cy="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71640" y="5229360"/>
                <a:ext cx="0" cy="21564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84720" y="5229360"/>
                <a:ext cx="0" cy="21564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427640" y="4797360"/>
                <a:ext cx="0" cy="43200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763640" y="5446800"/>
              <a:ext cx="2160720" cy="934920"/>
            </a:xfrm>
            <a:prstGeom prst="roundRect">
              <a:avLst>
                <a:gd name="adj" fmla="val 3361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Tahoma"/>
                </a:rPr>
                <a:t>Perr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640" y="5446800"/>
              <a:ext cx="2160720" cy="934920"/>
            </a:xfrm>
            <a:prstGeom prst="roundRect">
              <a:avLst>
                <a:gd name="adj" fmla="val 3361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Tahoma"/>
                </a:rPr>
                <a:t>Ga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Mamífe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class Mamifero 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rivate int pat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rivate String nombr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Mamifero(String nombre, int patas)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this.nombre = nombr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this.patas = pat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toString(){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return nombre + " tiene " + patas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" patas"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Per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class Perro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extends Mamifero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ivate int ladri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Perro(String nombre)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super(nombre, 4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//this.nombre = nombr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//patas = 4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Ga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class Gato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extends Mamifero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ivate int maulli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Gato(String nombre)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super(nombre, 4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visemos el Main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nlace Dinám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lecciona los métodos de acuerdo a la clase del 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…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…en el Main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Abstrac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rresponde a una clase que no es capaz de ser instanci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ede poseer métodos abstractos, de modo que las clases que hereden de ella estarán obligadas a implementar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…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…en el Main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or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l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finición de un Ob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ables de Ins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éto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 C2 P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riba la clase Mechon que permita manejar las notas de los dos controles del primer semestre a través de los sgtes méto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3068640"/>
          <a:ext cx="7859880" cy="2690640"/>
        </p:xfrm>
        <a:graphic>
          <a:graphicData uri="http://schemas.openxmlformats.org/drawingml/2006/table">
            <a:tbl>
              <a:tblPr/>
              <a:tblGrid>
                <a:gridCol w="2521080"/>
                <a:gridCol w="533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Ejemplo (Mechon 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 = new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Mechon(“Luis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ea un objeto de la clase Mechon que representa a un mechón llamado Lui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.notaC1(4.8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igna la nota 4.8 en el control 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.notaC2(3.1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igna la nota 3.1 en el control 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.Promedio(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ega el promedio de los 2 controles. Si no rindió uno de ellos se considera nota 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 C2 P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riba la clase Mechon1, que extienda de la clase anterior, de modo que mantenga la nota del control recuperativo y la maneje a través de los siguientes méto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55640" y="3330720"/>
          <a:ext cx="7859880" cy="2433600"/>
        </p:xfrm>
        <a:graphic>
          <a:graphicData uri="http://schemas.openxmlformats.org/drawingml/2006/table">
            <a:tbl>
              <a:tblPr/>
              <a:tblGrid>
                <a:gridCol w="2592360"/>
                <a:gridCol w="526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Ejemplo (Mechon1 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.notaCR(6.2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igna la nota 6.2 en el control recupera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.promedio(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ula el promedio en los 2 controles, considerando que la nota del recuperativo reemplaza a la menor de las notas de los controles (salvo que la nota del recuperativo sea peo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 C2 P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riba una función (o método) que calcule y entregue el promedio general del curso, es decir, el promedio de los promedios de los alumnos del cur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Variables de Instancia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rresponden a las variables que definen el 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8640" indent="-1886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0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un Complejo lo definen dos variables reales, la parte real y la parte imagin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416556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onstructores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finen la forma de instanci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301788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38560" y="3017880"/>
            <a:ext cx="48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d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, double imag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real =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imag =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1 = new Complejo(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0+0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2 = new Complejo(1,3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1+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étodos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finen el comportamiento del 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si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52728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invertir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-1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-1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5734080"/>
            <a:ext cx="8435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2.invertir(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-1-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114560" y="242100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amplificar(double k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k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k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1 co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2.amplificar(3.0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-1-3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-3-9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114560" y="242100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a =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sumar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2 co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3 = new Complejo(2,1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2+1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2.sumar(c3);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      //-3-9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-1-8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14560" y="2276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return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 suma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r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i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new Complejo(r,j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3 co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5589720"/>
            <a:ext cx="8291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4 = c2.suma(c3);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(-1-8i)+(2+1i)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1-7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étodo Espe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42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(&lt;real&gt;, &lt;imag&gt;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String toString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"("+real+", "+imag+"i)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653000"/>
            <a:ext cx="8435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ystem.out.println(c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in Método toString: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@19821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n Método toString: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(1, -7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4-26T22:46:00Z</dcterms:modified>
  <cp:revision>19</cp:revision>
  <dc:subject/>
  <dc:title>CC100 04 - Computación I Auxiliar Nº 1</dc:title>
</cp:coreProperties>
</file>