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1968-6456-4847-B653-E3DA997AD3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ivate (super) VS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definición de métodos (usando su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String(): ladrar + super.toString(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934-C255-4300-BB72-C0FE6F0E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BD2-FBF5-452F-80F9-7BEFC50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F5A-42E1-4F82-A6A7-A6B64AF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A45-FC87-4CE0-9248-81DBD209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2665-662D-4EB5-974D-62A15911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206B-44DB-4696-BCC8-FEE016B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0FFF-95B5-4AF3-AF95-0B971B6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5F3-9476-4E32-915D-389E636F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39E-ED3F-4E96-A1FA-DF47A99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573A-44C0-4357-9098-6346905D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73D1-4AEF-4FD8-9E2C-79874E8F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9F2-CFB9-4217-B050-1E85E5D4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27D8-32E2-47DF-A6C4-44AC160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511-D7F1-498F-B5A7-7049674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84FF-A81C-4D1A-965F-E07F6FB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759-B06E-4370-95F9-BC9C1DA7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89B5-C826-4610-9041-E7945094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6F6-6FD4-4E74-91A6-5FCA896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314-5A38-4208-BAB6-419AB84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909-11EB-4AA3-BFB7-E0170548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2F8-F7A1-45CD-8587-D97F097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0A6-C0B9-4690-A36D-B216898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36B-DF6D-4BCB-A7CE-7F63C994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3DC-2668-4F7F-B474-1505997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652-04AF-4CC9-994A-CDE3DB372A0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DED9-94C9-4436-B0D6-6424806B4D2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maginar que para la tarea 6 nos mandan implementar la clase Mamíf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que para la tarea 7 nos mandan a implementar las clases gato y 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365720"/>
            <a:ext cx="79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de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Reutilizar la clase Mamífero y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refactorizar (adaptar) el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cuando están terminando la tarea 7 les entregan las notas de la tarea 6 y se dan cuenta que la clase Mamífero tenía err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36572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roblema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 Tener que corregir las clases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Perro y Gato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  <a:ea typeface="Arial"/>
              </a:rPr>
              <a:t>independiente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o de los mecanismos de la Programación Orientada a Objetos por medio del cual una clase deriva de otra de manera de extender su funci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3860640"/>
            <a:ext cx="5400720" cy="2521080"/>
            <a:chOff x="1763640" y="3860640"/>
            <a:chExt cx="5400720" cy="2521080"/>
          </a:xfrm>
        </p:grpSpPr>
        <p:sp>
          <p:nvSpPr>
            <p:cNvPr id="131" name=""/>
            <p:cNvSpPr/>
            <p:nvPr/>
          </p:nvSpPr>
          <p:spPr>
            <a:xfrm>
              <a:off x="3348000" y="3860640"/>
              <a:ext cx="2160720" cy="93528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Mamífe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771640" y="4797360"/>
              <a:ext cx="3313080" cy="647640"/>
              <a:chOff x="2771640" y="4797360"/>
              <a:chExt cx="3313080" cy="647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771640" y="5229360"/>
                <a:ext cx="3313080" cy="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7164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84720" y="5229360"/>
                <a:ext cx="0" cy="21564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27640" y="4797360"/>
                <a:ext cx="0" cy="43200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76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Perr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640" y="5446800"/>
              <a:ext cx="2160720" cy="934920"/>
            </a:xfrm>
            <a:prstGeom prst="roundRect">
              <a:avLst>
                <a:gd name="adj" fmla="val 3361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Tahoma"/>
                </a:rPr>
                <a:t>Ga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Mamífe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class Mamifero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int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rivate String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Mamifero(String nombre, int patas)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nombre = nombr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this.patas = pat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toString(){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return nombre + " tiene " + patas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" patas"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Per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Perr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ladr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Perr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this.nombre = nombr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//patas = 4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Ga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class Gato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extends Mamifero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rivate int maulli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Gato(String nombre)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super(nombre, 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s-E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Mai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nlace Diná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lecciona los métodos de acuerdo a la clase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Abstrac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rresponde a una clase que no es capaz de ser instanci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poseer métodos abstractos, de modo que las clases que hereden de ella estarán obligadas a implementar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…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…en el Main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l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ción de un Ob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ables de Ins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 que permita manejar las notas de los dos controles del primer semestre a través de los sgtes méto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3068640"/>
          <a:ext cx="7859880" cy="2690640"/>
        </p:xfrm>
        <a:graphic>
          <a:graphicData uri="http://schemas.openxmlformats.org/drawingml/2006/table">
            <a:tbl>
              <a:tblPr/>
              <a:tblGrid>
                <a:gridCol w="2521080"/>
                <a:gridCol w="533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 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 = new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Mechon(“Luis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ea un objeto de la clase Mechon que representa a un mechón llamado Lui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1(4.8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4.8 en el control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notaC2(3.1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3.1 en el control 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a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ega el promedio de los 2 controles. Si no rindió uno de ellos se considera nota 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la clase Mechon1, que extienda de la clase anterior, de modo que mantenga la nota del control recuperativo y la maneje a través de los siguiente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55640" y="3330720"/>
          <a:ext cx="7859880" cy="2433600"/>
        </p:xfrm>
        <a:graphic>
          <a:graphicData uri="http://schemas.openxmlformats.org/drawingml/2006/table">
            <a:tbl>
              <a:tblPr/>
              <a:tblGrid>
                <a:gridCol w="2592360"/>
                <a:gridCol w="526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Ejemplo (Mechon1 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notaCR(6.2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igna la nota 6.2 en el control recupera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.promedio(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ula el promedio en los 2 controles, considerando que la nota del recuperativo reemplaza a la menor de las notas de los controles (salvo que la nota del recuperativo sea peo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 C2 P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criba una función (o método) que calcule y entregue el promedio general del curso, es decir, el promedio de los promedios de los alumnos del cur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8640" indent="-1886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0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26T22:46:00Z</dcterms:modified>
  <cp:revision>19</cp:revision>
  <dc:subject/>
  <dc:title>CC100 04 - Computación I Auxiliar Nº 1</dc:title>
</cp:coreProperties>
</file>