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1833-8CD4-4081-B9E0-FDAA3A534E1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ivate (super) VS prot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definición de métodos (usando sup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oString(): ladrar + super.toString(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82EC-B1C1-4302-AC64-ABD10CA44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1389-B721-45BA-9F6F-82B027DD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EC0F-B879-47C1-99E2-F66AB0369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51BF-14A7-4E10-91F3-F5F18E33D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C0DF-790F-49BE-9120-51CB91B99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AC79-A4B3-4558-AB8F-97AB5F3F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1463-D9A3-410C-9BE4-89E7A8A9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608C-2325-4A16-9490-C60A1991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9757-05FD-4553-B346-8AA23496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FB8E-18CD-4ED9-B807-DA5FA4BC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1362-A54A-49B2-8057-2C66CCB8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0D75-7C5E-40BF-8D47-F2717498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F22C-6B88-44EE-9006-25F1B09C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CE2E-46C6-4F60-891D-C5C0E36A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545B-3DEB-420C-949B-9B5B7C04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F296-27CD-4636-9183-B09D6A9E7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F3CD-9BC4-4A14-B98B-89C2287B3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004C-7801-42AF-8F48-98684892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447E-F70A-4B95-B501-C4655E17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8459-96DD-49C1-AD47-F6B00D81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6E3F-A724-4DD3-93F4-D14A6D19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62B9-9CEF-40B1-BC83-BD54672B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CD0C-E0CF-42C3-A605-FA908824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BCDA-E7B6-4A96-BBE2-5BD62B3C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5A88-21A0-4BCD-8BA7-561CC7D71E50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5BD2-A0F0-4838-A7D8-C6255A845FFC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CC100 04 - Computación I</a:t>
            </a:r>
            <a:br>
              <a:rPr sz="4400"/>
            </a:b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uxiliar Nº 8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Julio Villane 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 Dudas 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Imaginar que para la tarea 6 nos mandan implementar la clase Mamífe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Y que para la tarea 7 nos mandan a implementar las clases gato y per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4365720"/>
            <a:ext cx="7921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Idea: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 Reutilizar la clase Mamífero y 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refactorizar (adaptar) el códi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ero cuando están terminando la tarea 7 les entregan las notas de la tarea 6 y se dan cuenta que la clase Mamífero tenía erro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4365720"/>
            <a:ext cx="7921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Problema: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 Tener que corregir las clases 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Perro y Gato 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independientem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Herenc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s uno de los mecanismos de la Programación Orientada a Objetos por medio del cual una clase deriva de otra de manera de extender su funcional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763640" y="3860640"/>
            <a:ext cx="5400720" cy="2521080"/>
            <a:chOff x="1763640" y="3860640"/>
            <a:chExt cx="5400720" cy="2521080"/>
          </a:xfrm>
        </p:grpSpPr>
        <p:sp>
          <p:nvSpPr>
            <p:cNvPr id="131" name=""/>
            <p:cNvSpPr/>
            <p:nvPr/>
          </p:nvSpPr>
          <p:spPr>
            <a:xfrm>
              <a:off x="3348000" y="3860640"/>
              <a:ext cx="2160720" cy="935280"/>
            </a:xfrm>
            <a:prstGeom prst="roundRect">
              <a:avLst>
                <a:gd name="adj" fmla="val 33616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ffffff"/>
                  </a:solidFill>
                  <a:latin typeface="Tahoma"/>
                </a:rPr>
                <a:t>Mamífer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2771640" y="4797360"/>
              <a:ext cx="3313080" cy="647640"/>
              <a:chOff x="2771640" y="4797360"/>
              <a:chExt cx="3313080" cy="647640"/>
            </a:xfrm>
          </p:grpSpPr>
          <p:sp>
            <p:nvSpPr>
              <p:cNvPr id="133" name=""/>
              <p:cNvSpPr/>
              <p:nvPr/>
            </p:nvSpPr>
            <p:spPr>
              <a:xfrm>
                <a:off x="2771640" y="5229360"/>
                <a:ext cx="3313080" cy="0"/>
              </a:xfrm>
              <a:prstGeom prst="line">
                <a:avLst/>
              </a:prstGeom>
              <a:ln w="442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771640" y="5229360"/>
                <a:ext cx="0" cy="215640"/>
              </a:xfrm>
              <a:prstGeom prst="line">
                <a:avLst/>
              </a:prstGeom>
              <a:ln w="442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84720" y="5229360"/>
                <a:ext cx="0" cy="215640"/>
              </a:xfrm>
              <a:prstGeom prst="line">
                <a:avLst/>
              </a:prstGeom>
              <a:ln w="442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4427640" y="4797360"/>
                <a:ext cx="0" cy="432000"/>
              </a:xfrm>
              <a:prstGeom prst="line">
                <a:avLst/>
              </a:prstGeom>
              <a:ln w="44280">
                <a:solidFill>
                  <a:srgbClr val="ffcc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1763640" y="5446800"/>
              <a:ext cx="2160720" cy="934920"/>
            </a:xfrm>
            <a:prstGeom prst="roundRect">
              <a:avLst>
                <a:gd name="adj" fmla="val 33616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ffffff"/>
                  </a:solidFill>
                  <a:latin typeface="Tahoma"/>
                </a:rPr>
                <a:t>Perr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03640" y="5446800"/>
              <a:ext cx="2160720" cy="934920"/>
            </a:xfrm>
            <a:prstGeom prst="roundRect">
              <a:avLst>
                <a:gd name="adj" fmla="val 33616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ffffff"/>
                  </a:solidFill>
                  <a:latin typeface="Tahoma"/>
                </a:rPr>
                <a:t>Gat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Clase Mamífer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public class Mamifero {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private int pata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private String nombre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public Mamifero(String nombre, int patas){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this.nombre = nombre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this.patas = pata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public void toString(){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return nombre + " tiene " + patas 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" patas"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Clase Perr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public class Perro </a:t>
            </a:r>
            <a:r>
              <a:rPr b="1" lang="es-ES" sz="2800" spc="-1" strike="noStrike">
                <a:solidFill>
                  <a:srgbClr val="ffcc00"/>
                </a:solidFill>
                <a:latin typeface="Courier New"/>
              </a:rPr>
              <a:t>extends Mamifero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private int ladrido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public Perro(String nombre){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cc00"/>
                </a:solidFill>
                <a:latin typeface="Courier New"/>
              </a:rPr>
              <a:t>super(nombre, 4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//this.nombre = nombr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//patas = 4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0" lang="es-E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Clase Ga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public class Gato </a:t>
            </a:r>
            <a:r>
              <a:rPr b="1" lang="es-ES" sz="2800" spc="-1" strike="noStrike">
                <a:solidFill>
                  <a:srgbClr val="ffcc00"/>
                </a:solidFill>
                <a:latin typeface="Courier New"/>
              </a:rPr>
              <a:t>extends Mamifero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private int maullido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public Gato(String nombre){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cc00"/>
                </a:solidFill>
                <a:latin typeface="Courier New"/>
              </a:rPr>
              <a:t>super(nombre, 4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0" lang="es-E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visemos el Main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nlace Dinámic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elecciona los métodos de acuerdo a la clase del Obje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Ejemplo…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…en el Main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Clase Abstract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orresponde a una clase que no es capaz de ser instanci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uede poseer métodos abstractos, de modo que las clases que hereden de ella estarán obligadas a implementarl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Ejemplo…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…en el Main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paso - Clas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Obje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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dent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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t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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mporta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Cl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finición de un Obje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Variables de Insta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truc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éto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 Dudas 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2005 C2 P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criba la clase Mechon que permita manejar las notas de los dos controles del primer semestre a través de los sgtes méto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55640" y="3068640"/>
          <a:ext cx="7859880" cy="2690640"/>
        </p:xfrm>
        <a:graphic>
          <a:graphicData uri="http://schemas.openxmlformats.org/drawingml/2006/table">
            <a:tbl>
              <a:tblPr/>
              <a:tblGrid>
                <a:gridCol w="2521080"/>
                <a:gridCol w="5338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Ejemplo (Mechon a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Significa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a = new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Mechon(“Luis”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rea un objeto de la clase Mechon que representa a un mechón llamado Lui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a.notaC1(4.8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igna la nota 4.8 en el control 1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a.notaC2(3.1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igna la nota 3.1 en el control 2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a.Promedio(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trega el promedio de los 2 controles. Si no rindió uno de ellos se considera nota 1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2005 C2 P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criba la clase Mechon1, que extienda de la clase anterior, de modo que mantenga la nota del control recuperativo y la maneje a través de los siguientes métod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55640" y="3330720"/>
          <a:ext cx="7859880" cy="2433600"/>
        </p:xfrm>
        <a:graphic>
          <a:graphicData uri="http://schemas.openxmlformats.org/drawingml/2006/table">
            <a:tbl>
              <a:tblPr/>
              <a:tblGrid>
                <a:gridCol w="2592360"/>
                <a:gridCol w="5267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Ejemplo (Mechon1 b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Significa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b.notaCR(6.2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igna la nota 6.2 en el control recuperativ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b.promedio(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lcula el promedio en los 2 controles, considerando que la nota del recuperativo reemplaza a la menor de las notas de los controles (salvo que la nota del recuperativo sea peor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2005 C2 P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ahom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criba una función (o método) que calcule y entregue el promedio general del curso, es decir, el promedio de los promedios de los alumnos del cur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paso - Clas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Variables de Instancia: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corresponden a las variables que definen el obje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8640" indent="-18864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Ejemplo: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0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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 un Complejo lo definen dos variables reales, la parte real y la parte imagina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908000" y="4165560"/>
            <a:ext cx="511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ublic Complejo(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rivate double re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rivate double ima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paso - Clas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Constructores: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definen la forma de instanci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3017880"/>
            <a:ext cx="36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ublic Complejo(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real = 0.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imag = 0.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38560" y="3017880"/>
            <a:ext cx="482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ublic Complejo(dou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real, double imag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this.real = re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this.imag = ima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5373720"/>
            <a:ext cx="82915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Complejo c1 = new Complejo();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//0+0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Complejo c2 = new Complejo(1,3);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//1+3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paso - Clas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Métodos: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definen el comportamiento del obje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Ejemplo sin parámetro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3527280"/>
            <a:ext cx="72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ublic void invertir(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real = -1*re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imag = -1*ima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5734080"/>
            <a:ext cx="84358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c2.invertir();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//-1-3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paso - Clas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114560" y="2421000"/>
            <a:ext cx="727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ublic void amplificar(double k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real = k*re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imag = k*ima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Ejemplo 1 con parámetro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5373720"/>
            <a:ext cx="82915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c2.amplificar(3.0);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//-1-3i </a:t>
            </a:r>
            <a:r>
              <a:rPr b="0" lang="es-E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 -3-9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paso - Clas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1114560" y="2421000"/>
            <a:ext cx="727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//a = a+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ublic void sumar(Complejo c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real = real+c.re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imag = imag+c.ima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Ejemplo 2 con parámetro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5373720"/>
            <a:ext cx="82915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Complejo c3 = new Complejo(2,1);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//2+1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c2.sumar(c3); 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       //-3-9i </a:t>
            </a:r>
            <a:r>
              <a:rPr b="0" lang="es-E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 -1-8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paso - Clas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114560" y="2276640"/>
            <a:ext cx="727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//return a+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ublic Complejo suma(Complejo c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double r = real+c.re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double i = imag+c.ima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return new Complejo(r,j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Ejemplo 3 con parámetro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5589720"/>
            <a:ext cx="82915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Complejo c4 = c2.suma(c3); 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//(-1-8i)+(2+1i) </a:t>
            </a:r>
            <a:r>
              <a:rPr b="0" lang="es-E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 1-7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paso - Clas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Método Espec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2421000"/>
            <a:ext cx="72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//(&lt;real&gt;, &lt;imag&gt;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ublic String toString(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return "("+real+", "+imag+"i)"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4653000"/>
            <a:ext cx="843588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System.out.println(c4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Sin Método toString: 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Complejo@19821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Con Método toString: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(1, -7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3:47:08Z</dcterms:created>
  <dc:creator>Julio</dc:creator>
  <dc:description/>
  <dc:language>en-US</dc:language>
  <cp:lastModifiedBy>Julio Villane S</cp:lastModifiedBy>
  <dcterms:modified xsi:type="dcterms:W3CDTF">2007-04-26T22:46:00Z</dcterms:modified>
  <cp:revision>19</cp:revision>
  <dc:subject/>
  <dc:title>CC100 04 - Computación I Auxiliar Nº 1</dc:title>
</cp:coreProperties>
</file>