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34B-021A-4F1A-A62F-EF69B254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269-2C89-49ED-AEB4-CBAB905C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9F3-B6E4-48C0-81A6-D8F506D7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8CC-4F58-478B-8805-C00A0242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B53-5222-4F1D-B204-7CB2248D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0F1-2120-49E7-BD5E-93FAFDDA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D86-61A7-4A3C-BE82-3AAE7EAF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B77-B281-480D-BCC5-DAA76EB3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17E-CE1C-4FC3-99DD-B8D3B622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248-0955-4081-AA45-35070C9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429-87F6-409B-AE8F-C4B392E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DD4-10CE-4BA5-A273-5A7291E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981-04E2-424D-A5C7-4B82A2322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4680" y="557280"/>
          <a:ext cx="84484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57280"/>
                    <a:ext cx="84484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7880" y="446040"/>
          <a:ext cx="854892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4892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46040"/>
          <a:ext cx="84740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4740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81040"/>
          <a:ext cx="837432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82640" y="673200"/>
          <a:ext cx="7604280" cy="57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73200"/>
                    <a:ext cx="760428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443160"/>
            <a:ext cx="8136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GridLayout(3,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200,50*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componentes a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respuest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p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ugar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648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648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35020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35020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82760" y="655560"/>
          <a:ext cx="838656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55560"/>
                    <a:ext cx="838656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07-04-17T12:30:03Z</dcterms:modified>
  <cp:revision>19</cp:revision>
  <dc:subject/>
  <dc:title>Sin título de diapositiva</dc:title>
</cp:coreProperties>
</file>