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B14-2704-4B18-9628-3886C711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71B-D6D3-4BA0-B636-48BF4DCB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78E-FFF0-4B4A-ADFC-657FF821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753-47E7-4AE8-89FE-935A9782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302-8C61-4A88-98C3-3D43644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750-E7D7-43E5-8834-FE90D7C7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262-1029-41A6-A527-5732500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C75-7C63-4C63-96B2-F37415D4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2EF-068B-418E-8CA8-FA8D4AF1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EBE-FA55-4568-86E6-4F23A2D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37E-8394-43BA-AD15-99C621A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606-6955-44BC-9E7D-C149C3E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F087-3C98-4E4B-9054-8AC95011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82640" y="673200"/>
          <a:ext cx="7604280" cy="57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73200"/>
                    <a:ext cx="76042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43160"/>
            <a:ext cx="8136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7-04-17T12:30:03Z</dcterms:modified>
  <cp:revision>19</cp:revision>
  <dc:subject/>
  <dc:title>Sin título de diapositiva</dc:title>
</cp:coreProperties>
</file>