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DC8-B7CF-4E35-A87E-4AA4F812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5E7-C78F-4271-9095-AE90F160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BEA-582C-4C6C-A591-88293335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255-A8A1-4531-A752-66378F7B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16F-E447-4237-8AF6-1543878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6CA-18CB-4372-9F38-8F855C62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C6A-E414-4F7F-A5DB-E4BC9753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FF0-0C46-469A-B2C5-08774AB1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3CE-895E-450D-8317-E8C9FED5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66E-7334-4095-BB7E-8AEA533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BBF-17D9-4FFA-91D6-A0B033F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3F1-0262-4CF8-9A23-5F315D1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98A-7356-45AF-B290-B1169E29F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46040"/>
          <a:ext cx="854892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48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82640" y="673200"/>
          <a:ext cx="7604280" cy="57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73200"/>
                    <a:ext cx="760428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443160"/>
            <a:ext cx="8136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7-04-17T12:30:03Z</dcterms:modified>
  <cp:revision>19</cp:revision>
  <dc:subject/>
  <dc:title>Sin título de diapositiva</dc:title>
</cp:coreProperties>
</file>