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562-D0A8-4703-959E-DC0958C3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4E0-C676-4724-AF61-E49B63EB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ACC-4839-492F-8AE7-D4AF54AA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656-104F-432C-8ED7-BE73388E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A55-7CD9-453C-9DB9-02ABA267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C7F-FC1B-4E2E-AE09-5B24D058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B67-1E49-4467-A126-BE6D21AF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C9F-B457-4441-9C9C-61752C53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011-C2F8-437E-9A28-804997D1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B15-38E8-4F54-9DE8-1D68D4EF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38E-65C8-4ADD-96BA-FC589651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0FF-CA17-4C69-8BC8-ED972AA3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F5C7-FA78-4A91-9CCE-211194EBB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7880" y="446040"/>
          <a:ext cx="854892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4892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82640" y="673200"/>
          <a:ext cx="7604280" cy="57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73200"/>
                    <a:ext cx="760428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443160"/>
            <a:ext cx="8136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GridLayout(3,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200,50*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componentes a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respuest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ugar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7-04-17T12:30:03Z</dcterms:modified>
  <cp:revision>19</cp:revision>
  <dc:subject/>
  <dc:title>Sin título de diapositiva</dc:title>
</cp:coreProperties>
</file>