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718-9D99-4082-9484-5D925392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DCE-9FFD-41BF-B900-BDDD3ABC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AE2-18FF-4423-8399-56F0C6CC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D8E-663F-40A5-A04B-AB646292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45C-F62D-4C82-9661-01A493A9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121-DFF4-418B-9029-E603359C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E47-180D-455D-9C19-8EF0E6E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EFC-AD00-4A50-9D99-1C7B7903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E7E-B86F-4263-8FB0-219303FE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0BF-693A-4A98-96EB-B8345C4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A66-DF17-4329-8B7B-896A6EE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20E-E690-4F7B-B5E5-9107B6C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4285-A2FE-4058-B4DD-63D25D3FD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517680"/>
          <a:ext cx="83743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17680"/>
                    <a:ext cx="83743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4-13T14:53:52Z</dcterms:modified>
  <cp:revision>16</cp:revision>
  <dc:subject/>
  <dc:title>Sin título de diapositiva</dc:title>
</cp:coreProperties>
</file>