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C3A-DE68-4B3F-8289-7E390E70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739-DFA0-43E1-9205-E5FC253B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478-8F05-4618-965E-41D05775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DC2-515A-4FE6-AFDF-1762882D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848-42AA-4A7F-A1CC-DCDF488D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C13-6FEE-484F-9BCF-74046321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AE8-49A5-4CDF-A807-0E8FBF04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E6F-56CA-479A-B43B-02700BEC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A8D-3E00-4611-A424-7D724EB1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3B8-94CC-4733-A880-1D16F5D4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28F-E2B3-467C-97C1-945D934A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FBD-DA28-4E29-B596-2AE77360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6C47-9E1E-4EDA-9506-9EF27DE20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35000" y="638280"/>
          <a:ext cx="76755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38280"/>
                    <a:ext cx="76755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77800" y="480960"/>
          <a:ext cx="830124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0960"/>
                    <a:ext cx="830124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6720" y="577800"/>
          <a:ext cx="84823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77800"/>
                    <a:ext cx="84823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19120" y="568440"/>
          <a:ext cx="832500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2500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816120"/>
          <a:ext cx="838692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38692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78040" y="655560"/>
          <a:ext cx="78930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8930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44600" y="528480"/>
          <a:ext cx="8542080" cy="657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8480"/>
                    <a:ext cx="8542080" cy="65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344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344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9440" y="625320"/>
          <a:ext cx="8218440" cy="58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25320"/>
                    <a:ext cx="821844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517680"/>
          <a:ext cx="83743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17680"/>
                    <a:ext cx="83743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668160"/>
          <a:ext cx="83376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37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88960" y="817560"/>
          <a:ext cx="819468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17560"/>
                    <a:ext cx="81946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30360" y="557280"/>
          <a:ext cx="7929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57280"/>
                    <a:ext cx="7929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1120" y="853920"/>
          <a:ext cx="818820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53920"/>
                    <a:ext cx="81882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1120" y="915840"/>
          <a:ext cx="77677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677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4-13T14:53:52Z</dcterms:modified>
  <cp:revision>16</cp:revision>
  <dc:subject/>
  <dc:title>Sin título de diapositiva</dc:title>
</cp:coreProperties>
</file>