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223-9AA8-4EED-A30D-A4E957F1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4A3-ED41-48DD-889C-80E5FB5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F9C-4DB5-4796-8697-AADFF9BC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4B9-2B4A-4463-A198-32AA1A7E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367-3B2C-46F9-A901-53FA0B3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EC5-E856-4652-9896-33EA665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679-6F54-4444-8C2F-9F533FC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669-8122-4A27-A470-8109432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516-75E5-4937-ADFF-CCF81BE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A8B-5EE8-4D20-91F2-64CE36F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F87-7E30-428D-B67A-E7B1DF53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F38-89AE-4164-A53C-FA52D9D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92AF-1C21-45D3-8F8A-48DF2B4A9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517680"/>
          <a:ext cx="83743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17680"/>
                    <a:ext cx="83743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13T14:53:52Z</dcterms:modified>
  <cp:revision>16</cp:revision>
  <dc:subject/>
  <dc:title>Sin título de diapositiva</dc:title>
</cp:coreProperties>
</file>