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4A0-4E3B-4159-BDAC-5AACD612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737-A1FE-4BEA-9202-E7BF081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3B9-277B-4E6E-B347-2B8F7213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E95-9BFA-40AC-9D77-F1C05BCC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119-8788-4D38-9D02-ADAF3E6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EA1-7883-4FE0-A10B-3DE2F3CF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58A-79FC-4864-A48F-A652433B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4D7-C507-40C0-85F7-8A0C7420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338-1E60-444B-93DC-A6B9F5ED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7A7-0A55-4E95-A419-7BE2E5B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655-1FA0-48B2-922F-40C928B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87D-31AD-41A9-8C02-93CAFEB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C3C-05E3-4808-B4FF-EC6312A29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517680"/>
          <a:ext cx="83743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17680"/>
                    <a:ext cx="83743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13T14:53:52Z</dcterms:modified>
  <cp:revision>16</cp:revision>
  <dc:subject/>
  <dc:title>Sin título de diapositiva</dc:title>
</cp:coreProperties>
</file>