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EB0B-04D3-4209-9B1E-8929ED93B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1B54-4A70-4FFE-8727-5313443F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4EA4-3B07-4059-A9ED-3AED90162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49F2-A536-4335-A975-13E0543A9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2547-4758-4A8B-94D4-65D010FC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EF71-5E8D-4381-8D04-120AEB51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B5B3-A368-424E-A36C-3B0F020F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4DB2-3EDB-47D0-A427-2C0A1BE6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81B8-C888-4C06-9953-1FD63668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A60D-41A0-4DBE-920D-0ABB218B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6598-0A8F-432E-B621-E600BA35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8708-F5E4-4AD0-8320-AC9EB367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5C24-7C04-4C58-A4B5-18A5FC3EA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6600" y="681120"/>
          <a:ext cx="8312040" cy="575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81120"/>
                    <a:ext cx="8312040" cy="57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33400" y="592200"/>
          <a:ext cx="7786800" cy="62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400" y="592200"/>
                    <a:ext cx="7786800" cy="62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57280" y="531720"/>
          <a:ext cx="826272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531720"/>
                    <a:ext cx="826272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55560" y="469800"/>
          <a:ext cx="8126640" cy="627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469800"/>
                    <a:ext cx="8126640" cy="62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06600" y="531720"/>
          <a:ext cx="8262720" cy="822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31720"/>
                    <a:ext cx="8262720" cy="822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43040" y="606600"/>
          <a:ext cx="7953120" cy="822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606600"/>
                    <a:ext cx="7953120" cy="822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828720" y="568440"/>
          <a:ext cx="794232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568440"/>
                    <a:ext cx="794232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68440" y="581040"/>
          <a:ext cx="818964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581040"/>
                    <a:ext cx="818964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84120" y="358920"/>
          <a:ext cx="8497800" cy="68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358920"/>
                    <a:ext cx="8497800" cy="68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44680" y="692280"/>
          <a:ext cx="8461080" cy="607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692280"/>
                    <a:ext cx="8461080" cy="60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014480" y="692280"/>
          <a:ext cx="7707240" cy="59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692280"/>
                    <a:ext cx="7707240" cy="59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17480" y="557280"/>
          <a:ext cx="8164440" cy="633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557280"/>
                    <a:ext cx="8164440" cy="63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28720" y="743040"/>
          <a:ext cx="7620120" cy="581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743040"/>
                    <a:ext cx="7620120" cy="58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865080" y="544680"/>
          <a:ext cx="791712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544680"/>
                    <a:ext cx="791712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336680" y="878040"/>
          <a:ext cx="7062840" cy="555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878040"/>
                    <a:ext cx="7062840" cy="55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88920" y="506520"/>
          <a:ext cx="7694640" cy="611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506520"/>
                    <a:ext cx="7694640" cy="61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33400" y="538200"/>
          <a:ext cx="779940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400" y="538200"/>
                    <a:ext cx="779940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03160" y="792000"/>
          <a:ext cx="7782120" cy="46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792000"/>
                    <a:ext cx="7782120" cy="46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jalvarez</cp:lastModifiedBy>
  <cp:lastPrinted>2006-04-12T00:39:02Z</cp:lastPrinted>
  <dcterms:modified xsi:type="dcterms:W3CDTF">2007-04-10T13:13:35Z</dcterms:modified>
  <cp:revision>31</cp:revision>
  <dc:subject/>
  <dc:title>Sin título de diapositiva</dc:title>
</cp:coreProperties>
</file>