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8EE-97FB-4BA3-8E43-5A879FD0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AA1-38D3-4623-B98E-16ACEEE5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407-3AC1-41A7-AEBF-04E417D6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CB7-56EF-400E-A1BC-1A87250B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591-83FB-4FBA-87E4-EFCDE143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DFD-FC55-4135-8F60-C1AECDE3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DA5-4170-406E-BE53-1D97C329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8B8-3F82-422C-A97E-FCC06762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1FB-0FEA-431B-B340-A09562A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F39-7CD8-4378-BCF2-A4BC3ED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8D5-60D9-402E-8658-00A8702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A5C-4039-4D38-8265-83B9431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4452-017D-403D-A784-6224C5E23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81120"/>
          <a:ext cx="831204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81120"/>
                    <a:ext cx="83120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33400" y="592200"/>
          <a:ext cx="778680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592200"/>
                    <a:ext cx="778680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57280" y="531720"/>
          <a:ext cx="82627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31720"/>
                    <a:ext cx="82627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469800"/>
          <a:ext cx="812664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69800"/>
                    <a:ext cx="812664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531720"/>
          <a:ext cx="826272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26272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06600"/>
          <a:ext cx="795312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6600"/>
                    <a:ext cx="795312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568440"/>
          <a:ext cx="7942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68440"/>
                    <a:ext cx="7942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581040"/>
          <a:ext cx="818964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81040"/>
                    <a:ext cx="81896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4120" y="358920"/>
          <a:ext cx="8497800" cy="68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58920"/>
                    <a:ext cx="84978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44680" y="692280"/>
          <a:ext cx="8461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92280"/>
                    <a:ext cx="8461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14480" y="692280"/>
          <a:ext cx="770724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70724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164440" cy="63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28720" y="743040"/>
          <a:ext cx="76201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43040"/>
                    <a:ext cx="76201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65080" y="544680"/>
          <a:ext cx="791712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44680"/>
                    <a:ext cx="7917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506520"/>
          <a:ext cx="76946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506520"/>
                    <a:ext cx="76946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33400" y="538200"/>
          <a:ext cx="77994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538200"/>
                    <a:ext cx="77994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03160" y="792000"/>
          <a:ext cx="7782120" cy="46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792000"/>
                    <a:ext cx="77821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12T00:39:02Z</cp:lastPrinted>
  <dcterms:modified xsi:type="dcterms:W3CDTF">2007-04-10T13:13:35Z</dcterms:modified>
  <cp:revision>31</cp:revision>
  <dc:subject/>
  <dc:title>Sin título de diapositiva</dc:title>
</cp:coreProperties>
</file>