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92C5-8FB6-4D92-A7A2-E006FB542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4088-A35F-4C2D-85BD-75EC9DE3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BC91-3E61-4212-93E5-E9BB30FF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20CE-B06A-4530-BC4C-7D3A232C9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1BB9-7B98-49D1-8C93-AA28C1E5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90DB-32C4-4077-820F-6E4B398F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6E18-1963-4D43-A2E4-2A3FDB55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7122-49B3-45EA-AC06-30A46E32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8752-57E3-4DBB-9395-88CD3299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A87C-20C7-49BC-A593-8E429473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F486-C2BB-47CD-B735-F95D9115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9CFF-E7ED-40EB-BB23-BF193FEC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0B56-2FBB-407C-8AC8-B51E27C1A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6600" y="681120"/>
          <a:ext cx="8312040" cy="57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81120"/>
                    <a:ext cx="8312040" cy="57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33400" y="592200"/>
          <a:ext cx="7786800" cy="62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592200"/>
                    <a:ext cx="7786800" cy="62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57280" y="531720"/>
          <a:ext cx="826272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531720"/>
                    <a:ext cx="826272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55560" y="469800"/>
          <a:ext cx="8126640" cy="627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469800"/>
                    <a:ext cx="8126640" cy="62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06600" y="531720"/>
          <a:ext cx="8262720" cy="822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31720"/>
                    <a:ext cx="8262720" cy="822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43040" y="606600"/>
          <a:ext cx="7953120" cy="822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606600"/>
                    <a:ext cx="7953120" cy="822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828720" y="568440"/>
          <a:ext cx="794232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568440"/>
                    <a:ext cx="794232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68440" y="581040"/>
          <a:ext cx="818964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581040"/>
                    <a:ext cx="818964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84120" y="358920"/>
          <a:ext cx="8497800" cy="68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358920"/>
                    <a:ext cx="8497800" cy="68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44680" y="692280"/>
          <a:ext cx="8461080" cy="607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692280"/>
                    <a:ext cx="8461080" cy="60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014480" y="692280"/>
          <a:ext cx="7707240" cy="59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692280"/>
                    <a:ext cx="7707240" cy="59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17480" y="557280"/>
          <a:ext cx="8164440" cy="633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557280"/>
                    <a:ext cx="8164440" cy="63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28720" y="743040"/>
          <a:ext cx="7620120" cy="581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743040"/>
                    <a:ext cx="7620120" cy="58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865080" y="544680"/>
          <a:ext cx="791712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544680"/>
                    <a:ext cx="791712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336680" y="878040"/>
          <a:ext cx="7062840" cy="555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878040"/>
                    <a:ext cx="7062840" cy="55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88920" y="506520"/>
          <a:ext cx="7694640" cy="611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506520"/>
                    <a:ext cx="7694640" cy="61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33400" y="538200"/>
          <a:ext cx="779940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538200"/>
                    <a:ext cx="779940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03160" y="792000"/>
          <a:ext cx="7782120" cy="46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792000"/>
                    <a:ext cx="7782120" cy="46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6-04-12T00:39:02Z</cp:lastPrinted>
  <dcterms:modified xsi:type="dcterms:W3CDTF">2007-04-10T13:13:35Z</dcterms:modified>
  <cp:revision>31</cp:revision>
  <dc:subject/>
  <dc:title>Sin título de diapositiva</dc:title>
</cp:coreProperties>
</file>