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C573-1BB6-443D-A789-7D3582CF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7F92-ADD6-41F3-86EA-CD7A0EC2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F6AA-40ED-4C36-9B14-13B44AD1E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D72D-36CE-4CD5-BF97-EAC9134F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6D44-BC9F-4C59-A235-A1D5CF73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A221-BD67-4044-A2A4-6F99F252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424D-C789-46C5-BE86-B864D22E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39D0-ECFE-4A38-BEC4-232B4A43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DC36-5396-41A4-9CC0-88DC87E5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ECC6-00D5-44A8-8045-F2375999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BD37-CA58-463B-B99F-9ECECD05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A59E-C82A-4C36-B3B1-0E284821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66AF-7EAB-4B2C-A74E-E4A7B23BC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38320" y="927000"/>
          <a:ext cx="7532640" cy="507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927000"/>
                    <a:ext cx="753264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73200" y="528480"/>
          <a:ext cx="8362800" cy="706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28480"/>
                    <a:ext cx="8362800" cy="706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43040" y="717480"/>
          <a:ext cx="761976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717480"/>
                    <a:ext cx="76197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65080" y="606600"/>
          <a:ext cx="776916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06600"/>
                    <a:ext cx="776916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1720" y="568440"/>
          <a:ext cx="839952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68440"/>
                    <a:ext cx="839952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28480" y="541440"/>
          <a:ext cx="8302680" cy="610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541440"/>
                    <a:ext cx="8302680" cy="61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33440" y="601560"/>
          <a:ext cx="855324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601560"/>
                    <a:ext cx="855324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43040" y="681120"/>
          <a:ext cx="8126280" cy="59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81120"/>
                    <a:ext cx="812628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04880" y="692280"/>
          <a:ext cx="8275680" cy="686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692280"/>
                    <a:ext cx="8275680" cy="68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20840" y="528480"/>
          <a:ext cx="853092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28480"/>
                    <a:ext cx="853092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076400" y="890640"/>
          <a:ext cx="7891560" cy="561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90640"/>
                    <a:ext cx="78915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81040" y="531720"/>
          <a:ext cx="8350200" cy="748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31720"/>
                    <a:ext cx="8350200" cy="748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65200" y="554040"/>
          <a:ext cx="8397720" cy="654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554040"/>
                    <a:ext cx="8397720" cy="65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8400" y="638280"/>
          <a:ext cx="794088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638280"/>
                    <a:ext cx="794088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30360" y="446040"/>
          <a:ext cx="832644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46040"/>
                    <a:ext cx="832644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54200" y="704880"/>
          <a:ext cx="79549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704880"/>
                    <a:ext cx="79549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16120" y="692280"/>
          <a:ext cx="814068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692280"/>
                    <a:ext cx="814068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20840" y="554040"/>
          <a:ext cx="8591400" cy="613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54040"/>
                    <a:ext cx="8591400" cy="61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977760" y="596880"/>
          <a:ext cx="725184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596880"/>
                    <a:ext cx="725184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08T15:00:39Z</cp:lastPrinted>
  <dcterms:modified xsi:type="dcterms:W3CDTF">2007-04-05T15:04:48Z</dcterms:modified>
  <cp:revision>40</cp:revision>
  <dc:subject/>
  <dc:title>Sin título de diapositiva</dc:title>
</cp:coreProperties>
</file>