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0C6-5514-4035-80FE-C817F377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3091-8647-4A23-BC2C-432EB61D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D822-D426-4CA8-97C7-6D4B7395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6E70-D39D-4E67-8EAA-A2940DAC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8E5-45C7-44F1-A23A-FCB87A01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EA31-9611-4821-BB38-2F4DEF85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537-614B-43F8-B8F6-3F020F66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A317-0B0C-4D44-81A0-BCCC8A57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E08-04A3-4E7F-A861-EC6F97A2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EEC-E75B-488B-9854-A7E0BD2D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7CE-63F3-40A7-B3A0-F34F82F1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48F-ED87-4CC2-8C06-57551577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A7B1-9CE9-46C4-922C-E43CB8D11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38320" y="927000"/>
          <a:ext cx="7532640" cy="50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927000"/>
                    <a:ext cx="753264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73200" y="528480"/>
          <a:ext cx="8362800" cy="706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28480"/>
                    <a:ext cx="8362800" cy="706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43040" y="717480"/>
          <a:ext cx="761976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717480"/>
                    <a:ext cx="7619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65080" y="606600"/>
          <a:ext cx="77691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7691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568440"/>
          <a:ext cx="839952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68440"/>
                    <a:ext cx="839952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28480" y="541440"/>
          <a:ext cx="8302680" cy="610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41440"/>
                    <a:ext cx="8302680" cy="61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33440" y="601560"/>
          <a:ext cx="855324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601560"/>
                    <a:ext cx="855324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43040" y="681120"/>
          <a:ext cx="812628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81120"/>
                    <a:ext cx="812628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04880" y="692280"/>
          <a:ext cx="8275680" cy="686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92280"/>
                    <a:ext cx="8275680" cy="68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20840" y="528480"/>
          <a:ext cx="853092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28480"/>
                    <a:ext cx="853092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76400" y="890640"/>
          <a:ext cx="7891560" cy="56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90640"/>
                    <a:ext cx="78915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1040" y="531720"/>
          <a:ext cx="8350200" cy="748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31720"/>
                    <a:ext cx="8350200" cy="748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65200" y="554040"/>
          <a:ext cx="8397720" cy="65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554040"/>
                    <a:ext cx="8397720" cy="65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8400" y="638280"/>
          <a:ext cx="794088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638280"/>
                    <a:ext cx="794088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30360" y="446040"/>
          <a:ext cx="832644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46040"/>
                    <a:ext cx="832644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54200" y="704880"/>
          <a:ext cx="79549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704880"/>
                    <a:ext cx="79549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16120" y="692280"/>
          <a:ext cx="81406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92280"/>
                    <a:ext cx="81406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20840" y="554040"/>
          <a:ext cx="8591400" cy="613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54040"/>
                    <a:ext cx="8591400" cy="61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77760" y="596880"/>
          <a:ext cx="725184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596880"/>
                    <a:ext cx="725184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07-04-05T15:04:48Z</dcterms:modified>
  <cp:revision>40</cp:revision>
  <dc:subject/>
  <dc:title>Sin título de diapositiva</dc:title>
</cp:coreProperties>
</file>