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7F9-DD84-422E-8BF8-C257C5C1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E2D-77B6-4CA9-A9E7-159D651B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777-3729-40A1-84F6-CF22A964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BD9-EA85-424A-87FD-0F7F0C3C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123-8525-4971-A792-14E380DE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528-A3DB-4D09-A19F-59AEF14D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459-954A-4C17-841D-9F4C0734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9A1-159B-4078-B7CD-1CD370AD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C2F-6663-44B9-9BCA-9F0A0C28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860-4DA9-4A1C-A5AE-686BDB28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91E-9A5C-46FD-9DAF-04AA2058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48B-0244-47C9-BBE2-C9670EE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4B19-A9C5-4B10-8ED3-83510FA63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927000"/>
          <a:ext cx="7532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927000"/>
                    <a:ext cx="7532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73200" y="528480"/>
          <a:ext cx="8362800" cy="706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28480"/>
                    <a:ext cx="8362800" cy="70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717480"/>
          <a:ext cx="7619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717480"/>
                    <a:ext cx="7619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65080" y="606600"/>
          <a:ext cx="77691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7691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568440"/>
          <a:ext cx="839952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68440"/>
                    <a:ext cx="839952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28480" y="541440"/>
          <a:ext cx="8302680" cy="61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41440"/>
                    <a:ext cx="8302680" cy="61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33440" y="601560"/>
          <a:ext cx="855324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01560"/>
                    <a:ext cx="855324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681120"/>
          <a:ext cx="812628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812628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92280"/>
          <a:ext cx="827568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92280"/>
                    <a:ext cx="82756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20840" y="528480"/>
          <a:ext cx="85309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28480"/>
                    <a:ext cx="85309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76400" y="890640"/>
          <a:ext cx="789156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915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531720"/>
          <a:ext cx="8350200" cy="748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74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5200" y="554040"/>
          <a:ext cx="8397720" cy="65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554040"/>
                    <a:ext cx="8397720" cy="65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8400" y="638280"/>
          <a:ext cx="794088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38280"/>
                    <a:ext cx="794088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446040"/>
          <a:ext cx="83264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264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4200" y="704880"/>
          <a:ext cx="795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704880"/>
                    <a:ext cx="795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554040"/>
          <a:ext cx="859140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54040"/>
                    <a:ext cx="859140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77760" y="596880"/>
          <a:ext cx="725184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596880"/>
                    <a:ext cx="72518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7-04-05T15:04:48Z</dcterms:modified>
  <cp:revision>40</cp:revision>
  <dc:subject/>
  <dc:title>Sin título de diapositiva</dc:title>
</cp:coreProperties>
</file>