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82E-BDB1-402C-91C4-FE046691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BC7A-A148-4DDD-9208-F45377E6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7D2-96F8-4E20-AEF7-05073CB1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8B7-84CD-4930-85C3-16D06166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C7BE-F454-4905-9013-3FA1B827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F56-B8CF-4D9B-A8DF-74C64189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CF7D-33F2-4C34-9D73-1E2E684D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C891-2051-400D-BF72-A8DA6DD0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5308-DD2C-4DB5-8D88-4A30C7F5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A93D-067D-4686-BF49-96FE8533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4AEB-221D-42FB-9363-B33932A0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DCD0-4468-4EBE-9AC5-1CFB4ED8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F55E-0A46-43DD-97AA-83884A656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38320" y="927000"/>
          <a:ext cx="7532640" cy="50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927000"/>
                    <a:ext cx="753264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73200" y="528480"/>
          <a:ext cx="8362800" cy="706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28480"/>
                    <a:ext cx="8362800" cy="706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43040" y="717480"/>
          <a:ext cx="761976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717480"/>
                    <a:ext cx="7619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65080" y="606600"/>
          <a:ext cx="77691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7691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568440"/>
          <a:ext cx="839952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68440"/>
                    <a:ext cx="839952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28480" y="541440"/>
          <a:ext cx="8302680" cy="610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41440"/>
                    <a:ext cx="8302680" cy="61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33440" y="601560"/>
          <a:ext cx="855324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601560"/>
                    <a:ext cx="855324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43040" y="681120"/>
          <a:ext cx="812628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81120"/>
                    <a:ext cx="812628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04880" y="692280"/>
          <a:ext cx="8275680" cy="686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92280"/>
                    <a:ext cx="8275680" cy="68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20840" y="528480"/>
          <a:ext cx="853092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28480"/>
                    <a:ext cx="853092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76400" y="890640"/>
          <a:ext cx="7891560" cy="56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90640"/>
                    <a:ext cx="78915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1040" y="531720"/>
          <a:ext cx="8350200" cy="748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31720"/>
                    <a:ext cx="8350200" cy="748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65200" y="554040"/>
          <a:ext cx="8397720" cy="65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554040"/>
                    <a:ext cx="8397720" cy="65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8400" y="638280"/>
          <a:ext cx="794088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638280"/>
                    <a:ext cx="794088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30360" y="446040"/>
          <a:ext cx="832644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46040"/>
                    <a:ext cx="832644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54200" y="704880"/>
          <a:ext cx="79549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704880"/>
                    <a:ext cx="79549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16120" y="692280"/>
          <a:ext cx="81406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92280"/>
                    <a:ext cx="81406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20840" y="554040"/>
          <a:ext cx="8591400" cy="613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54040"/>
                    <a:ext cx="8591400" cy="61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77760" y="596880"/>
          <a:ext cx="725184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596880"/>
                    <a:ext cx="725184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07-04-05T15:04:48Z</dcterms:modified>
  <cp:revision>40</cp:revision>
  <dc:subject/>
  <dc:title>Sin título de diapositiva</dc:title>
</cp:coreProperties>
</file>