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9DEE-1AFA-4E9B-94F1-E13B04B3C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3C85-0EE3-428D-A5CA-3081B1A12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E21E-8263-4BA2-AFC2-F621DA62A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4EAB-C5C2-4433-887D-23E64D6E8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29538-38FF-4F32-AAA7-4794164EA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C761B-280C-448C-9BEC-913D5B249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5FA59-CFC5-45D0-8DBD-9EA1630CB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AB510-B697-4282-B5B8-EBC461F52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36189-9828-4B3B-8750-9565B4E2B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45CC7-67FA-4DF8-A218-D85C2464A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4535F-3C2A-4238-8107-6D266C89C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0DF0-DB45-40A5-939E-01685EC26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BE9EE-86A8-4825-B5E4-457EACF7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78A43-0871-4DFC-973C-3F6F07EB7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0B490-9C34-4705-BC0E-770EAF42C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77C8D-8788-413E-B77F-523A8555A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1D18D-04DA-4B3F-AE9D-4903D8970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AD65-3231-4A20-BEC8-E241C7817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B89A-CFDC-480F-9C59-1029D9777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5199-8383-4A83-85A3-C199F2C94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F071-EF53-4E5E-B97A-148805AC8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B417-B2B5-45C2-BF5F-58AE0406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FF59-1E0D-402B-B1E2-9760F9B88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D1F4-05B9-4AEE-9A89-946853BC6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59655-240A-4364-849B-A784450F20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6DEC9-9AF7-405F-A8F2-D2021772FA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CC100 04 - Computación I</a:t>
            </a:r>
            <a:br>
              <a:rPr sz="4400"/>
            </a:b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Auxiliar Nº Ext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Julio Villane 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Recursió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tatic public int factorial(int n)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if(n == 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      </a:t>
            </a: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return 1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return n * factorial(n-1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24360" y="2276640"/>
            <a:ext cx="503280" cy="936360"/>
          </a:xfrm>
          <a:custGeom>
            <a:avLst/>
            <a:gdLst>
              <a:gd name="textAreaLeft" fmla="*/ 0 w 503280"/>
              <a:gd name="textAreaRight" fmla="*/ 181800 w 50328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ffc9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724360" y="3932280"/>
            <a:ext cx="503280" cy="649080"/>
          </a:xfrm>
          <a:custGeom>
            <a:avLst/>
            <a:gdLst>
              <a:gd name="textAreaLeft" fmla="*/ 0 w 503280"/>
              <a:gd name="textAreaRight" fmla="*/ 181800 w 503280"/>
              <a:gd name="textAreaTop" fmla="*/ 16920 h 649080"/>
              <a:gd name="textAreaBottom" fmla="*/ 63216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ffc9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72360" y="255744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Arial"/>
              </a:rPr>
              <a:t>Caso B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72360" y="407052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Arial"/>
              </a:rPr>
              <a:t>Llamada Recursi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Abreviatur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&lt;Condición&gt;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? </a:t>
            </a: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&lt;Valor 1&gt;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: </a:t>
            </a: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&lt;Valor 2&g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tatic public &lt;Tipo&gt; funcion( </a:t>
            </a: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&lt;Condición&gt;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){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if( </a:t>
            </a: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&lt;Condición&gt;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return </a:t>
            </a: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&lt;Valor1&gt;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l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return </a:t>
            </a: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&lt;Valor2&gt;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Abreviatur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n+=1; </a:t>
            </a:r>
            <a:r>
              <a:rPr b="0" lang="es-ES" sz="2800" spc="-1" strike="noStrike">
                <a:solidFill>
                  <a:srgbClr val="ffcc00"/>
                </a:solidFill>
                <a:latin typeface="Wingdings"/>
                <a:ea typeface="Wingdings"/>
              </a:rPr>
              <a:t></a:t>
            </a: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 n=n+1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n++; ++n; n--; --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int n = 1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U.println(</a:t>
            </a: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n++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U.println(n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U.println(</a:t>
            </a: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--n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U.println(n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Abreviatur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for(int i=0; i&lt;100; i++){ … 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int i=0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while( </a:t>
            </a: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i&lt;100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)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i++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Abreviatur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witch( </a:t>
            </a: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x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)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ase </a:t>
            </a: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&lt;Valor1&gt;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&lt;Instrucciones1&gt;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; break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ase </a:t>
            </a: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&lt;ValorN&gt;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&lt;InstruccionesN&gt;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; break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default: </a:t>
            </a: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&lt;InstruccionesDefault&gt;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Abreviatur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tatic public int cantidadMeses(int mes)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if(mes == 1) return 31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lse if(mes == 12) return 31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l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return -1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Abreviatur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tatic public int cantidadMeses(int mes)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witch( mes )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ase 1: return 31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  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ase 12: return 31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default: return -1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Str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268360" y="1987560"/>
            <a:ext cx="4535640" cy="720720"/>
            <a:chOff x="2268360" y="1987560"/>
            <a:chExt cx="4535640" cy="720720"/>
          </a:xfrm>
        </p:grpSpPr>
        <p:sp>
          <p:nvSpPr>
            <p:cNvPr id="120" name=""/>
            <p:cNvSpPr/>
            <p:nvPr/>
          </p:nvSpPr>
          <p:spPr>
            <a:xfrm>
              <a:off x="2268360" y="1987560"/>
              <a:ext cx="647640" cy="720720"/>
            </a:xfrm>
            <a:prstGeom prst="rect">
              <a:avLst/>
            </a:prstGeom>
            <a:solidFill>
              <a:srgbClr val="333399"/>
            </a:solidFill>
            <a:ln w="25560">
              <a:solidFill>
                <a:srgbClr val="ffc9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916000" y="1987560"/>
              <a:ext cx="647640" cy="720720"/>
            </a:xfrm>
            <a:prstGeom prst="rect">
              <a:avLst/>
            </a:prstGeom>
            <a:solidFill>
              <a:srgbClr val="333399"/>
            </a:solidFill>
            <a:ln w="25560">
              <a:solidFill>
                <a:srgbClr val="ffc9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563640" y="1987560"/>
              <a:ext cx="648000" cy="720720"/>
            </a:xfrm>
            <a:prstGeom prst="rect">
              <a:avLst/>
            </a:prstGeom>
            <a:solidFill>
              <a:srgbClr val="333399"/>
            </a:solidFill>
            <a:ln w="25560">
              <a:solidFill>
                <a:srgbClr val="ffc9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211640" y="1987560"/>
              <a:ext cx="647640" cy="720720"/>
            </a:xfrm>
            <a:prstGeom prst="rect">
              <a:avLst/>
            </a:prstGeom>
            <a:solidFill>
              <a:srgbClr val="333399"/>
            </a:solidFill>
            <a:ln w="25560">
              <a:solidFill>
                <a:srgbClr val="ffc9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60720" y="1987560"/>
              <a:ext cx="647640" cy="720720"/>
            </a:xfrm>
            <a:prstGeom prst="rect">
              <a:avLst/>
            </a:prstGeom>
            <a:solidFill>
              <a:srgbClr val="333399"/>
            </a:solidFill>
            <a:ln w="25560">
              <a:solidFill>
                <a:srgbClr val="ffc9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156000" y="1987560"/>
              <a:ext cx="648000" cy="720720"/>
            </a:xfrm>
            <a:prstGeom prst="rect">
              <a:avLst/>
            </a:prstGeom>
            <a:solidFill>
              <a:srgbClr val="333399"/>
            </a:solidFill>
            <a:ln w="25560">
              <a:solidFill>
                <a:srgbClr val="ffc9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360" y="1987560"/>
              <a:ext cx="647640" cy="720720"/>
            </a:xfrm>
            <a:prstGeom prst="rect">
              <a:avLst/>
            </a:prstGeom>
            <a:solidFill>
              <a:srgbClr val="333399"/>
            </a:solidFill>
            <a:ln w="25560">
              <a:solidFill>
                <a:srgbClr val="ffc9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2411280" y="1484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35280" y="1484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987640" y="1484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227640" y="1484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932360" y="1484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84720" y="1484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580000" y="1484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4360" y="3284640"/>
            <a:ext cx="3816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.equals(“palabra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.equals(“palabra 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.charAt(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.charAt(7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59280" y="3284640"/>
            <a:ext cx="3816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.indexOf(“a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.indexOf(“ra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.indexOf(“a”, 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.replace(‘a’, ‘e’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Str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2268360" y="1987560"/>
            <a:ext cx="4535640" cy="720720"/>
            <a:chOff x="2268360" y="1987560"/>
            <a:chExt cx="4535640" cy="720720"/>
          </a:xfrm>
        </p:grpSpPr>
        <p:sp>
          <p:nvSpPr>
            <p:cNvPr id="138" name=""/>
            <p:cNvSpPr/>
            <p:nvPr/>
          </p:nvSpPr>
          <p:spPr>
            <a:xfrm>
              <a:off x="2268360" y="1987560"/>
              <a:ext cx="647640" cy="720720"/>
            </a:xfrm>
            <a:prstGeom prst="rect">
              <a:avLst/>
            </a:prstGeom>
            <a:solidFill>
              <a:srgbClr val="333399"/>
            </a:solidFill>
            <a:ln w="25560">
              <a:solidFill>
                <a:srgbClr val="ffc9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916000" y="1987560"/>
              <a:ext cx="647640" cy="720720"/>
            </a:xfrm>
            <a:prstGeom prst="rect">
              <a:avLst/>
            </a:prstGeom>
            <a:solidFill>
              <a:srgbClr val="333399"/>
            </a:solidFill>
            <a:ln w="25560">
              <a:solidFill>
                <a:srgbClr val="ffc9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63640" y="1987560"/>
              <a:ext cx="648000" cy="720720"/>
            </a:xfrm>
            <a:prstGeom prst="rect">
              <a:avLst/>
            </a:prstGeom>
            <a:solidFill>
              <a:srgbClr val="333399"/>
            </a:solidFill>
            <a:ln w="25560">
              <a:solidFill>
                <a:srgbClr val="ffc9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1640" y="1987560"/>
              <a:ext cx="647640" cy="720720"/>
            </a:xfrm>
            <a:prstGeom prst="rect">
              <a:avLst/>
            </a:prstGeom>
            <a:solidFill>
              <a:srgbClr val="333399"/>
            </a:solidFill>
            <a:ln w="25560">
              <a:solidFill>
                <a:srgbClr val="ffc9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860720" y="1987560"/>
              <a:ext cx="647640" cy="720720"/>
            </a:xfrm>
            <a:prstGeom prst="rect">
              <a:avLst/>
            </a:prstGeom>
            <a:solidFill>
              <a:srgbClr val="333399"/>
            </a:solidFill>
            <a:ln w="25560">
              <a:solidFill>
                <a:srgbClr val="ffc9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156000" y="1987560"/>
              <a:ext cx="648000" cy="720720"/>
            </a:xfrm>
            <a:prstGeom prst="rect">
              <a:avLst/>
            </a:prstGeom>
            <a:solidFill>
              <a:srgbClr val="333399"/>
            </a:solidFill>
            <a:ln w="25560">
              <a:solidFill>
                <a:srgbClr val="ffc9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508360" y="1987560"/>
              <a:ext cx="647640" cy="720720"/>
            </a:xfrm>
            <a:prstGeom prst="rect">
              <a:avLst/>
            </a:prstGeom>
            <a:solidFill>
              <a:srgbClr val="333399"/>
            </a:solidFill>
            <a:ln w="25560">
              <a:solidFill>
                <a:srgbClr val="ffc9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2411280" y="1484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35280" y="1484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987640" y="1484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227640" y="1484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32360" y="1484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284720" y="1484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580000" y="1484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4360" y="3284640"/>
            <a:ext cx="3816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.toLowerCase(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.toUpperCase(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.trim(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.substring(2,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859280" y="3284640"/>
            <a:ext cx="3816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.substring(3,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.subString(4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¿ Dudas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Materia para el Contr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Main, funciones, méto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if, else if, el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wh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Recurs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breviatur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t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2006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P1 C1 2006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Una función, que se representa por los 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n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 puntos (x1,y1),(x2,y2),...,(xn,yn), puede ser aproximada por una línea recta y=mx+c. La pendiente m y la constante c se calculan resolviendo el siguiente sistema de ecuacion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      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Σy</a:t>
            </a:r>
            <a:r>
              <a:rPr b="0" lang="es-ES" sz="2800" spc="-1" strike="noStrike" baseline="-25000">
                <a:solidFill>
                  <a:srgbClr val="ffffff"/>
                </a:solidFill>
                <a:latin typeface="Tahoma"/>
                <a:ea typeface="ＭＳ Ｐゴシック"/>
              </a:rPr>
              <a:t>i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      = c n   + m Σx</a:t>
            </a:r>
            <a:r>
              <a:rPr b="0" lang="es-ES" sz="2800" spc="-1" strike="noStrike" baseline="-25000">
                <a:solidFill>
                  <a:srgbClr val="ffffff"/>
                </a:solidFill>
                <a:latin typeface="Tahoma"/>
                <a:ea typeface="ＭＳ Ｐゴシック"/>
              </a:rPr>
              <a:t>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      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Σx</a:t>
            </a:r>
            <a:r>
              <a:rPr b="0" lang="es-ES" sz="2800" spc="-1" strike="noStrike" baseline="-25000">
                <a:solidFill>
                  <a:srgbClr val="ffffff"/>
                </a:solidFill>
                <a:latin typeface="Tahoma"/>
                <a:ea typeface="ＭＳ Ｐゴシック"/>
              </a:rPr>
              <a:t>i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y</a:t>
            </a:r>
            <a:r>
              <a:rPr b="0" lang="es-ES" sz="2800" spc="-1" strike="noStrike" baseline="-25000">
                <a:solidFill>
                  <a:srgbClr val="ffffff"/>
                </a:solidFill>
                <a:latin typeface="Tahoma"/>
                <a:ea typeface="ＭＳ Ｐゴシック"/>
              </a:rPr>
              <a:t>i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  = c Σx</a:t>
            </a:r>
            <a:r>
              <a:rPr b="0" lang="es-ES" sz="2800" spc="-1" strike="noStrike" baseline="-25000">
                <a:solidFill>
                  <a:srgbClr val="ffffff"/>
                </a:solidFill>
                <a:latin typeface="Tahoma"/>
                <a:ea typeface="ＭＳ Ｐゴシック"/>
              </a:rPr>
              <a:t>i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 + m Σ(x</a:t>
            </a:r>
            <a:r>
              <a:rPr b="0" lang="es-ES" sz="2800" spc="-1" strike="noStrike" baseline="-25000">
                <a:solidFill>
                  <a:srgbClr val="ffffff"/>
                </a:solidFill>
                <a:latin typeface="Tahoma"/>
                <a:ea typeface="ＭＳ Ｐゴシック"/>
              </a:rPr>
              <a:t>i</a:t>
            </a:r>
            <a:r>
              <a:rPr b="0" lang="es-ES" sz="2800" spc="-1" strike="noStrike" baseline="30000">
                <a:solidFill>
                  <a:srgbClr val="ffffff"/>
                </a:solidFill>
                <a:latin typeface="Tahoma"/>
                <a:ea typeface="ＭＳ Ｐゴシック"/>
              </a:rPr>
              <a:t>2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En que 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Σ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 representa la sumatoria (suma) de los 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n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 valores que se indican en cada ca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P1 C1 2006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Ingrese todos los pares (x,y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Para terminar ingrese dos ceros (para x e 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x? 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y? 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x? 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y? 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Resultados: m=nº c=nº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200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P1 C1 200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a)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scriba un método (función) de encabezamiento double loge(double x,int n) que entregue logex, es decir, el logaritmo natural (base e) de x. Por ejemplo, loge(2.71...,n) entrega 1.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Nota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. la función debe calcularse con los n primeros términos de la fórmul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95a"/>
                </a:solidFill>
                <a:latin typeface="Tahoma"/>
              </a:rPr>
              <a:t>2(Z + Z</a:t>
            </a:r>
            <a:r>
              <a:rPr b="0" lang="es-ES" sz="3200" spc="-1" strike="noStrike" baseline="30000">
                <a:solidFill>
                  <a:srgbClr val="ffc95a"/>
                </a:solidFill>
                <a:latin typeface="Tahoma"/>
              </a:rPr>
              <a:t>3</a:t>
            </a:r>
            <a:r>
              <a:rPr b="0" lang="es-ES" sz="3200" spc="-1" strike="noStrike">
                <a:solidFill>
                  <a:srgbClr val="ffc95a"/>
                </a:solidFill>
                <a:latin typeface="Tahoma"/>
              </a:rPr>
              <a:t>/3 + Z</a:t>
            </a:r>
            <a:r>
              <a:rPr b="0" lang="es-ES" sz="3200" spc="-1" strike="noStrike" baseline="30000">
                <a:solidFill>
                  <a:srgbClr val="ffc95a"/>
                </a:solidFill>
                <a:latin typeface="Tahoma"/>
              </a:rPr>
              <a:t>5</a:t>
            </a:r>
            <a:r>
              <a:rPr b="0" lang="es-ES" sz="3200" spc="-1" strike="noStrike">
                <a:solidFill>
                  <a:srgbClr val="ffc95a"/>
                </a:solidFill>
                <a:latin typeface="Tahoma"/>
              </a:rPr>
              <a:t>/5 + Z</a:t>
            </a:r>
            <a:r>
              <a:rPr b="0" lang="es-ES" sz="3200" spc="-1" strike="noStrike" baseline="30000">
                <a:solidFill>
                  <a:srgbClr val="ffc95a"/>
                </a:solidFill>
                <a:latin typeface="Tahoma"/>
              </a:rPr>
              <a:t>7</a:t>
            </a:r>
            <a:r>
              <a:rPr b="0" lang="es-ES" sz="3200" spc="-1" strike="noStrike">
                <a:solidFill>
                  <a:srgbClr val="ffc95a"/>
                </a:solidFill>
                <a:latin typeface="Tahoma"/>
              </a:rPr>
              <a:t>/7 + ...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95a"/>
                </a:solidFill>
                <a:latin typeface="Tahoma"/>
              </a:rPr>
              <a:t>con Z=(x-1)(x+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P1 C1 200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b)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Utilice la función anterior en un programa que calcule y muestre los siguientes resultad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ffffff"/>
                </a:solidFill>
                <a:latin typeface="Courier New"/>
              </a:rPr>
              <a:t>n n!  dígitos B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ffffff"/>
                </a:solidFill>
                <a:latin typeface="Courier New"/>
              </a:rPr>
              <a:t>0 1   1      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ffffff"/>
                </a:solidFill>
                <a:latin typeface="Courier New"/>
              </a:rPr>
              <a:t>1 1   1      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ffffff"/>
                </a:solidFill>
                <a:latin typeface="Courier New"/>
              </a:rPr>
              <a:t>2 2   1      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ffffff"/>
                </a:solidFill>
                <a:latin typeface="Courier New"/>
              </a:rPr>
              <a:t>3 6   1      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ffffff"/>
                </a:solidFill>
                <a:latin typeface="Courier New"/>
              </a:rPr>
              <a:t>4 24  2       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ffffff"/>
                </a:solidFill>
                <a:latin typeface="Courier New"/>
              </a:rPr>
              <a:t>5 120 3       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urier New"/>
              </a:rPr>
              <a:t>    … …   …      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urier New"/>
              </a:rPr>
              <a:t>    … …   </a:t>
            </a:r>
            <a:r>
              <a:rPr b="0" lang="es-ES" sz="2400" spc="-1" strike="noStrike">
                <a:solidFill>
                  <a:srgbClr val="ffffff"/>
                </a:solidFill>
                <a:latin typeface="Courier New"/>
              </a:rPr>
              <a:t>9      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P1 C1 200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No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a tabla debe terminar cuando el Nº de dígitos alcance el valor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alcule el Nº de dígitos (decimales) y el Nº de bits (dígitos binarios) aproximando el logaritmo del factorial al entero superior. Por ejemplo, log1024=1,38... se aproxima a 2 y log224=4,58... a 5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Recuerde que logbx = logex / loge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alcule los logaritmos con los 10 primeros términos de la fórmu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200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P1 C1 200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l Nº decimal 423 se interpreta como 3x10</a:t>
            </a:r>
            <a:r>
              <a:rPr b="0" lang="es-ES" sz="28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+2x10</a:t>
            </a:r>
            <a:r>
              <a:rPr b="0" lang="es-ES" sz="2800" spc="-1" strike="noStrike" baseline="30000">
                <a:solidFill>
                  <a:srgbClr val="ffffff"/>
                </a:solidFill>
                <a:latin typeface="Tahoma"/>
              </a:rPr>
              <a:t>1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+4x10</a:t>
            </a:r>
            <a:r>
              <a:rPr b="0" lang="es-E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. Por su parte, el Nº 217 en base 8 significa 7x8</a:t>
            </a:r>
            <a:r>
              <a:rPr b="0" lang="es-ES" sz="28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+1x8</a:t>
            </a:r>
            <a:r>
              <a:rPr b="0" lang="es-ES" sz="2800" spc="-1" strike="noStrike" baseline="30000">
                <a:solidFill>
                  <a:srgbClr val="ffffff"/>
                </a:solidFill>
                <a:latin typeface="Tahoma"/>
              </a:rPr>
              <a:t>1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+2x8</a:t>
            </a:r>
            <a:r>
              <a:rPr b="0" lang="es-E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y el Nº 1101 en base 2 corresponde a 1x2</a:t>
            </a:r>
            <a:r>
              <a:rPr b="0" lang="es-ES" sz="28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+0x2</a:t>
            </a:r>
            <a:r>
              <a:rPr b="0" lang="es-ES" sz="2800" spc="-1" strike="noStrike" baseline="30000">
                <a:solidFill>
                  <a:srgbClr val="ffffff"/>
                </a:solidFill>
                <a:latin typeface="Tahoma"/>
              </a:rPr>
              <a:t>1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+1x2</a:t>
            </a:r>
            <a:r>
              <a:rPr b="0" lang="es-E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+1x2</a:t>
            </a:r>
            <a:r>
              <a:rPr b="0" lang="es-ES" sz="28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. Al respec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a)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Escriba un método (función) que reciba un Nº entero y una base y entregue como resultado el Nº decimal correspondiente. Por ejemplo, decimal(217, 8) entrega 143 y decimal(1101, 2) devuelve 13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P1 C1 200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b)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Utilice la función anterior en un programa que lea una lista de números expresados en diferentes bases y escriba el mayor de ellos. El programa debe establecer el diálogo que se muestra en el siguiente ejempl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urier New"/>
              </a:rPr>
              <a:t>ingrese una base entre 2 y 10 (0 para terminar) : 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urier New"/>
              </a:rPr>
              <a:t>ingrese un Nº en base 8: 21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urier New"/>
              </a:rPr>
              <a:t>ingrese una base entre 2 y 10 (0 para terminar) :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urier New"/>
              </a:rPr>
              <a:t>ingrese un Nº en base 2: 11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urier New"/>
              </a:rPr>
              <a:t>ingrese una base entre 2 y 10 (0 para terminar) :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urier New"/>
              </a:rPr>
              <a:t>Nº mayor=217 base=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Main, Funciones, Métod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mport java.io.*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lass </a:t>
            </a:r>
            <a:r>
              <a:rPr b="0" lang="es-ES" sz="2000" spc="-1" strike="noStrike">
                <a:solidFill>
                  <a:srgbClr val="ffcc00"/>
                </a:solidFill>
                <a:latin typeface="Tahoma"/>
              </a:rPr>
              <a:t>&lt;Nombre Clase&gt;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ublic static </a:t>
            </a:r>
            <a:r>
              <a:rPr b="0" lang="es-ES" sz="2000" spc="-1" strike="noStrike">
                <a:solidFill>
                  <a:srgbClr val="ffcc00"/>
                </a:solidFill>
                <a:latin typeface="Tahoma"/>
              </a:rPr>
              <a:t>&lt;Tipo&gt; &lt;Función 1&gt;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( </a:t>
            </a:r>
            <a:r>
              <a:rPr b="0" lang="es-ES" sz="2000" spc="-1" strike="noStrike">
                <a:solidFill>
                  <a:srgbClr val="ffcc00"/>
                </a:solidFill>
                <a:latin typeface="Tahoma"/>
              </a:rPr>
              <a:t>&lt;Parámetros&gt;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)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s-ES" sz="2000" spc="-1" strike="noStrike">
                <a:solidFill>
                  <a:srgbClr val="ffcc00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eturn </a:t>
            </a:r>
            <a:r>
              <a:rPr b="0" lang="es-ES" sz="2000" spc="-1" strike="noStrike">
                <a:solidFill>
                  <a:srgbClr val="ffcc00"/>
                </a:solidFill>
                <a:latin typeface="Tahoma"/>
              </a:rPr>
              <a:t>&lt;Variable Tipo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s-ES" sz="2000" spc="-1" strike="noStrike">
                <a:solidFill>
                  <a:srgbClr val="ffcc00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ublic static void main(String[] args)throws IOException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s-ES" sz="2000" spc="-1" strike="noStrike">
                <a:solidFill>
                  <a:srgbClr val="ffcc00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¿ Dudas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if, else if, el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if( </a:t>
            </a: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&lt;Condición1&gt;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){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lse if( </a:t>
            </a: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&lt;Condición2&gt;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){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lse{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if, else if, el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tatic public int mayor(int a, int b, int c)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if( </a:t>
            </a: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a&gt;=b &amp;&amp; a&gt;=c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return a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lse if( </a:t>
            </a: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b&gt;=a &amp;&amp; b&gt;=c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return b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l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return c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if, else if, el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tatic public boolean verdadero()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if( </a:t>
            </a: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true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)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return tru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whi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int i = 0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while( </a:t>
            </a: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i&lt;100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)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i++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whi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int i = 7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while( </a:t>
            </a: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i&lt;7000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)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i=i+7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Recursió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Función Recursiva: función que se invoca a si mis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Hay 2 partes que la define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aso 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lamado a sí mis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03:47:08Z</dcterms:created>
  <dc:creator>Julio</dc:creator>
  <dc:description/>
  <dc:language>en-US</dc:language>
  <cp:lastModifiedBy>Julio Villane S</cp:lastModifiedBy>
  <dcterms:modified xsi:type="dcterms:W3CDTF">2007-04-05T22:01:30Z</dcterms:modified>
  <cp:revision>11</cp:revision>
  <dc:subject/>
  <dc:title>CC100 04 - Computación I Auxiliar Nº 1</dc:title>
</cp:coreProperties>
</file>