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A52-3BE7-40E5-A5D7-406975FA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5CE-5A46-41F2-B4FB-287ED22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0FD-A521-4BEA-8833-1E61C127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209-596D-40C6-BDA9-691A617C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061F-A434-4BE7-968F-9402DEAC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189-A02B-4DBD-8BC0-C96C2E5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8DF-C25B-4E82-9219-881521F9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5938-4C24-4A4D-B40E-ED9FEDE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E90C-423A-4E0E-976C-8CA260A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251-D8B4-49F4-B165-5B4EF80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C28C-D725-4C79-BEA3-86C5074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257-058D-4A34-9AFB-43858EA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1B5A-423C-4C09-A6C5-AA92D4A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1462-49A1-4216-B4DF-9D2E89F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71BF-A3CC-46EA-9170-7C8720F0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66F2-1788-4996-B9A1-E0F05E03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BD2-0B2A-4CCB-9214-5BB038B0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656-9A70-46E2-8DA3-5243202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630-0AC8-4BCA-9818-B689677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E94-4830-4842-8FC8-BC8B7105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6A4-E4EC-40EE-8EDD-5052B694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EDF-CFAF-4D34-AF4D-02EB28FA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22B-4560-43D2-A114-43275EA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081-041D-4236-9F3E-BD54F21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A28-E773-485B-B9DD-95836646C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0D7E-9D4B-47F3-BEFA-EF08D63BC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Ext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factorial(int n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f(n == 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return n * factorial(n-1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276640"/>
            <a:ext cx="503280" cy="936360"/>
          </a:xfrm>
          <a:custGeom>
            <a:avLst/>
            <a:gdLst>
              <a:gd name="textAreaLeft" fmla="*/ 0 w 503280"/>
              <a:gd name="textAreaRight" fmla="*/ 181800 w 503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3932280"/>
            <a:ext cx="503280" cy="649080"/>
          </a:xfrm>
          <a:custGeom>
            <a:avLst/>
            <a:gdLst>
              <a:gd name="textAreaLeft" fmla="*/ 0 w 503280"/>
              <a:gd name="textAreaRight" fmla="*/ 181800 w 503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c9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2557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Caso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0705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lamada 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?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 2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atic public &lt;Tipo&gt; funcion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Valor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=1; </a:t>
            </a: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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n=n+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; ++n; n--; --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 n = 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n++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--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.println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for(int i=0; i&lt;100; i++){ …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=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1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Valor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N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 brea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&lt;InstruccionesDefault&gt;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mes == 1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mes == 12)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breviatur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cantidadMeses(int mes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witch( mes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se 12: return 3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fault: return -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20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equals(“palabra 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harAt(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ra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indexOf(“a”,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replace(‘a’, ‘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68360" y="1987560"/>
            <a:ext cx="4535640" cy="720720"/>
            <a:chOff x="2268360" y="1987560"/>
            <a:chExt cx="4535640" cy="720720"/>
          </a:xfrm>
        </p:grpSpPr>
        <p:sp>
          <p:nvSpPr>
            <p:cNvPr id="138" name=""/>
            <p:cNvSpPr/>
            <p:nvPr/>
          </p:nvSpPr>
          <p:spPr>
            <a:xfrm>
              <a:off x="226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600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364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164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6072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56000" y="1987560"/>
              <a:ext cx="64800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08360" y="1987560"/>
              <a:ext cx="647640" cy="72072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ffc9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411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284640"/>
            <a:ext cx="381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Low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oUpperCas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trim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2,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3284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3,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subString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teria para e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in, funciones, mé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, else if, 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u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brevia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Una función, que se representa por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puntos (x1,y1),(x2,y2),...,(xn,yn), puede ser aproximada por una línea recta y=mx+c. La pendiente m y la constante c se calculan resolviendo el siguiente sistema de ecu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= c n   + m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= c Σ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+ m Σ(x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i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  <a:ea typeface="ＭＳ Ｐゴシック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n que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Σ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representa la sumatoria (suma) de 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valores que se indican en cada ca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grese todos los pares (x,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ara terminar ingrese dos ceros (para x e 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x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y?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sultados: m=nº c=n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ba un método (función) de encabezamiento double loge(double x,int n) que entregue logex, es decir, el logaritmo natural (base e) de x. Por ejemplo, loge(2.71...,n) entrega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t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 la función debe calcularse con los n primeros términos de la fórm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2(Z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3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3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5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5 + Z</a:t>
            </a:r>
            <a:r>
              <a:rPr b="0" lang="es-ES" sz="3200" spc="-1" strike="noStrike" baseline="30000">
                <a:solidFill>
                  <a:srgbClr val="ffc95a"/>
                </a:solidFill>
                <a:latin typeface="Tahoma"/>
              </a:rPr>
              <a:t>7</a:t>
            </a: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/7 + ..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95a"/>
                </a:solidFill>
                <a:latin typeface="Tahoma"/>
              </a:rPr>
              <a:t>con Z=(x-1)(x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ce la función anterior en un programa que calcule y muestre los siguientes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n n!  dígitos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0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1 1   1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2 2   1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3 6   1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4 24  2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5 120 3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…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    … …   </a:t>
            </a:r>
            <a:r>
              <a:rPr b="0" lang="es-ES" sz="2400" spc="-1" strike="noStrike">
                <a:solidFill>
                  <a:srgbClr val="ffffff"/>
                </a:solidFill>
                <a:latin typeface="Courier New"/>
              </a:rPr>
              <a:t>9     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o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tabla debe terminar cuando el Nº de dígitos alcance el valor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el Nº de dígitos (decimales) y el Nº de bits (dígitos binarios) aproximando el logaritmo del factorial al entero superior. Por ejemplo, log1024=1,38... se aproxima a 2 y log224=4,58... a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cuerde que logbx = logex / log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lcule los logaritmos con los 10 primeros términos de la fó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Nº decimal 423 se interpreta como 3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4x10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 Por su parte, el Nº 217 en base 8 significa 7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2x8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y el Nº 1101 en base 2 corresponde a 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0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+1x2</a:t>
            </a:r>
            <a:r>
              <a:rPr b="0" lang="es-E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. Al respec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Escriba un método (función) que reciba un Nº entero y una base y entregue como resultado el Nº decimal correspondiente. Por ejemplo, decimal(217, 8) entrega 143 y decimal(1101, 2) devuelve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1 C1 200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Utilice la función anterior en un programa que lea una lista de números expresados en diferentes bases y escriba el mayor de ellos. El programa debe establecer el diálogo que se muestra en el siguiente ejemp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8: 2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 Nº en base 2: 11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ingrese una base entre 2 y 10 (0 para terminar) :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urier New"/>
              </a:rPr>
              <a:t>Nº mayor=217 base=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ain, Funciones, Méto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Nombre Clase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Tipo&gt; &lt;Función 1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Parámetros&gt;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turn </a:t>
            </a:r>
            <a:r>
              <a:rPr b="0" lang="es-ES" sz="2000" spc="-1" strike="noStrike">
                <a:solidFill>
                  <a:srgbClr val="ffcc00"/>
                </a:solidFill>
                <a:latin typeface="Tahoma"/>
              </a:rPr>
              <a:t>&lt;Variable Tipo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blic static void main(String[] args)throws IOException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1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Condición2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int mayor(int a, int b, int c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a&gt;=b &amp;&amp; a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 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b&gt;=a &amp;&amp; b&gt;=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b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f, else if, e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tatic public boolean verdadero(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f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tr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urn tr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1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++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nt i = 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while(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&lt;7000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=i+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cur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unción Recursiva: función que se invoca a si mi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y 2 partes que la defin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so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lamado a sí mi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4-05T22:01:30Z</dcterms:modified>
  <cp:revision>11</cp:revision>
  <dc:subject/>
  <dc:title>CC100 04 - Computación I Auxiliar Nº 1</dc:title>
</cp:coreProperties>
</file>