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966-5303-4698-9B7C-33F79773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D37-9444-4464-987F-D63B76C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E28-D384-4A84-A946-096DBBA8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3A2-AB6E-4DE3-B7AA-33F317D2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285A-1FCB-42E6-BBE4-A3100758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CBEF-B4B7-4227-A202-D134514B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668-A43D-4E77-8A8C-CA5481D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4B6A-5EE9-4AEB-B2E3-19049C2F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6598-B8E5-49ED-96B9-D44604C2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8B9-103C-41CE-9C18-5C167ED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109C-4321-41DF-AB8D-974A009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F10-F484-4DC9-8F39-78F8508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7C89-0897-46AD-90B4-4CF3624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358-D38E-4012-9A97-918B3D5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576C-52B1-442F-8F32-2BD5AD0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492F-99BD-4DEF-A9E6-3CC32AC6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677A-E0DE-47F9-8164-E332C56F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28D-D229-4EB7-832D-BC69B4D2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420-6DA7-457B-8CA3-CDB2419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4DF-1ECA-4067-A0D0-5AEF896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94E-9FE0-4F8F-84BC-49CB1120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AED-0DA9-461E-8271-5228BE2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077-67CF-4848-88FD-3D570FE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875-7C88-4E0C-A1A4-5EECC1D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266F-67EE-44BF-A286-9F196D3AD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8D6-2DC1-43D1-BCB8-C5228C3D8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Ext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cur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factorial(int n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f(n == 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turn 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turn n * factorial(n-1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276640"/>
            <a:ext cx="503280" cy="936360"/>
          </a:xfrm>
          <a:custGeom>
            <a:avLst/>
            <a:gdLst>
              <a:gd name="textAreaLeft" fmla="*/ 0 w 503280"/>
              <a:gd name="textAreaRight" fmla="*/ 181800 w 503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c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3932280"/>
            <a:ext cx="503280" cy="649080"/>
          </a:xfrm>
          <a:custGeom>
            <a:avLst/>
            <a:gdLst>
              <a:gd name="textAreaLeft" fmla="*/ 0 w 503280"/>
              <a:gd name="textAreaRight" fmla="*/ 181800 w 503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c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2557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Caso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0705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lamada 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?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 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 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atic public &lt;Tipo&gt; funcion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2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=1; </a:t>
            </a: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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n=n+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+; ++n; n--; --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 n = 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+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--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for(int i=0; i&lt;100; i++){ …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=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1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++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witch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Valor1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1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 brea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ValorN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N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 brea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ault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Default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cantidadMeses(int mes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mes == 1)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 if(mes == 12)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-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cantidadMeses(int mes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witch( mes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1: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12: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ault: return -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68360" y="1987560"/>
            <a:ext cx="4535640" cy="720720"/>
            <a:chOff x="2268360" y="1987560"/>
            <a:chExt cx="4535640" cy="720720"/>
          </a:xfrm>
        </p:grpSpPr>
        <p:sp>
          <p:nvSpPr>
            <p:cNvPr id="120" name=""/>
            <p:cNvSpPr/>
            <p:nvPr/>
          </p:nvSpPr>
          <p:spPr>
            <a:xfrm>
              <a:off x="226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600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364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164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072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5600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11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equals(“palabr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equals(“palabra 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harAt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harAt(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r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a”,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replace(‘a’, ‘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87560"/>
            <a:ext cx="4535640" cy="720720"/>
            <a:chOff x="2268360" y="1987560"/>
            <a:chExt cx="4535640" cy="720720"/>
          </a:xfrm>
        </p:grpSpPr>
        <p:sp>
          <p:nvSpPr>
            <p:cNvPr id="138" name=""/>
            <p:cNvSpPr/>
            <p:nvPr/>
          </p:nvSpPr>
          <p:spPr>
            <a:xfrm>
              <a:off x="226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600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364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6072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5600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411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oLowerCa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oUpperCa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rim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2,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3284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3,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ateria para e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in, funciones, mé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, else if, 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revia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Una función, que se representa por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puntos (x1,y1),(x2,y2),...,(xn,yn), puede ser aproximada por una línea recta y=mx+c. La pendiente m y la constante c se calculan resolviendo el siguiente sistema de ecu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y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= c n   + m 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= c 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+ m Σ(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  <a:ea typeface="ＭＳ Ｐゴシック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n que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representa la sumatoria (suma) de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valores que se indican en cada ca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grese todos los pares (x,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ara terminar ingrese dos ceros (para x e 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x?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?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x?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?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sultados: m=nº c=n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ba un método (función) de encabezamiento double loge(double x,int n) que entregue logex, es decir, el logaritmo natural (base e) de x. Por ejemplo, loge(2.71...,n) entrega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t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a función debe calcularse con los n primeros términos de la 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2(Z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3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5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5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7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7 + 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con Z=(x-1)(x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ce la función anterior en un programa que calcule y muestre los siguientes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n n!  dígitos 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0 1   1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1 1   1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2 2   1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3 6   1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4 24  2   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5 120 3     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… …   …     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… …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9     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o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tabla debe terminar cuando el Nº de dígitos alcance el valor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lcule el Nº de dígitos (decimales) y el Nº de bits (dígitos binarios) aproximando el logaritmo del factorial al entero superior. Por ejemplo, log1024=1,38... se aproxima a 2 y log224=4,58... a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cuerde que logbx = logex / log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lcule los logaritmos con los 10 primeros términos de la fó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Nº decimal 423 se interpreta como 3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2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4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Por su parte, el Nº 217 en base 8 significa 7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2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y el Nº 1101 en base 2 corresponde a 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0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Al respec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criba un método (función) que reciba un Nº entero y una base y entregue como resultado el Nº decimal correspondiente. Por ejemplo, decimal(217, 8) entrega 143 y decimal(1101, 2) devuelve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Utilice la función anterior en un programa que lea una lista de números expresados en diferentes bases y escriba el mayor de ellos. El programa debe establecer el diálogo que se muestra en el siguiente ejemp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 Nº en base 8: 2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 Nº en base 2: 1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Nº mayor=217 base=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ain, Funciones, Méto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Nombre Clase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Tipo&gt; &lt;Función 1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Parámetros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Variable Tipo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void main(String[] args)throws IOException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 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2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mayor(int a, int b, int c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a&gt;=b &amp;&amp; a&gt;=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 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b&gt;=a &amp;&amp; b&gt;=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boolean verdadero(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r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tr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 = 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1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++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 = 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70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=i+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cur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unción Recursiva: función que se invoca a si mi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2 partes que la defin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so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amado a sí m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4-05T22:01:30Z</dcterms:modified>
  <cp:revision>11</cp:revision>
  <dc:subject/>
  <dc:title>CC100 04 - Computación I Auxiliar Nº 1</dc:title>
</cp:coreProperties>
</file>