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5A33-B1D6-44FF-9746-DC1B0B504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7FBF-9931-4BF9-AAC8-964F80F9D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3352-759C-4E41-B370-6E80322DE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38E3-0622-4111-A687-A42EF0438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9F12-B021-49BE-8D62-7ACC0388D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5BB5-A0C0-49F0-96BB-28A3E65C9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2767-3405-4CC4-A4D5-A86838821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0F78-7557-40F9-B188-5560DBE0A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912C-D1EE-41DC-9032-2D28ACD27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00D2-64DA-46E4-A71E-D48AAD10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661B-897F-4623-8B10-EDC385A1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2BDA-24EC-4215-98DD-5BF2092A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2DA5C-138F-4179-9D66-097216135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74680"/>
            <a:ext cx="83059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paso/resu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836640"/>
            <a:ext cx="8294760" cy="56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urier New"/>
              </a:rPr>
              <a:t>lectura/escritu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urier New"/>
              </a:rPr>
              <a:t>asign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urier New"/>
              </a:rPr>
              <a:t>fun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urier New"/>
              </a:rPr>
              <a:t>selección de instrucciones (if-els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urier New"/>
              </a:rPr>
              <a:t>repetición de instrucciones (whi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urier New"/>
              </a:rPr>
              <a:t>recurs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urier New"/>
              </a:rPr>
              <a:t>operadores/instrucciones especi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urier New"/>
              </a:rPr>
              <a:t>str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urier New"/>
              </a:rPr>
              <a:t>archiv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68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8.Cadenas de caracteres (string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obtener una respuesta “si” o “n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String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iN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ing r=U.readLine(x+” si o no?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.trim().toLowerCas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r.equals(“si”)||r.equals(“no”))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 :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iN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reemplazar todos los x por y en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reemplaz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,String y,String z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i=z.indexOf(x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i&lt;0)return z; //caso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z.substring(0,i) +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+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reemplaz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,y,z.substring(i+x.length()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9. Arch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686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copiar archivos contando caracteres y lín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BufferedReader I=new BufferedReader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new FileReader(U.readLine(“input?”)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PrintWriter O=new PrintWriter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new FileWriter(U.readLine(“output?”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nc=0,int nl=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tring line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while((linea=I.readLine())!= null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O.println(line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++nl; nc+=linea.length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O.close(); I.close(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U.println(nl+“ líneas “+nc+” caracteres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372960" y="372960"/>
          <a:ext cx="8663040" cy="7050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2960" y="372960"/>
                    <a:ext cx="8663040" cy="705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1. Lectura/escri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9647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lass Circu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void main(String[]ar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rows IO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Calcular perímetro/área círculo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 r=U.readDouble(“radio?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“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“perímetro=“ + 2*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th.PI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“área=“ + Math.PI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Math.pow(r,2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2. Instrucción de asign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n=U.readInt(“Nº 3 dígitos?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d1=n/100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3=n%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d2=n%100/10;//int d2=n/10%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Nºinvertido=” + d3 + d2 + d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f=U.readInt(“Fecha(AAAAMMDD)?“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Resultado=“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f%100 +“/”+ f%10000/100 +“/”+ f/1000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3. Fun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96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a=U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azar(1,100)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,b=U.azar(1,100),c=U.azar(1,100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U.println(U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minimo(a,b,c)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+ " “ + U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medio(a,b,c)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+ " " +U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maximo(a,b,c)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lass U{  //en archivo U.ja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za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int x,int y)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x + (int)(Math.random()*(y-x+1))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inim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int x,int y,int z)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Math.min(Math.min(x,y),z)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xim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int x,int y,int z)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Math.max(Math.max(x,y),z)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edi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int x,int y,int z)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return x+y+z - minimo(x,y,z)-maximo(x,y,z)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4. Selección instrucciones (if-els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diasMes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int m,int 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m==1||m==3||m==5||m==7||m==8||m==10||m==1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3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else if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m==4||m==6||m==8||m==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3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if(m==2)//if(cond simple) sin 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bisiesto(a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29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28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0;//mes incorr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tatic public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bisiesto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x%4==0 &amp;&amp; x%100!=0 || x%400==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5. Repetición instrucciones (whi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6407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g=-2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g&lt;=40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g+”ºC=“+(9.0/5.0*g+32)+”ºF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g=g+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patrones de proceso de listas de númer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mayor=0;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int mayor=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n=U.readInt(“nº?”);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while(true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n!=0){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int n=U.readInt(“nº?”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n&gt;mayor) mayor=n;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if(n==0)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n=U.readInt(“nº?”);       mayor=Math.max(mayor,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mayor=“+mayor);U.println(“mayor=“+mayo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68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6.Recursión (métodos recursivo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9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double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potencia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double x,int y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y==0) return 1; //caso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y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&lt;0) return 1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potenci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(x,-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double p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potenci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(x,y/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if(y%2==0) return p*p; else return x*p*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static public 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printBinari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(int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if(x/2==0) U.print(x); //caso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else{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printBinari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(x/2); U.print(x%2)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static public 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printBinari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(int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if(x/2!=0)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printBinari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(x/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U.print(x%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7. Operadores espec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ouble suma, mayor, numero; 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ma = mayor = n = 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(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umero=U.readDouble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nº?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!=0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prom=”+(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uma+=numer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)/++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ayor=max(n,mayo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mayor=“+mayo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double max(double x,double y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x&gt;y ? x : y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7. Instrucciones espec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544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</a:rPr>
              <a:t>static public boolean primo(int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</a:rPr>
              <a:t>if(x%2==0 &amp;&amp; x&gt;2) return fals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Arial Unicode MS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</a:rPr>
              <a:t>(int i=3,r=(int)Math.sqrt(x) ;  i&lt;=r ; i+=2) //i=3,5,...,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</a:rPr>
              <a:t>if(x%i==0) return fals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</a:rPr>
              <a:t>return tru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</a:rPr>
              <a:t>static public int diasMes(int m,int a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switch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(m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ase 1:case 3:case 5:case 7:case 8:case 10:case 12:return 31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ase 4:case 6:case 9:case 11: </a:t>
            </a:r>
            <a:r>
              <a:rPr b="0" lang="es-ES_tradnl" sz="2400" spc="-1" strike="noStrike">
                <a:solidFill>
                  <a:srgbClr val="000000"/>
                </a:solidFill>
                <a:latin typeface="Arial Unicode MS"/>
              </a:rPr>
              <a:t>return 30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Unicode MS"/>
              </a:rPr>
              <a:t>case 2: return bisieto(a) ? 29 : 28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Unicode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Unicode MS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3T13:16:51Z</dcterms:created>
  <dc:creator> iara</dc:creator>
  <dc:description/>
  <dc:language>en-US</dc:language>
  <cp:lastModifiedBy>jalvarez</cp:lastModifiedBy>
  <cp:lastPrinted>2006-04-25T18:59:03Z</cp:lastPrinted>
  <dcterms:modified xsi:type="dcterms:W3CDTF">2007-04-03T17:39:59Z</dcterms:modified>
  <cp:revision>28</cp:revision>
  <dc:subject/>
  <dc:title>Diapositiva 1</dc:title>
</cp:coreProperties>
</file>