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DD5B-2FE4-416B-96CB-BCB18E01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5F20-1A49-4D50-A525-55E55F00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CB67-54E9-4DFD-B5E7-368AED8D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50CB-0F81-4B6D-997A-AF79BF76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B66E-DDD6-4F7F-BD38-3451854B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9D69-B414-45BD-945C-26291D5E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24C2-5E3B-4E0B-B84B-73725237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F73-E505-4EE2-AFF8-B8934871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77BE-9966-4482-8F7D-5CA6DBB0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9A30-BCBA-4046-BC74-88F12829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BC02-1BF2-4C78-80EB-702BE4D0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7E11-0D97-49BB-90BA-3938741E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5F19-A438-4D12-80B2-9D43FF178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3059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lectura/escri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asig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selección de instrucciones (if-el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repetición de instrucciones (wh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recur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operadores/instrucciones espe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str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arch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8.Cadenas de caracteres (string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emplazar todos los x por y en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,String y,String z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i=z.indexOf(x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&lt;0)return z; //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z.substring(0,i) +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,y,z.substring(i+x.length()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9. Arch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copiar archivos contando caracteres y lín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BufferedReader I=new BufferedReader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ew FileReader(U.readLine(“input?”)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Writer O=new PrintWriter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ew FileWriter(U.readLine(“output?”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nc=0,int nl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while((linea=I.readLine())!= null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O.println(line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++nl; nc+=linea.length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O.close(); I.close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U.println(nl+“ líneas “+nc+” caracteres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72960" y="372960"/>
          <a:ext cx="8663040" cy="705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372960"/>
                    <a:ext cx="8663040" cy="705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1. Lectura/escri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Circu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Calcular perímetro/área círculo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r=U.readDouble(“radio?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“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perímetro=“ + 2*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th.P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área=“ + Math.P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Math.pow(r,2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2. Instrucción de asig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U.readInt(“Nº 3 dígitos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d1=n/100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3=n%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d2=n%100/10;//int d2=n/10%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Nºinvertido=” + d3 + d2 + d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f=U.readInt(“Fecha(AAAAMMDD)?“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Resultado=“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%100 +“/”+ f%10000/100 +“/”+ f/100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3. Fun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a=U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zar(1,100)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,b=U.azar(1,100),c=U.azar(1,100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U.println(U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inimo(a,b,c)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+ " “ + U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edio(a,b,c)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+ " " +U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aximo(a,b,c)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 U{  //en archivo U.ja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+ (int)(Math.random()*(y-x+1)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inim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min(Math.min(x,y),z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xim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max(Math.max(x,y),z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x+y+z - minimo(x,y,z)-maximo(x,y,z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4. Selección instrucciones (if-el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diasMe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nt m,int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m==1||m==3||m==5||m==7||m==8||m==10||m==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3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else if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m==4||m==6||m==8||m==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3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if(m==2)//if(cond simple) sin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bisiesto(a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2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2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0;//mes incor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x%4==0 &amp;&amp; x%100!=0 || x%400=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5. Repetición instrucciones (whi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g=-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g&lt;=40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g+”ºC=“+(9.0/5.0*g+32)+”ºF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g=g+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patrones de proceso de listas de núme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mayor=0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int mayor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n!=0){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nt n=U.readInt(“nº?”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n&gt;mayor) mayor=n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f(n==0)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U.readInt(“nº?”);       mayor=Math.max(mayor,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mayor=“+mayor);U.println(“mayor=“+mayo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6.Recursión (métodos recursivo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double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y==0) return 1; //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0) return 1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,-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ouble p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,y/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y%2==0) return p*p; else return x*p*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ntBinari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x/2==0) U.print(x); //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else{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ntBinari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/2); U.print(x%2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ntBinari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x/2!=0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ntBinari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/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U.print(x%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7. Operadores espe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suma, mayor, numero; 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a = mayor = n = 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ero=U.readDouble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nº?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!=0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rom=”+(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+=numer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/++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ayor=max(n,may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mayor=“+may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double max(double x,double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x&gt;y ? x : y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7. Instrucciones espe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static public boolean primo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if(x%2==0 &amp;&amp; x&gt;2) return fal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(int i=3,r=(int)Math.sqrt(x) ;  i&lt;=r ; i+=2) //i=3,5,...,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if(x%i==0) return fal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return tr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static public int diasMes(int m,int a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(m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ase 1:case 3:case 5:case 7:case 8:case 10:case 12:return 31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ase 4:case 6:case 9:case 11: </a:t>
            </a: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return 3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case 2: return bisieto(a) ? 29 : 2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07-04-03T17:39:59Z</dcterms:modified>
  <cp:revision>28</cp:revision>
  <dc:subject/>
  <dc:title>Diapositiva 1</dc:title>
</cp:coreProperties>
</file>