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00A-9F2E-4D49-B0BD-F79F477B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C9B-AC81-4340-A9BB-BDF328F9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C94-8439-4FD8-AC55-C3A21261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16C-5904-453E-8E8A-54C1279F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6F2-A051-44B9-9A5B-53C58477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B1C-9390-42FA-8082-3D022A0C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ED8-B079-4927-87FD-63718C65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7DA-B73C-43B9-8784-85AC9F10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9F4-BC22-47D1-95D7-D626D29C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DDD-F29B-4AEF-9CAF-7F4D64D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66A-8D52-4D63-90BA-04309D0D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03F-DF66-4EF3-A2D5-850BCEE2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B82C-5B78-49EF-B9C1-5664D9C3C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lectura/escri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arch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8.Cadenas de caracteres (string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9.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2960" y="372960"/>
          <a:ext cx="8663040" cy="70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72960"/>
                    <a:ext cx="8663040" cy="70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. Lectura/escri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alcular perímetro/área círcul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U.readDouble(“radio?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2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P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Math.P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Math.pow(r,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. Instrucción de asig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Nºinvertido=” + d3 + d2 + 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=U.readInt(“Fecha(AAAAMMDD)?“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Resultado=“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%100 +“/”+ f%10000/100 +“/”+ f/100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.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=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,b=U.azar(1,100),c=U.azar(1,10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+ " “ + 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 " " +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+ (int)(Math.random()*(y-x+1)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min(Math.min(x,y)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max(Math.max(x,y)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x+y+z - minimo(x,y,z)-maximo(x,y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4. Selección instrucciones (if-el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m,int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4||m==6||m==8||m==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5. Repetición instrucciones (wh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atrones de proceso de listas de núm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Recursión (métodos recursiv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/2==0) U.print(x)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2); U.print(x%2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/2!=0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. Operador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++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. Instruccion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static public boolean prim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f(x%2==0 &amp;&amp; x&gt;2) 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(int i=3,r=(int)Math.sqrt(x) ;  i&lt;=r ; i+=2) //i=3,5,...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f(x%i==0) 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static public int diasMes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m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se 1:case 3:case 5:case 7:case 8:case 10:case 12:return 3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se 4:case 6:case 9:case 11: </a:t>
            </a: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return 3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ase 2: return bisieto(a) ? 29 :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7-04-03T17:39:59Z</dcterms:modified>
  <cp:revision>28</cp:revision>
  <dc:subject/>
  <dc:title>Diapositiva 1</dc:title>
</cp:coreProperties>
</file>