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38B-E19E-4D1A-AB05-0F0EDADF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9E6-E07C-45BF-91D6-99F9F52A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81D-567E-4797-A186-4FA2B688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56D-24E1-4ED0-A322-E62477DC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272-01D5-4FBF-9056-E7D388A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7D2-A7CA-4BD3-B447-651FA1A2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F69-3CB2-4684-BC2E-97371931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513-2DB2-4A72-A475-40B1DE9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618-1CE2-4FF6-9736-7048FB4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3F2-45B2-426D-8033-E91DA03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3F2-ADE5-4015-848D-A03F41A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584-647D-4381-B3BA-692C440C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A73-F1CE-4E40-94BE-06505829E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11200"/>
          <a:ext cx="80550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80550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25400" y="523800"/>
          <a:ext cx="7880400" cy="65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523800"/>
                    <a:ext cx="7880400" cy="65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6200" y="592200"/>
          <a:ext cx="8148600" cy="55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92200"/>
                    <a:ext cx="81486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0800" y="592200"/>
          <a:ext cx="7650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592200"/>
                    <a:ext cx="7650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17600" y="444600"/>
          <a:ext cx="84708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4708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553600" cy="57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55360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72960"/>
          <a:ext cx="868680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8680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9167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9167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7-03-30T16:32:40Z</dcterms:modified>
  <cp:revision>20</cp:revision>
  <dc:subject/>
  <dc:title>Sin título de diapositiva</dc:title>
</cp:coreProperties>
</file>