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C5D-0093-47A6-831D-8FD2F7F1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7BF-0232-4781-B57F-E881356D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10A-619A-4D27-A450-77E9C724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F84-D097-41F9-AA45-5A7D20DD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CBB-8A3C-4022-A246-ABC0E09F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935-A63E-4B68-B83B-70B7314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E85-6CCF-476A-80E5-CD13611E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F7C-00C3-4A2E-A7EF-306F0A19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506-9DAC-423B-9E5D-FA54D104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2A4-CE7B-4A8A-8C32-FBF02D3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9DB-593F-4AA9-978A-0BDE217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5A5-6388-482B-9EDC-D15C502B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C18B-582A-46BE-BCC1-D2AD3B6D2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11200"/>
          <a:ext cx="80550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80550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25400" y="523800"/>
          <a:ext cx="7880400" cy="65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523800"/>
                    <a:ext cx="7880400" cy="65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6200" y="592200"/>
          <a:ext cx="8148600" cy="55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92200"/>
                    <a:ext cx="8148600" cy="55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0800" y="592200"/>
          <a:ext cx="7650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592200"/>
                    <a:ext cx="7650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17600" y="444600"/>
          <a:ext cx="84708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44600"/>
                    <a:ext cx="84708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457200"/>
          <a:ext cx="8553600" cy="57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553600" cy="57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625320"/>
          <a:ext cx="8035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25320"/>
                    <a:ext cx="8035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2960" y="372960"/>
          <a:ext cx="8686800" cy="70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72960"/>
                    <a:ext cx="8686800" cy="70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9167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9167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7-03-30T16:32:40Z</dcterms:modified>
  <cp:revision>20</cp:revision>
  <dc:subject/>
  <dc:title>Sin título de diapositiva</dc:title>
</cp:coreProperties>
</file>