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E4A-C172-4149-B7D9-9AB6201A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5EA-0251-43C9-9B34-83A87BF0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19F-08D8-49D1-8E35-CDEBD08E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4C4-1A2E-4660-A74F-8CD1D609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76F-651C-4803-BBB4-F8207FAD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0E1-0A17-497F-B689-516A2AA0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FEF-62BB-4E23-934C-F5C4FA2D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1B7-6510-4D80-94EE-3FDCD947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079-B4A3-442B-B525-C0FEDB56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ADE-9C23-4716-A931-1B088E2F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773-2223-4B97-85B3-32E33016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B9B-5A3D-454E-B53F-07DD1BA0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9270-3BD0-4BD9-B15F-502114FED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2400" y="511200"/>
          <a:ext cx="80550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80550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25400" y="523800"/>
          <a:ext cx="7880400" cy="65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523800"/>
                    <a:ext cx="7880400" cy="65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6200" y="592200"/>
          <a:ext cx="8148600" cy="559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92200"/>
                    <a:ext cx="8148600" cy="55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0800" y="592200"/>
          <a:ext cx="7650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592200"/>
                    <a:ext cx="7650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17600" y="444600"/>
          <a:ext cx="84708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444600"/>
                    <a:ext cx="84708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457200"/>
          <a:ext cx="8553600" cy="57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553600" cy="57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625320"/>
          <a:ext cx="8035920" cy="55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25320"/>
                    <a:ext cx="803592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72960" y="372960"/>
          <a:ext cx="8686800" cy="705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72960"/>
                    <a:ext cx="8686800" cy="705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93800" y="469800"/>
          <a:ext cx="79167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9167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07-03-30T16:32:40Z</dcterms:modified>
  <cp:revision>20</cp:revision>
  <dc:subject/>
  <dc:title>Sin título de diapositiva</dc:title>
</cp:coreProperties>
</file>