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D14-F29D-47FA-A446-EBA488DA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F34-1C84-48EF-9D61-444154E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B51-89EC-4807-9D3E-915E0DE9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AE0-2DC2-4B60-BEF0-AC33EAC6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A05-FB7B-4ADA-BF4F-76E33FB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4FB-148E-4F09-8846-66F37AF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ABD-6120-4915-815E-12D30C5F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4A2-AFAC-45D3-8125-CB7DA3C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835-9043-45D3-83F4-87B72FD4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DD6-FFF5-4445-80CB-43F232B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C35-E93B-47C6-82A8-BA51CF2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B08-762D-4653-8F0A-19646924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CB92-F3DB-487E-A6BA-233E9C5A9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11200"/>
          <a:ext cx="80550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8055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25400" y="523800"/>
          <a:ext cx="7880400" cy="65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523800"/>
                    <a:ext cx="78804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6200" y="592200"/>
          <a:ext cx="8148600" cy="55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92200"/>
                    <a:ext cx="81486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0800" y="592200"/>
          <a:ext cx="7650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592200"/>
                    <a:ext cx="7650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17600" y="444600"/>
          <a:ext cx="84708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4708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55360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55360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72960"/>
          <a:ext cx="868680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8680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9167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9167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7-03-30T16:32:40Z</dcterms:modified>
  <cp:revision>20</cp:revision>
  <dc:subject/>
  <dc:title>Sin título de diapositiva</dc:title>
</cp:coreProperties>
</file>